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E6F-7A19-4F80-82A9-05A27C56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E3D-0465-423F-942E-E28C735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B21-DF6E-4553-8AAA-5697D09C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BA0-F114-4688-9671-5FB126E1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70EB1-EEA0-4F6A-A1B8-2408C92F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25699-7BF5-4A22-B357-347F2561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A3B09-AADF-41A9-997E-F46CD7B3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71C6B-3C01-47A6-8B22-858F894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7624D-0A72-4F4F-AC38-141D71A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F3311-6811-4182-A4EE-BC71D950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5B446-62DA-4176-9AE3-41982A6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F05-97DF-4706-8B05-2003DF9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9E52C-19A3-4689-A5FE-C0475653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E3C4F-65C7-451B-AA58-48883422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FFACE-DB48-4111-981D-D6E519A1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0DF3B-F17F-489A-8392-E21EB60A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13982-8031-435D-BFFA-090207B2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332-840F-4A69-A20D-ACEC34B9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642-FC3E-4CBC-B052-A4E0324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61F-476B-41C8-906B-F53C3F9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F19-68C5-4ABA-BD1A-3B385B3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421-F93C-47BD-BC8C-168B7C6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3B8-0114-403C-BE70-42F1FE6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320-89AE-4709-8707-DCFECB5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348E-5086-4AA3-BEC8-3E739EBD68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382-6898-4C59-B5D1-C9A657E7C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Качественная и количественная характеристики объектов недвижим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Качество местоположения недвижимости (Ситус)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на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1916280"/>
            <a:ext cx="7417080" cy="338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21000"/>
            <a:ext cx="6696000" cy="2448000"/>
          </a:xfrm>
          <a:prstGeom prst="ellipse">
            <a:avLst/>
          </a:prstGeom>
          <a:solidFill>
            <a:srgbClr val="3399ff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852640"/>
            <a:ext cx="5256360" cy="1513080"/>
          </a:xfrm>
          <a:prstGeom prst="ellipse">
            <a:avLst/>
          </a:prstGeom>
          <a:solidFill>
            <a:srgbClr val="3399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284640"/>
            <a:ext cx="280836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33577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движи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орговая з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492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ыкающие терри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92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жайшие окрес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557360"/>
            <a:ext cx="8208720" cy="43196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522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Г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ИТУ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ЗУЛЬТАТ ВЗАИМОДЕЙСТВИЯ КОНКРЕТНОГО ВАРИАНТА ЗЕМЛЕПОЛЬЗОВАНИЯ И ЭКОНОМИЧЕСКОЙ СРЕДЫ НА ПЯТИ УРОВНЯХ (СТРАНА, РЕГИОН, ТОРГОВАЯ ЗОНА, ПРИМЫКАЮЩИЕ И БЛИЖАЙШИЕ ТЕРРИТОРИ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нешняя среда недвижим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213000"/>
            <a:ext cx="1871640" cy="1152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едвижим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1989000"/>
            <a:ext cx="251964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ит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28464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изост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в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221000"/>
            <a:ext cx="201636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5084640"/>
            <a:ext cx="201636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нспор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1557360"/>
            <a:ext cx="259236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родные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916280"/>
            <a:ext cx="2376720" cy="792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пр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ложени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24280"/>
            <a:ext cx="1728720" cy="93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о рын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бы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4076640"/>
            <a:ext cx="1728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5157720"/>
            <a:ext cx="223200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м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516640"/>
            <a:ext cx="2303640" cy="936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феры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24360" y="328428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4076640"/>
            <a:ext cx="936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59280" y="2492280"/>
            <a:ext cx="12970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2421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059280" y="2565000"/>
            <a:ext cx="1441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843280" y="3500280"/>
            <a:ext cx="93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4076640"/>
            <a:ext cx="936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42920" y="4365720"/>
            <a:ext cx="1584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6360" y="436572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3640" y="4365720"/>
            <a:ext cx="1297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часть поверхности земли, имеющая четко обозначенную границу, площадь, местоположение, правовой статус и другие характеристики, учитываемые в государственном земельном кадастре и Едином государственном реестре прав на недвижимое имущество и сделок с ним. Бывают делимыми и неделим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лимый земельный участ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читается такой участок, который может быть разделен на части, каждая из которых после раздела по своему размеру образует самостоятельный участок с прежним целевым назначением и разрешенным использова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адастровый номер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362440" cy="4103640"/>
        </p:xfrm>
        <a:graphic>
          <a:graphicData uri="http://schemas.openxmlformats.org/drawingml/2006/table">
            <a:tbl>
              <a:tblPr/>
              <a:tblGrid>
                <a:gridCol w="1252800"/>
                <a:gridCol w="3783600"/>
                <a:gridCol w="33260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1х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бъект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3х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министративный 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р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ая админист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йо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ел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масси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дастровый кварт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8х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ельный участ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исание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7200" y="1600200"/>
          <a:ext cx="8229600" cy="517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субъекта права - Адрес, документы удостоверяющие субъекта и его реквизи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дресные ориентиры - Жилой массив, поселок, улица и номер до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кументы , устанавливающие землепользование ( Постановление, свидетельство, договор – аренды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 земель - Целевое назначение и фактическое использ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классификатора зем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по документам, в том числе постороннего 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 санитарно-защитной зоны и (или) зоны с особым режимом использования в пределах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земельного права (собственность, временное пользование…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верхностный и подпочвенный слой, ландшафт, топограф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лучшения и инженерное обустро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аспорт земельного участ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спликация зем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земельного налога или арендной пла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ыночная и расчетная стоимость уча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алансовая стоимость строений и сооружений на учас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щая стоимость (стр.3+стр.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лог на недвиж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женерно-технически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кологические показа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радостроительные характерист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полезных ископае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тегории земель по потребительским свойства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95280" y="1600200"/>
          <a:ext cx="8424720" cy="5213520"/>
        </p:xfrm>
        <a:graphic>
          <a:graphicData uri="http://schemas.openxmlformats.org/drawingml/2006/table">
            <a:tbl>
              <a:tblPr/>
              <a:tblGrid>
                <a:gridCol w="1247760"/>
                <a:gridCol w="4368960"/>
                <a:gridCol w="2808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те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нные по Оренбургской области (млн. г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льскохозяйствен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населенных пунк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промышленности, транспорта, связ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обо охраняемые территор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но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запа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земельный фо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сание зданий и соору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требительские свойства земельных уча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собленные водные объек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астки не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 уровню хозяйственной освоенности участки могут быт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застроенными, предназначенными под строитель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строенны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незавершенного строитель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ветхими застройками (под снос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 объектами подлежащими вывод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обод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иды лесов и многолетних насажд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ункции ле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логическая (климаторегулирующая, почвозащитная, водоохранная, санитарно-гигиеническа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ономическая (источник древесины и множества видов потребительской продукц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ая (оздоровительная, улучшает условия жизни людей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остав лесо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1600200"/>
          <a:ext cx="8507520" cy="4965840"/>
        </p:xfrm>
        <a:graphic>
          <a:graphicData uri="http://schemas.openxmlformats.org/drawingml/2006/table">
            <a:tbl>
              <a:tblPr/>
              <a:tblGrid>
                <a:gridCol w="2127240"/>
                <a:gridCol w="2125800"/>
                <a:gridCol w="2127240"/>
                <a:gridCol w="212724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мли лесного фо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входящие в лесно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евесно-кустарниковая растительность на земл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лес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рытые ле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ля нужд лесного хозя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са на землях Министерства обор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льскохозяйст-венного назна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боло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Транспорта (на полосах отвода дорог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крытые, но предназначен- ные для его восстанов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д каменистыми россыпя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родские ле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одного фонда (на полосах отвода канал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руг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Дачные участ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Классификация лесов по категории защищенности земель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24000" y="1600200"/>
          <a:ext cx="8362800" cy="4843440"/>
        </p:xfrm>
        <a:graphic>
          <a:graphicData uri="http://schemas.openxmlformats.org/drawingml/2006/table">
            <a:tbl>
              <a:tblPr/>
              <a:tblGrid>
                <a:gridCol w="2090520"/>
                <a:gridCol w="2163960"/>
                <a:gridCol w="2270160"/>
                <a:gridCol w="18381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атегории защищ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защитные, санитарно-гигиенические, оздоровительные, особоохраняем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охранные, оздоровительные, санитарно-гигиенические, ограниченно эксплуатацио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сплуатационные при сохранении экологиче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о распо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претные и защитные полосы, леса пустынь, поселений, куро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регионах с высокой плотностью населения или недостаточными лесными ресурс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много лесных регио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 допускаетс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упля – продажа, залог и совершение других сделок, которые могут повлечь отчуждение  участков лесного фон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Лесной фонд является федеральной собственностью. Допускается передача части фондов в собственность субъектов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знаки классификации многолетних насажд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иду продукции (плодово-ягодные; техническ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функциональному назначению (живые изгороди;  полезащитные; декоративно-озеленитель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возрасту вступления в товарное использов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сроку эксплуатации (плодово-ягодные 10-30 лет; технические 10-50 лет; озеленительные 50-100 л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летние насаждения могут быть в собственности граждан без ограничения сделок (купля – продажа, залог, аренда, траст, дарение, наследование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бособленные водные объек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бособленные водные объек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это небольшие по площади и непроточные искусственные водоемы, не имеющие гидравлической связи с другими поверхностными водными объе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Отношения регулируются Водным Кодекс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озможные цели использова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питьевого и хозяйственно-бытового водоснабж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здравоо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сельского и лесно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оспла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гидроэнергетики и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рыбного и охотничьего хозяй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ля добычи полезных ископаемых, торфа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писание зданий и сооружени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жимы водопольз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щее водопольз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альное водопользование (с применением технических средств, устройств и сооружений при наличии лицензии, за исключением плавания на маломерных судах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едра -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часть земной коры, расположенная ниже почвенного слоя, а при его отсутствии – ниже земной поверхности и дна водоемов, простирающейся до глубин, доступных для геологического изучения и осво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Участки недр являются государственным недвижимым имуществом. Права пользования недрами могут передаваться субъектам предпринимательск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Государственный кадастр месторождений и проявлений полезных ископаемых содержит следующие сведения: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сновных и совместно залегающи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содержащихся в них компонен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орно-технических и иных условиях разработ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геолого-экономической оценке месторожд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выявленных проявлениях полезных ископаем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лицензиях на пользование недр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работах по геологическому изучению не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Государственный баланс запасов полезных ископаемых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назначен для учета минерально-сырьевой базы и содержит свед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количестве, качестве и степени изученности запасов каждого вида полезных ископаемых по месторождениям, имеющим промышлен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их размещении и степени промышленного осво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 обеспеченности промышленности разведанными полезными ископаем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Качественная и количественная информация о собственн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изические характеристик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мущественно-правовое описа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кономические показател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остояние внешней сре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естоположение объекта (Кадастровый номер здания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886280"/>
        </p:xfrm>
        <a:graphic>
          <a:graphicData uri="http://schemas.openxmlformats.org/drawingml/2006/table">
            <a:tbl>
              <a:tblPr/>
              <a:tblGrid>
                <a:gridCol w="1522440"/>
                <a:gridCol w="670716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административного округа (г. Оренбург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массива кадастрового кварта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земельного участка в квартал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первичного объекта на участк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вторичного объекта, как составная часть первичног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Физические характеристики здания, сооруж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имен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ощадь, объем, высо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териал стен, крыши, перекрыт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острой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ень дефектов по видам и размеру (дефектная ведомость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кспертная оценка стоимости объекта и его отдельных эле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Эксплуатационные качеств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нструктивная надежность и и физическая долговеч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соответств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рхитектурно-планировочное соответствие назначени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кономичность строительства и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ргономические показател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опасность эксплуа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Имущественно правовое описа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АВО СОБСТВЕННОСТИ (ВЛАДЕНИЕ, ПОЛЬЗОВАНИЕ, РАСПОРЯЖЕНИЕ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ЩНЫЕ ПРАВ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ГРАНИЧЕНИЯ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ГРАНИЧЕ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ервитуты – ограниченное вещное право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потека – залог недвижимости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ренда и доверительное управление – договорные обяза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38:10Z</dcterms:created>
  <dc:creator>Джораев В.О.</dc:creator>
  <dc:description/>
  <dc:language>en-US</dc:language>
  <cp:lastModifiedBy>Джораев В.О.</cp:lastModifiedBy>
  <dcterms:modified xsi:type="dcterms:W3CDTF">2007-03-21T15:31:13Z</dcterms:modified>
  <cp:revision>6</cp:revision>
  <dc:subject/>
  <dc:title>Тема 2</dc:title>
</cp:coreProperties>
</file>