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9097-9002-46AC-A52F-B2CFC23E9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D268-FB7D-4545-937D-5EBF9E07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CFEB-C4A2-444B-853F-B12347EF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BE2A-C70F-496C-9EB3-D0D3A3C3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0DB5-5A8D-48E4-9661-6E31A54C0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3CFD-AA9C-469A-8CCA-400F8FDD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F665-B226-416A-99D2-0781A798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2FAB-F85B-4BC9-AC1E-0AEA88D0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7541-B8E6-4416-8849-2F16BA23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C11E-D426-4360-BDB0-42C71EBE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3682-CED7-4E4A-B36B-979C57AE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FAC5-3553-42A3-B068-47CC22E6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31B2-7E81-40EC-9965-95E4DD37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D2A1-7C75-4686-ADB9-B6523596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C8CE-C40D-4A29-ACCC-B30866A3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1465-B6EB-4CF6-9CCC-62F764FCD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A6C8-BCB1-4F84-822A-6A7111B5B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5D66A-326E-472C-862F-B5B53A29E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C79A5-9E55-404B-A744-D7261DAC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6CD6B-ED3E-4F8F-AD94-A4AA2B96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19F02-E330-4C6D-9F27-429757DA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EC594-F4C0-40BF-BAF3-FF974363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D6B4-4969-4845-BD79-17071D39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1E625-736D-4935-A712-CE0ACBF4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5415E-E37A-4769-AAF9-24F0EB4B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02A6D-35EC-4939-93A5-6854C89A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A4DB1-7367-431C-80F8-35FDCAE0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A0C6D-1931-4A39-A649-F96B7053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B7816-02E9-44DB-BD6B-5EFADCBD0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FE5AB-B557-43C8-AF93-EB0F88802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8A1E6-024B-4993-8CF1-62F8CBAC3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DB11D-C680-46D1-8D49-1887C70C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E147A-A041-4BC3-9AA7-668AB3CF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E77F-9ECC-482F-9791-F1C1BAFD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2E543-14A4-42CD-AD4C-86068A9B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3EE6E-4F81-4D6F-8453-3996F96D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9FB48-6F48-486D-8D0C-BBCB3683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32F3C-6A33-40D5-8D18-8C16577B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90F73-114A-47B6-A6EC-0B404D55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5646F-5833-422A-A890-A2855491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81F28-3788-4747-A7ED-AA93B7B0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8D195-8121-4AB3-89A6-5AE9B11C0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7E737-CB52-4FD3-BDC5-6A9F3D4F0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846B2-70E4-440B-B022-001E82ACE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F856-97AA-49FF-9025-64C9C7A5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D24B9-8346-4F5B-AC2B-57A55F1D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DD640-4941-4AA8-B99F-4EA022EF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6A0D9-BEC9-4861-9DC2-3CFAF462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F1598-148F-4CF6-AAEC-FF631DF8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90BFD-8735-4D89-BCFE-AB7204DF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8AB7B-C89F-4AF2-8AC2-D494421C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11909-F39C-4F8A-BB5A-CA6CA352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43AF7-BBFD-4A9E-B5E2-DB198749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90B28-7D7C-49A3-8F05-DA253AD4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0648A-CB91-424A-9D39-120D95383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309C-B5C7-4761-9250-4961095F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1134B-C334-4B44-BA62-B054A877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997AC-2D9A-4CE1-88AF-92FE113D3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91D0B-105C-4387-B59E-C879EB9A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7418A-AE36-4705-9A6A-E0B652D4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201CD-6046-465C-9441-8D5C6D0E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5F5F4-F935-4D3F-8E3B-F16968F4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0A206-6852-4E21-8E14-6CD5D5B8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97418-6DF3-46D6-9FEF-7EA89F45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93B7E-9E16-4C41-A8B2-80438F1E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79D46-F176-45F1-AB5A-A0789170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0802-3341-45A9-884A-575CEC3F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3D027-FA2A-47DB-B013-205EF3B1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7AB34-4B55-4B3C-B797-8E3CA7582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3E1A3-65DC-474D-8BE5-2BC3FB1E6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6CF0-7508-42BC-B52E-364C4DFF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EE76-4A3D-4DDC-BD2A-F339A3AE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90D2-92B5-4850-A38A-30CFF064FCD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2DBD-70FD-4EAE-95CC-807C7264C8F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9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00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03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A165-27A1-47A3-8E1E-9A8319081BF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7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50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82A9-6051-426A-9EE3-25B5D9F745B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93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EA8D-011A-4AE5-AD48-A75A0429A91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238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16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7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8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E653-67EA-42EF-A286-E0953FB45DB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ТЕМА: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ФИНАНСЫ НЕДВИЖИМОСТИ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Авансовый аннуите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619280" y="2421000"/>
          <a:ext cx="6192720" cy="25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421000"/>
                    <a:ext cx="6192720" cy="25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РАВНЫМИ ДОЛЕВЫМИ ВЗНОСАМ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468360" y="1773360"/>
          <a:ext cx="8153280" cy="4254480"/>
        </p:xfrm>
        <a:graphic>
          <a:graphicData uri="http://schemas.openxmlformats.org/drawingml/2006/table">
            <a:tbl>
              <a:tblPr/>
              <a:tblGrid>
                <a:gridCol w="857160"/>
                <a:gridCol w="1641600"/>
                <a:gridCol w="1785960"/>
                <a:gridCol w="2238120"/>
                <a:gridCol w="16304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га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ц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нуит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огашенная часть к концу г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6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8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4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5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РАВНЫМИ ЧАСТЯМ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468360" y="1828800"/>
          <a:ext cx="8218440" cy="4370400"/>
        </p:xfrm>
        <a:graphic>
          <a:graphicData uri="http://schemas.openxmlformats.org/drawingml/2006/table">
            <a:tbl>
              <a:tblPr/>
              <a:tblGrid>
                <a:gridCol w="863640"/>
                <a:gridCol w="1655640"/>
                <a:gridCol w="1800360"/>
                <a:gridCol w="2255760"/>
                <a:gridCol w="16430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га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ц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нуит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огашенная часть к концу г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РЕГРЕССИВНАЯ СХЕМ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33520" y="1828800"/>
          <a:ext cx="8153280" cy="4114800"/>
        </p:xfrm>
        <a:graphic>
          <a:graphicData uri="http://schemas.openxmlformats.org/drawingml/2006/table">
            <a:tbl>
              <a:tblPr/>
              <a:tblGrid>
                <a:gridCol w="857160"/>
                <a:gridCol w="1641600"/>
                <a:gridCol w="1785960"/>
                <a:gridCol w="2238120"/>
                <a:gridCol w="16304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га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ц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нуит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огашенная часть к концу г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ПРОГРЕССИВНАЯ СХЕМ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33520" y="1828800"/>
          <a:ext cx="8153280" cy="4114800"/>
        </p:xfrm>
        <a:graphic>
          <a:graphicData uri="http://schemas.openxmlformats.org/drawingml/2006/table">
            <a:tbl>
              <a:tblPr/>
              <a:tblGrid>
                <a:gridCol w="857160"/>
                <a:gridCol w="1641600"/>
                <a:gridCol w="1785960"/>
                <a:gridCol w="2238120"/>
                <a:gridCol w="16304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га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ц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нуит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огашенная часть к концу г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Методы оценки, используемые при определении размера залога по ссуд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метод капитализированных доходов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метод реальной стоимости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метод сопоставительной стоимости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ОПРОС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7786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Инвестиции в недвижимость. Принятие решений по инвестициям в недвижимость и модели инвестиционных расчет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Инвестиции в недвижимост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вокупность затрат материальных, трудовых и денежных ресурсов, направленных на расширенное воспроизводство основных фондов с определенной цель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Возможные цели инвестирования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величение доход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величение капитал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хранение капитал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монетарные цели (укрепление имиджа фирмы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 принятии решения по инвестициям в недвижимость необходимо учитывать следующее: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это долгосрочное отвлечение денежных средств из оборо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вестиция предполагает отвлечение из оборота значительных сум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иквидность недвижимости низка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вестиции – это альтернатива существующей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сквин В.А. Кредитование инвестиционных проектов: Рекомендации для предприятий и коммерческих банков – М.: Финансы и статистика, 2003 – 204 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движимость/Эл. учебное пособие. – М.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DL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2003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альцман. А.И. Оценка инвестиционных проектов и предприятий – М.: Инфра- М,  2004 – 156 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жораев В.О. Экономическая оценка инвестиций. Электронное учебное пособие.- Оренбург, ОГАУ,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Основные этапы принятия решений по инвестициям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становка проблем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пределение цел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ыбор вариантов решения проблем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ценка вариан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ыбор одного варианта из нескольких альтернатив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одели расчетов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Статическ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равнительный анализ затрат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равнительный анализ прибыл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равнительный анализ рентабель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равнительный анализ срока окупаем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еимущества и недостатки статических моделей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еимуществ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сты для использовани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 требуют больших затрат на сбор и обработку дан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достатк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 учитывается временная структура поступлений и выплат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 всегда обеспечивается сопоставимость инвестиционных альтернати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равнительная смета затрат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ка 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ка 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ходы на приобретение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0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80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ок службы, л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тоянные издержки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менные издержки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ие годовые издержки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3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равнительный анализ прибыли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ка 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ка 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ие годовые издержки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3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изводительность установки, ед. в г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а реализация, руб. за ед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, 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ручка от реализации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1.6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4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быль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.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1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равнительный анализ рентабельности и срока окупаемости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457200" y="1844640"/>
          <a:ext cx="8229600" cy="4338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ка 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ка 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ходы на приобретение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0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80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быль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.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1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мортизация, 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нтабельность, в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ок окупаемости, л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 Динамические модели расчетов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Метод основанный на стоимости капитала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Метод аннуитета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Подробно будут изучены в разделе «доходные методы оценки объектов недвижимости»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предлагаемом примере рассматриваются как особые случаи общих динамических моделей, как концептуальные подх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цепция неполного финансового плана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ТЫС. РУБ.)</a:t>
            </a:r>
            <a:br>
              <a:rPr sz="2000"/>
            </a:b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395280" y="1268280"/>
          <a:ext cx="8089920" cy="5197680"/>
        </p:xfrm>
        <a:graphic>
          <a:graphicData uri="http://schemas.openxmlformats.org/drawingml/2006/table">
            <a:tbl>
              <a:tblPr/>
              <a:tblGrid>
                <a:gridCol w="2027160"/>
                <a:gridCol w="935280"/>
                <a:gridCol w="936360"/>
                <a:gridCol w="1079640"/>
                <a:gridCol w="1081080"/>
                <a:gridCol w="1079640"/>
                <a:gridCol w="950760"/>
              </a:tblGrid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мент времен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м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ект 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пла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ступ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тто-платеж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ект 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пла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ступ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тто-платеж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4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едостатки данной модели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тто-платежи обездвижены, что не соответствует принципам экономической целесообраз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учитываются реальные возможности предприятия по финансированию проек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удущие денежные потоки не приведены к текущей стоимости влож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онцепция полного финансового плана на примере проекта 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533520" y="1828800"/>
          <a:ext cx="8153280" cy="4195800"/>
        </p:xfrm>
        <a:graphic>
          <a:graphicData uri="http://schemas.openxmlformats.org/drawingml/2006/table">
            <a:tbl>
              <a:tblPr/>
              <a:tblGrid>
                <a:gridCol w="2093760"/>
                <a:gridCol w="1224000"/>
                <a:gridCol w="1297080"/>
                <a:gridCol w="1224000"/>
                <a:gridCol w="1224000"/>
                <a:gridCol w="109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воначальный капитал, т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ект А , т. руб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.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редит, , т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. И.№1, т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. И.№2, т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4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. И.№3, т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9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4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нечный капитал,  т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4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Вопросы к изучению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потечный кред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нвестиции в недвижимость. Принятие решений по инвестициям в недвижимость и модели инвестиционных расче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казатели экономической эффективности инвестиций в недвижим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ругие формы финансирования недвижимости. Девелопме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рахование недвижим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едостатки модели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возможно устранить субъективный фактор при выборе вариантов дополнительных инвестиционных проек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удущая стоимость не приведена в соответствие с текущей стоимост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опрос 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Показатели экономической     эффективности инвестиций в недвижимо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одготовительный этап оценк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Формируется реальный денежный поток по периодам реализации проекта, как поток поступлений и платежей по трем основным направлениям деятельност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изводственная деятель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инансовая деятель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вестиционная деятель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Выводится итоговое сальдо денежного потока по периодам реализации проекта, используемое далее в расчетах показателей эффективно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Times New Roman"/>
              </a:rPr>
              <a:t>Оценка инвестиционных проектов с учетом временного фактора основана на использовании следующих показателей: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исконтированный срок окупаем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тый дисконтированный доход ЧДД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PV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вка доходности проекта (СДП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нутренняя ставка доходности проекта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R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дифицированная СДП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ДП финансового менеджмен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исконтирование денежного пото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2340000" y="1628640"/>
                <a:ext cx="4608360" cy="21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Тсj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Дj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826920" y="3716280"/>
            <a:ext cx="7777440" cy="245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де, 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гнозируемый (будущий) дохо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кущая стоимость будущего доход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 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множитель настоящей (текущей) стоим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вка дисконтиров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реализации проек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Исходные данны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оимость приобретаемого оборудования – 2 млн. ру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ок службы оборудования – 5 л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истые доходы по периодам реализации проекта составили в тыс. рубле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– 400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– 1000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– 1200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– 160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– 18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авка дисконтирования – 1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Расчет срока окупаемост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57200" y="1600200"/>
          <a:ext cx="8229600" cy="4729320"/>
        </p:xfrm>
        <a:graphic>
          <a:graphicData uri="http://schemas.openxmlformats.org/drawingml/2006/table">
            <a:tbl>
              <a:tblPr/>
              <a:tblGrid>
                <a:gridCol w="2314440"/>
                <a:gridCol w="936720"/>
                <a:gridCol w="934920"/>
                <a:gridCol w="1008360"/>
                <a:gridCol w="1008000"/>
                <a:gridCol w="1081080"/>
                <a:gridCol w="946080"/>
              </a:tblGrid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нежный поток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2000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сконтированный денежный поток (ДДП)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200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копленный ДДП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6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8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сконтированный срок окупаемости, л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 + (108 : 916) = 3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Недостатки показателя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 расчетах игнорируются доходы, получаемые после предполагаемого срока окупаемост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ля анализа инвестиционного портфеля предполагаются дополнительные расчет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Формула расчета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PV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835280" y="3076560"/>
                <a:ext cx="5699160" cy="229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j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где, Vj - входящие денежные поток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j - исходящие денежные поток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j - множитель настоящей стоимост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Расчет показателя ЧДД (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PV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457200" y="1600200"/>
          <a:ext cx="8229600" cy="4668840"/>
        </p:xfrm>
        <a:graphic>
          <a:graphicData uri="http://schemas.openxmlformats.org/drawingml/2006/table">
            <a:tbl>
              <a:tblPr/>
              <a:tblGrid>
                <a:gridCol w="2314440"/>
                <a:gridCol w="936720"/>
                <a:gridCol w="934920"/>
                <a:gridCol w="1008360"/>
                <a:gridCol w="1008000"/>
                <a:gridCol w="1081080"/>
                <a:gridCol w="946080"/>
              </a:tblGrid>
              <a:tr h="88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нежный поток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2000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сконтированный денежный поток (ДДП)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200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ммарный ДДП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8 + 756 + 788 + 916 + 894 = 37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истый дисконтированный доход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02 – 2000 = 1702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gt; 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Вопрос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ИПОТЕЧНЫЙ КРЕДИ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Недостатки показателя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PV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бсолютное значени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PV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ри сравнительном анализе проектов не учитывает объема вложений по каждому проект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результаты существенное влияние оказывает применяемая ставка дисконтиров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ценка уровня риска проводится достаточно субъектив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Внутренняя ставка доходности – это ставка дисконтирования, приравнивающая сумму приведенных доходов от проекта к величине инвестиций</a:t>
            </a:r>
            <a:br>
              <a:rPr sz="3200"/>
            </a:b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837720" y="3117600"/>
            <a:ext cx="3775320" cy="2212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2870280" y="3357720"/>
                <a:ext cx="3002040" cy="83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j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Влияние ставки дисконтирования на ЧДД (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PV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819520"/>
                <a:gridCol w="1079280"/>
                <a:gridCol w="1152720"/>
                <a:gridCol w="1079280"/>
                <a:gridCol w="1079640"/>
                <a:gridCol w="101916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вка дисконтирования, 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ДД (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PV)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тыс. руб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ммарный приведенный поток, тыс. руб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Расчет внутренней ставки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доходност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52       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0       5+Х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88       4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52 – 2000          5 – (5+Х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------------------ = ---------------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52 – 1788            5 – 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= 37,4        ВСДП= 5+37,4 = 42,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Ставка доходности проект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Выбор оптимального проекта основан на оценке эффективности единицы затрат, что позволяет сравнивать проекты, различающиеся по величине затрат и доход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К примеру искомый проек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70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СДП=  -------- = 1,8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Альтернативный проек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9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СДП2= --------- = 1,6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0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Недостаток:  зависимость результата расчета от избранной ставки дисконтирова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Модифицированная ставка доходност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вестиции в проект предполагается осуществлять поэтапно, и временно свободные денежные средства размещены в иных проектах, сроки окупаемости которых совпадают с началом нового этапа финансирования искомого проект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исконтирование этих потоков осуществляется по безопасной ликвидной ставк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кущая стоимость проекта рассчитывается с учетом этих денежных поток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Ставка доходности финансового менеджмент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дполагается, что все высвобождаемые в ходе реализации инвестиционного проекта денежные средства направляются на финансирование новых инвестиционных проектов исходя из политики предприятия 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 оценке проекта в целом рассчитывают среднюю или, так называемую, «круговую» ставку доходности будущих инвестиц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Вопрос 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353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ДРУГИЕ ФОРМЫ ФИНАНСИРОВАНИЯ НЕДВИЖИМОСТ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ДЕВЕЛОПМЕН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ДЕВЕЛОПМЕН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Деятельность, связанная с развитием территории, включающая подготовку земель и проведение строительных, инженерных  и иных операций с недвижимостью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Девелопмент, как управление инвестиционным проектом включает в себя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ыбор экономически эффективного проект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олучение всех необходимых разрешений на его реализацию от органов власт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пределение условий привлечения инвестиций, разработка механизмов и форм их возврат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оиск и привлечение инвесторов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тбор подрядчиков, финансирование их деятельности и контроль за их работой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еализация созданного объекта недвижимости или передача его в эксплуотацию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Факторы, определяющие ипотечный креди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рок действия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цель финансирования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вид обеспечения кредита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при строительстве – целевое использование средств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оценка стоимости (размер кредита зависит от стоимости)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Девелопер и его функции по реализации проек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Девелопер – тот, кто организует создание объекта в наилучшем месте таким образом, что позволяет вернуть инвестированные в него ресурсы и получить прибыль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Функции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Определение возможности реализации проекта развития недвижимости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Определение условий осуществления проекта и разработка бизнес-плана его реализации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Реализация проекта развития недвижиомсти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Определение возможности реализации проекта развития недвижимости предполагает изучение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тенденции экономического развития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остояние налоговой и финансовой систем региона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Предложение и спрос на недвижимость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Возможного и наиболее выгодного места реализации проект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Определение условий осуществления проекта и разработка бизнес-плана его реализации предполагает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Определение физических возможностей реализации проекта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Определение затрат на реализацию проекта и возможных источников финансирования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Получение разрешения госорганов и подготовка позитивного мнения общественности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Проведение переговоров с собственником земли, согласование условий перехода земли под застройку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Реализация проекта предполагает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Привлечение финансовых ресурсов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Привлечение подрядных проектных и строительных организаций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Организация финансирования строительства и контроль за его ходом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Продажа (передача) объекта в эксплуатацию, возврат вложенных средств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ДРУГИЕ ФОРМЫ ФИНАНСИРОВАН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ПРОДАЖА В РАССРОЧКУ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ЮНИТИЗАЦИЯ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- РАЗДЕЛЕНИЕ СОБСТВЕННОСТИ НА МНОЖЕСТВО ДОЛЕЙ И ПОЛУЧЕНИЕ ПРИБЫЛЕЙ ОТ ВЛАДЕНИЯ ЕДИНИЦЕЙ СОБСТВЕННОСТИ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СЕКЬЮРИТИЗАЦИЯ-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ВЫПУСК ОБЛИГАЦИЙ КАКОЙ ТО КОМПАНИЕЙ ИЛИ РАСПРЕДЕЛЕНИЕ ДОЛЕЙ В ПОРТФЕЛЕ ЦЕННЫХ БУМАГ ПАЕВОГО ТРЕСТА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ПРИМЕР ТАКИХ ЦЕННЫХ БУМА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СЕРТИФИКАТ ДОХОДА НА НЕДВИЖИМОСТЬ (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INC) –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ВЕЛИКОБРИТАНИЯ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ИНВЕСТОР ИЗВЛЕКАЕТ ВЫГОДУ В ФОРМЕ ЧАСТИ ОТ ДОХОДА И ПРИРОСТА КАПИТАЛЬНОЙ СТОИМОСТИ НЕДВИЖИМОСТИ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ИНВЕСТОР НЕ СТАНОВИТСЯ СОБСТВЕННИКОМ НЕДВИЖИОМСТИ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INC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НЕ ОБЛАГАЕТСЯ ПОДОХОДНЫМ НАЛОГОМ И НАЛОГОМ НА ПРИРОСТ КАПИТАЛЬНОЙ СТОИМОСТИ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еречень обстоятельств, от наступления которых традиционно страхуется недвижимое имуществ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Землетрясение, оползень, обвал, буря, ураган, наводнение, град, ливень, затопление, оседание почвы, морозы и снегопады, необычные для данной местности, действие подпочвенных вод, удар молнии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ожар, взрыв, технические аварии, техногенные аварии и катастрофы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роникновение воды из соседнего помещения, повреждение имущества водой из водопроводных, канализационных и противопожарных систем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неправомерные действия третьих лиц, кража со взломо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Существенные условия договора страхования недвижимост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 имущество, являющееся объектом страхования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 характер события, на случай наступления которого осуществляется страхование (страхового случая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 размер страховой суммы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 срок действия договора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5364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траховое свидетельство должно содержать следующие данные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15364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наименование докумен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наименование, юридический адрес и банковские реквизиты страховщи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фамилию, имя, отчество или наименование страхователя и его адрес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указание объекта страхов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размер страховой сумм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указание страхового риска (рисков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размер страхового взноса, сроки и порядок внесения страховых прем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рок действия договор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орядок изменения и прекращения договор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одписи сторо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Обязанности страховщи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ознакомить страхователя с правилами страхов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 случае проведения страхователем мероприятий, уменьшивших риск наступления страхового случая и размер возможного ущерба застрахованному недвижимому имуществу, либо в случае увеличения его действительной стоимости перезаключить по заявлению страхователя договор страхования с учетом этих обстоятельст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и наступлении страхового случая выплатить страховое возмещение в установленный договором или законом ср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озместить расходы, которые понес страхователь при наступлении страхового случая для предотвращения или уменьшения ущерба застрахованному имуществу, если возмещение таких расходов предусмотрено правилами страхов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не разглашать сведения о страхователе и его имущественном положении, за исключением случаев, предусмотренных законодательств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Варианты определения процента  и способы погашения креди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- соглашение о твердом проценте на весь срок действия (банк должен получить рефинансирование на твердых условиях)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- соглашение о переменном проценте. Для клиента появляется возможность удешевления финансирования. Для банка преимущество - условия процента могут быть согласованы с издержками на рефинансирование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Обязанности страховател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своевременно вносить страховые взносы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ри заключении договора страхования сообщить страховщику о всех известных ему обстоятельствах, имеющих значение для оценки страхового риска, а также о всех заключенных или заключаемых договорах страхования в отношении данного объекта страхова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ринимать необходимые меры для предотвращения и уменьшения ущерба застрахованному недвижимому имуществу при наступлении случая и сообщить страховщику о наступлении страхового случая в сроки и согласованной форме, установленные договором страхова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снования для отказа страховщика произвести страховую выплат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-    умышленные действия страхователя, которыми вызывается наступление страхового случая или умышленное преступление, находящегося в прямой причинной связи со страховым случаем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-    Законом могут быть предусмотрены случаи освобождения страховщика от выплаты страхового возмещения при наступлении страхового случая вследствие грубой неосторожности страховател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-    сообщение страхователем страховщику заведомо ложных сведений об объекте страхова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-    получение страхователем соответствующего возмещения ущерба по имущественному, страхованию от лица, виновного в причинении этого ущерб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9280" y="764640"/>
            <a:ext cx="815364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Договор страхования прекращается в случаях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520" y="1844280"/>
            <a:ext cx="81532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стечения срока действ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сполнения страховщиком обязательств перед страхователем договора в полном объем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уплаты страхователем страховых взносов в установленные договором сро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иквидации страховщ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инятия судом решения о признании договора страхования недействительны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других случаях, предусмотренных законодательств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РЕЗЮМ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Изучены ипотечный кредит и его основные характеристик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Изучены статические и динамические модели расчетов при принятии решения о выборе варианта реализации проект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Рассмотрены основные показатели экономической эффективности инвестиционных проект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Изучены инструменты используемые для финансирования недвижимост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Дано определение и показаны основные этапы девелопмент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ХЕМЫ ПОГАШЕНИ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РАВНЫМИ ЧАСТЯМИ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РАВНЫМИ ДОЛЕВЫМИ ВЗНОСАМИ (АННУИТЕТ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РЕГРЕССИВНАЯ СХЕМА ПОГАШЕНИЯ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ПРОГРЕССИВНАЯ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153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АННУИТЕТНЫЕ ПЛАТЕЖ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ВОЗВРАТ ДЕНЕЖНЫХ СРЕДСТВ В ВИДЕ СЕРИИ РАВНОВЕЛИКИХ ПЛАТЕЖЕЙ, ВКЛЮЧАЮЩИХ СУММУ ПОГАШЕНИЯ И ПРОЦЕНТОВ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Обычный аннуите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692360" y="2421000"/>
          <a:ext cx="5688000" cy="23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421000"/>
                    <a:ext cx="568800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0T06:54:47Z</dcterms:created>
  <dc:creator>Джораев</dc:creator>
  <dc:description/>
  <dc:language>en-US</dc:language>
  <cp:lastModifiedBy>Джораев В.О.</cp:lastModifiedBy>
  <dcterms:modified xsi:type="dcterms:W3CDTF">2007-02-09T18:30:20Z</dcterms:modified>
  <cp:revision>22</cp:revision>
  <dc:subject/>
  <dc:title>ТЕМА: ФИНАНСОВЫЕ АСПЕКТЫ НЕДВИЖИМОСТИ</dc:title>
</cp:coreProperties>
</file>