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5F95-0A01-48CA-A22D-6AF0C72B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2010-F348-448B-B070-5DB613B7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C48-D96D-47FE-B974-BDE606EE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D77-2078-4B3E-8F05-3A52EE4F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8C6EF-CFF0-4583-9FEC-DE945BEA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8208D-358B-4362-9756-BE04EF54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5C7D1-BEEB-44FC-8E2E-066127C1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14A0E-49F8-47A7-9C94-DFF32EF8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2F43B-B85F-42D1-A47A-5771F906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F76C0-0C6D-4796-82A7-A2EA0FE5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2542C-E831-4D49-BAAD-FBC58038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E96-8ABA-4817-B9D9-F3779C06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50144-6DC8-4679-AC05-C923A50B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B97DA-CEF3-4B1E-BBF6-8847250E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4DF29-3938-4573-A333-F6E5357B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DAE5D-28D2-4685-8A9D-4ADCFB0E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A7759-F3C0-462C-9A76-A5DA8B3C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C2F6-2FBA-49F2-8FAF-D774B2B0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0E61-8A3E-4089-B5CD-E55C88C7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686-77C9-42D8-8FDF-522F4E8E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E73-DB7A-4AE3-98FF-ECD529D5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C4B0-41ED-457E-B1CB-A2004AE5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B60-D7C0-415F-A218-82C09685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30A-30F1-4406-9A6D-1071CC35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C45C-A28F-402A-AEB8-0F1E799D47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DFCE-EF3A-431E-822E-0D7A569994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Тема 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УЩНОСТЬ И ОБЩАЯ КЛАССИФИКАЦИЯ НЕДВИЖИМО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общих социальных отношений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 обитания людей всех покол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ловие жизни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восполняемый природный ресур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чник бл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ранственный базис размещения других объе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щается на благо всех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а свободы и независимости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стижность вла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а гордости и сла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функциональное назна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ловие формирования среднего слоя об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Компоненты недвижимости в зарубежной практике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523880"/>
            <a:ext cx="6934320" cy="4191120"/>
          </a:xfrm>
          <a:custGeom>
            <a:avLst/>
            <a:gdLst>
              <a:gd name="textAreaLeft" fmla="*/ 1524960 w 6934320"/>
              <a:gd name="textAreaRight" fmla="*/ 5409360 w 6934320"/>
              <a:gd name="textAreaTop" fmla="*/ 921600 h 4191120"/>
              <a:gd name="textAreaBottom" fmla="*/ 326952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523880"/>
            <a:ext cx="160020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866920" y="1523880"/>
            <a:ext cx="175284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1905120"/>
            <a:ext cx="56386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9051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22860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7432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2004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41148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457200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50292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54864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2743200"/>
            <a:ext cx="4952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3124080"/>
            <a:ext cx="472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09880" y="2743200"/>
            <a:ext cx="990720" cy="3048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2819520"/>
            <a:ext cx="914400" cy="2895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31240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13716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мплекс прав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6480" y="1793880"/>
            <a:ext cx="47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здушное                  простран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362320"/>
            <a:ext cx="44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оения                     стро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3760" y="274320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емельные                   учас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6200" y="312408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ра                    нед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36576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езные ископ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36576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езные ископ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00760" y="4765680"/>
            <a:ext cx="94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ем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4173600">
            <a:off x="1217880" y="32756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е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784200">
            <a:off x="6309720" y="32137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е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сновные признаки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2120" y="1371600"/>
            <a:ext cx="7771320" cy="3885120"/>
            <a:chOff x="762120" y="1371600"/>
            <a:chExt cx="7771320" cy="3885120"/>
          </a:xfrm>
        </p:grpSpPr>
        <p:cxnSp>
          <p:nvCxnSpPr>
            <p:cNvPr id="192" name="_s43019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5305680" y="2268000"/>
              <a:ext cx="777600" cy="2091960"/>
            </a:xfrm>
            <a:prstGeom prst="bentConnector3">
              <a:avLst>
                <a:gd name="adj1" fmla="val 207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5" name="_s43018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3212640" y="2267280"/>
              <a:ext cx="777600" cy="2093400"/>
            </a:xfrm>
            <a:prstGeom prst="bentConnector3">
              <a:avLst>
                <a:gd name="adj1" fmla="val 207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4" name="_s43014"/>
            <p:cNvSpPr/>
            <p:nvPr/>
          </p:nvSpPr>
          <p:spPr>
            <a:xfrm>
              <a:off x="2854800" y="1371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Признаки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43015"/>
            <p:cNvSpPr/>
            <p:nvPr/>
          </p:nvSpPr>
          <p:spPr>
            <a:xfrm>
              <a:off x="762120" y="3702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Сущностные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(родовые)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43016"/>
            <p:cNvSpPr/>
            <p:nvPr/>
          </p:nvSpPr>
          <p:spPr>
            <a:xfrm>
              <a:off x="4946760" y="3702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3" action="ppaction://hlinksldjump"/>
                </a:rPr>
                <a:t>Видовые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4" action="ppaction://hlinksldjump"/>
                </a:rPr>
                <a:t>(частные)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3e3ff"/>
                </a:solidFill>
                <a:uFillTx/>
                <a:latin typeface="Arial"/>
              </a:rPr>
              <a:t>Сущностные (родовые признаки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тепень подвижно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Связь с землё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Форма функционир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Состояние потребительской формы в процессе использ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5" action="ppaction://hlinksldjump"/>
              </a:rPr>
              <a:t>Длительность кругооборота (долговечность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6" action="ppaction://hlinksldjump"/>
              </a:rPr>
              <a:t>Способ переноса стоимости в производственном процессе или потери потребительских свойст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7" action="ppaction://hlinksldjump"/>
              </a:rPr>
              <a:t>Общественное значе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тепень подвижности</a:t>
            </a: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бсолютная недвижимость, неперемещаемость в пространстве без ущерба функциональному назнач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вязь с землё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ная физическая и юрид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Форма функционир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турально-вещественная и стоимост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остояние потребительской формы в процессе использ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потребляется, сохраняется натуральная форма в течении всего срока эксплуа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лительность кругооборота (долговечность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ногократное использование, а земли – бесконечно при правильном использов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пособ переноса стоимости в производственном процессе или потери потребительских свойс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тепенно по мере износа и накопления амортизационных отчисл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емыкин, Бугулов. Экономика недвижимости. – М.: Филин,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ка недвижимости/ Под ред. Грязновой Г.А. – М.: Финансы и статистика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ссаул Экономика недвижимости. – М.: Филин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щественное зна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ьзование объектом часто затрагивает интересы многих граждан и других собственников, интересы которых защищаются государ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Видовые (частные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хнические и технологические характеристики (местоположение, функциональное назначение, состояние и д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хнические и технологические характери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яются конкретными частными показателями в зависимости от вида недвижимости и целесообразности распространения особого режима использования на другое имущество. Неразрывное единство с функциональным назначе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бщая классификация объектов недвижимо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онятие о классификации недвижимого имущества (вещей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7200" y="1600200"/>
            <a:ext cx="8228880" cy="4494600"/>
            <a:chOff x="457200" y="1600200"/>
            <a:chExt cx="8228880" cy="4494600"/>
          </a:xfrm>
        </p:grpSpPr>
        <p:cxnSp>
          <p:nvCxnSpPr>
            <p:cNvPr id="213" name="_s58382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5561640" y="2406600"/>
              <a:ext cx="899640" cy="288072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6" name="_s58381"/>
            <p:cNvCxnSpPr>
              <a:stCxn id="217" idx="0"/>
              <a:endCxn id="215" idx="2"/>
            </p:cNvCxnSpPr>
            <p:nvPr/>
          </p:nvCxnSpPr>
          <p:spPr>
            <a:xfrm flipV="1">
              <a:off x="4571280" y="3397320"/>
              <a:ext cx="3240" cy="899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8" name="_s58380"/>
            <p:cNvCxnSpPr>
              <a:stCxn id="219" idx="0"/>
              <a:endCxn id="215" idx="2"/>
            </p:cNvCxnSpPr>
            <p:nvPr/>
          </p:nvCxnSpPr>
          <p:spPr>
            <a:xfrm flipH="1" flipV="1" rot="5400000">
              <a:off x="2681640" y="2406960"/>
              <a:ext cx="899640" cy="288072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5" name="_s58376"/>
            <p:cNvSpPr/>
            <p:nvPr/>
          </p:nvSpPr>
          <p:spPr>
            <a:xfrm>
              <a:off x="3337200" y="16002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Классификац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(общая, частная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_s58377"/>
            <p:cNvSpPr/>
            <p:nvPr/>
          </p:nvSpPr>
          <p:spPr>
            <a:xfrm>
              <a:off x="45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Объек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_s58378"/>
            <p:cNvSpPr/>
            <p:nvPr/>
          </p:nvSpPr>
          <p:spPr>
            <a:xfrm>
              <a:off x="333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Признак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_s58379"/>
            <p:cNvSpPr/>
            <p:nvPr/>
          </p:nvSpPr>
          <p:spPr>
            <a:xfrm>
              <a:off x="621756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Метод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ания и соору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емельные учас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а и многолетние насаж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астки нед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ные объе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при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равненные предм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ущественные пр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ые вещ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Признак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ункциональные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пита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оитель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ок служ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сти констру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а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ичество комн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об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сто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ип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ые призна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етод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7200" y="1600200"/>
            <a:ext cx="8228520" cy="4494600"/>
            <a:chOff x="457200" y="1600200"/>
            <a:chExt cx="8228520" cy="4494600"/>
          </a:xfrm>
        </p:grpSpPr>
        <p:cxnSp>
          <p:nvCxnSpPr>
            <p:cNvPr id="226" name="_s62477"/>
            <p:cNvCxnSpPr>
              <a:stCxn id="227" idx="0"/>
              <a:endCxn id="228" idx="2"/>
            </p:cNvCxnSpPr>
            <p:nvPr/>
          </p:nvCxnSpPr>
          <p:spPr>
            <a:xfrm flipV="1" rot="16200000">
              <a:off x="5229360" y="2739240"/>
              <a:ext cx="899640" cy="221544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62476"/>
            <p:cNvCxnSpPr>
              <a:stCxn id="230" idx="0"/>
              <a:endCxn id="228" idx="2"/>
            </p:cNvCxnSpPr>
            <p:nvPr/>
          </p:nvCxnSpPr>
          <p:spPr>
            <a:xfrm flipH="1" flipV="1" rot="5400000">
              <a:off x="3013560" y="2739240"/>
              <a:ext cx="899640" cy="221616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8" name="_s62472"/>
            <p:cNvSpPr/>
            <p:nvPr/>
          </p:nvSpPr>
          <p:spPr>
            <a:xfrm>
              <a:off x="2673000" y="16002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Методы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62473"/>
            <p:cNvSpPr/>
            <p:nvPr/>
          </p:nvSpPr>
          <p:spPr>
            <a:xfrm>
              <a:off x="457200" y="42969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иерархические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62474"/>
            <p:cNvSpPr/>
            <p:nvPr/>
          </p:nvSpPr>
          <p:spPr>
            <a:xfrm>
              <a:off x="4888080" y="42969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фасетные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Times New Roman"/>
              </a:rPr>
              <a:t>Общая классификация объектов недвижимости фасетным методом по различным признакам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знак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ункциональное назна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схождение (воспроизводимость в натуральной форм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епень готовности к эксплуат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а собств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раслевая принадлеж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можность приват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143000" y="685800"/>
            <a:ext cx="7162200" cy="4799160"/>
            <a:chOff x="1143000" y="685800"/>
            <a:chExt cx="7162200" cy="4799160"/>
          </a:xfrm>
        </p:grpSpPr>
        <p:cxnSp>
          <p:nvCxnSpPr>
            <p:cNvPr id="234" name="_s67616"/>
            <p:cNvCxnSpPr>
              <a:stCxn id="235" idx="0"/>
              <a:endCxn id="236" idx="2"/>
            </p:cNvCxnSpPr>
            <p:nvPr/>
          </p:nvCxnSpPr>
          <p:spPr>
            <a:xfrm flipV="1" rot="16200000">
              <a:off x="5208120" y="2120760"/>
              <a:ext cx="960480" cy="1928520"/>
            </a:xfrm>
            <a:prstGeom prst="bentConnector3">
              <a:avLst>
                <a:gd name="adj1" fmla="val 208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7" name="_s67615"/>
            <p:cNvCxnSpPr>
              <a:stCxn id="238" idx="0"/>
              <a:endCxn id="236" idx="2"/>
            </p:cNvCxnSpPr>
            <p:nvPr/>
          </p:nvCxnSpPr>
          <p:spPr>
            <a:xfrm flipH="1" flipV="1" rot="5400000">
              <a:off x="3279600" y="2120400"/>
              <a:ext cx="960480" cy="1929240"/>
            </a:xfrm>
            <a:prstGeom prst="bentConnector3">
              <a:avLst>
                <a:gd name="adj1" fmla="val 208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6" name="_s67611"/>
            <p:cNvSpPr/>
            <p:nvPr/>
          </p:nvSpPr>
          <p:spPr>
            <a:xfrm>
              <a:off x="3071520" y="68580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Функционально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назнач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67612"/>
            <p:cNvSpPr/>
            <p:nvPr/>
          </p:nvSpPr>
          <p:spPr>
            <a:xfrm>
              <a:off x="1143000" y="356544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роизвод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_s67613"/>
            <p:cNvSpPr/>
            <p:nvPr/>
          </p:nvSpPr>
          <p:spPr>
            <a:xfrm>
              <a:off x="4999680" y="356544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Непроизвод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Вопрос 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Понятия и признаки недвижимост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1143000" y="762120"/>
            <a:ext cx="7009200" cy="5331960"/>
            <a:chOff x="1143000" y="762120"/>
            <a:chExt cx="7009200" cy="5331960"/>
          </a:xfrm>
        </p:grpSpPr>
        <p:cxnSp>
          <p:nvCxnSpPr>
            <p:cNvPr id="240" name="_s70667"/>
            <p:cNvCxnSpPr>
              <a:stCxn id="241" idx="0"/>
              <a:endCxn id="242" idx="2"/>
            </p:cNvCxnSpPr>
            <p:nvPr/>
          </p:nvCxnSpPr>
          <p:spPr>
            <a:xfrm flipV="1" rot="16200000">
              <a:off x="5058000" y="2484000"/>
              <a:ext cx="1067040" cy="1887480"/>
            </a:xfrm>
            <a:prstGeom prst="bentConnector3">
              <a:avLst>
                <a:gd name="adj1" fmla="val 207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3" name="_s70666"/>
            <p:cNvCxnSpPr>
              <a:stCxn id="244" idx="0"/>
              <a:endCxn id="242" idx="2"/>
            </p:cNvCxnSpPr>
            <p:nvPr/>
          </p:nvCxnSpPr>
          <p:spPr>
            <a:xfrm flipH="1" flipV="1" rot="5400000">
              <a:off x="3170520" y="2483640"/>
              <a:ext cx="1067040" cy="1888200"/>
            </a:xfrm>
            <a:prstGeom prst="bentConnector3">
              <a:avLst>
                <a:gd name="adj1" fmla="val 207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2" name="_s70662"/>
            <p:cNvSpPr/>
            <p:nvPr/>
          </p:nvSpPr>
          <p:spPr>
            <a:xfrm>
              <a:off x="3030480" y="76212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Происхожд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70663"/>
            <p:cNvSpPr/>
            <p:nvPr/>
          </p:nvSpPr>
          <p:spPr>
            <a:xfrm>
              <a:off x="1143000" y="396144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Невоспроизводим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70664"/>
            <p:cNvSpPr/>
            <p:nvPr/>
          </p:nvSpPr>
          <p:spPr>
            <a:xfrm>
              <a:off x="4917240" y="396144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Воспроизводим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457200" y="228600"/>
            <a:ext cx="8228520" cy="5865480"/>
            <a:chOff x="457200" y="228600"/>
            <a:chExt cx="8228520" cy="5865480"/>
          </a:xfrm>
        </p:grpSpPr>
        <p:cxnSp>
          <p:nvCxnSpPr>
            <p:cNvPr id="246" name="_s71697"/>
            <p:cNvCxnSpPr>
              <a:stCxn id="247" idx="0"/>
              <a:endCxn id="248" idx="2"/>
            </p:cNvCxnSpPr>
            <p:nvPr/>
          </p:nvCxnSpPr>
          <p:spPr>
            <a:xfrm flipV="1" rot="16200000">
              <a:off x="5092560" y="2053080"/>
              <a:ext cx="1173600" cy="2215440"/>
            </a:xfrm>
            <a:prstGeom prst="bentConnector3">
              <a:avLst>
                <a:gd name="adj1" fmla="val 104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9" name="_s71696"/>
            <p:cNvCxnSpPr>
              <a:stCxn id="250" idx="0"/>
              <a:endCxn id="248" idx="2"/>
            </p:cNvCxnSpPr>
            <p:nvPr/>
          </p:nvCxnSpPr>
          <p:spPr>
            <a:xfrm flipH="1" flipV="1" rot="5400000">
              <a:off x="2876400" y="2053080"/>
              <a:ext cx="1173600" cy="2216160"/>
            </a:xfrm>
            <a:prstGeom prst="bentConnector3">
              <a:avLst>
                <a:gd name="adj1" fmla="val 104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8" name="_s71692"/>
            <p:cNvSpPr/>
            <p:nvPr/>
          </p:nvSpPr>
          <p:spPr>
            <a:xfrm>
              <a:off x="2673000" y="22860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Степень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готовности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к эксплуатации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71693"/>
            <p:cNvSpPr/>
            <p:nvPr/>
          </p:nvSpPr>
          <p:spPr>
            <a:xfrm>
              <a:off x="457200" y="374796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Введённые в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строительств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71694"/>
            <p:cNvSpPr/>
            <p:nvPr/>
          </p:nvSpPr>
          <p:spPr>
            <a:xfrm>
              <a:off x="4888080" y="374796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Незавершённы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строительство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228600"/>
            <a:ext cx="8228160" cy="5866920"/>
            <a:chOff x="457200" y="228600"/>
            <a:chExt cx="8228160" cy="5866920"/>
          </a:xfrm>
        </p:grpSpPr>
        <p:cxnSp>
          <p:nvCxnSpPr>
            <p:cNvPr id="252" name="_s74769"/>
            <p:cNvCxnSpPr>
              <a:stCxn id="253" idx="1"/>
              <a:endCxn id="254" idx="2"/>
            </p:cNvCxnSpPr>
            <p:nvPr/>
          </p:nvCxnSpPr>
          <p:spPr>
            <a:xfrm rot="10800000">
              <a:off x="2925000" y="918000"/>
              <a:ext cx="823320" cy="4832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5" name="_s74767"/>
            <p:cNvCxnSpPr>
              <a:stCxn id="256" idx="1"/>
              <a:endCxn id="254" idx="2"/>
            </p:cNvCxnSpPr>
            <p:nvPr/>
          </p:nvCxnSpPr>
          <p:spPr>
            <a:xfrm rot="10800000">
              <a:off x="2925000" y="918000"/>
              <a:ext cx="823320" cy="379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7" name="_s74764"/>
            <p:cNvCxnSpPr>
              <a:stCxn id="258" idx="1"/>
              <a:endCxn id="254" idx="2"/>
            </p:cNvCxnSpPr>
            <p:nvPr/>
          </p:nvCxnSpPr>
          <p:spPr>
            <a:xfrm rot="10800000">
              <a:off x="2925000" y="918000"/>
              <a:ext cx="823320" cy="276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9" name="_s74763"/>
            <p:cNvCxnSpPr>
              <a:stCxn id="260" idx="1"/>
              <a:endCxn id="254" idx="2"/>
            </p:cNvCxnSpPr>
            <p:nvPr/>
          </p:nvCxnSpPr>
          <p:spPr>
            <a:xfrm rot="10800000">
              <a:off x="2925000" y="918000"/>
              <a:ext cx="823320" cy="172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1" name="_s74762"/>
            <p:cNvCxnSpPr>
              <a:stCxn id="262" idx="1"/>
              <a:endCxn id="254" idx="2"/>
            </p:cNvCxnSpPr>
            <p:nvPr/>
          </p:nvCxnSpPr>
          <p:spPr>
            <a:xfrm rot="10800000">
              <a:off x="2925000" y="918000"/>
              <a:ext cx="823320" cy="69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54" name="_s74758"/>
            <p:cNvSpPr/>
            <p:nvPr/>
          </p:nvSpPr>
          <p:spPr>
            <a:xfrm>
              <a:off x="457200" y="2286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Форма собственност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74759"/>
            <p:cNvSpPr/>
            <p:nvPr/>
          </p:nvSpPr>
          <p:spPr>
            <a:xfrm>
              <a:off x="3748320" y="126396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Част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74760"/>
            <p:cNvSpPr/>
            <p:nvPr/>
          </p:nvSpPr>
          <p:spPr>
            <a:xfrm>
              <a:off x="3748320" y="229932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Государствен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_s74761"/>
            <p:cNvSpPr/>
            <p:nvPr/>
          </p:nvSpPr>
          <p:spPr>
            <a:xfrm>
              <a:off x="3748320" y="333468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Коллективные совмест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_s74766"/>
            <p:cNvSpPr/>
            <p:nvPr/>
          </p:nvSpPr>
          <p:spPr>
            <a:xfrm>
              <a:off x="3748320" y="437004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Коллективно-доле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74768"/>
            <p:cNvSpPr/>
            <p:nvPr/>
          </p:nvSpPr>
          <p:spPr>
            <a:xfrm>
              <a:off x="3748320" y="54054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Общественных организаци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457200" y="228600"/>
            <a:ext cx="8228160" cy="5866920"/>
            <a:chOff x="457200" y="228600"/>
            <a:chExt cx="8228160" cy="5866920"/>
          </a:xfrm>
        </p:grpSpPr>
        <p:cxnSp>
          <p:nvCxnSpPr>
            <p:cNvPr id="264" name="_s76818"/>
            <p:cNvCxnSpPr>
              <a:stCxn id="265" idx="1"/>
              <a:endCxn id="266" idx="2"/>
            </p:cNvCxnSpPr>
            <p:nvPr/>
          </p:nvCxnSpPr>
          <p:spPr>
            <a:xfrm rot="10800000">
              <a:off x="2925000" y="918000"/>
              <a:ext cx="823320" cy="4832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7" name="_s76816"/>
            <p:cNvCxnSpPr>
              <a:stCxn id="268" idx="1"/>
              <a:endCxn id="266" idx="2"/>
            </p:cNvCxnSpPr>
            <p:nvPr/>
          </p:nvCxnSpPr>
          <p:spPr>
            <a:xfrm rot="10800000">
              <a:off x="2925000" y="918000"/>
              <a:ext cx="823320" cy="379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9" name="_s76813"/>
            <p:cNvCxnSpPr>
              <a:stCxn id="270" idx="1"/>
              <a:endCxn id="266" idx="2"/>
            </p:cNvCxnSpPr>
            <p:nvPr/>
          </p:nvCxnSpPr>
          <p:spPr>
            <a:xfrm rot="10800000">
              <a:off x="2925000" y="918000"/>
              <a:ext cx="823320" cy="276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1" name="_s76812"/>
            <p:cNvCxnSpPr>
              <a:stCxn id="272" idx="1"/>
              <a:endCxn id="266" idx="2"/>
            </p:cNvCxnSpPr>
            <p:nvPr/>
          </p:nvCxnSpPr>
          <p:spPr>
            <a:xfrm rot="10800000">
              <a:off x="2925000" y="918000"/>
              <a:ext cx="823320" cy="172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3" name="_s76811"/>
            <p:cNvCxnSpPr>
              <a:stCxn id="274" idx="1"/>
              <a:endCxn id="266" idx="2"/>
            </p:cNvCxnSpPr>
            <p:nvPr/>
          </p:nvCxnSpPr>
          <p:spPr>
            <a:xfrm rot="10800000">
              <a:off x="2925000" y="918000"/>
              <a:ext cx="823320" cy="69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6" name="_s76807"/>
            <p:cNvSpPr/>
            <p:nvPr/>
          </p:nvSpPr>
          <p:spPr>
            <a:xfrm>
              <a:off x="457200" y="2286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Отраслевая принадлежност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_s76808"/>
            <p:cNvSpPr/>
            <p:nvPr/>
          </p:nvSpPr>
          <p:spPr>
            <a:xfrm>
              <a:off x="3748320" y="126396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ромышл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_s76809"/>
            <p:cNvSpPr/>
            <p:nvPr/>
          </p:nvSpPr>
          <p:spPr>
            <a:xfrm>
              <a:off x="3748320" y="229932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Строите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_s76810"/>
            <p:cNvSpPr/>
            <p:nvPr/>
          </p:nvSpPr>
          <p:spPr>
            <a:xfrm>
              <a:off x="3748320" y="333468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Сельскохозяй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76815"/>
            <p:cNvSpPr/>
            <p:nvPr/>
          </p:nvSpPr>
          <p:spPr>
            <a:xfrm>
              <a:off x="3748320" y="437004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Жилищно-коммуна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_s76817"/>
            <p:cNvSpPr/>
            <p:nvPr/>
          </p:nvSpPr>
          <p:spPr>
            <a:xfrm>
              <a:off x="3748320" y="54054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Культурно-бытовые и др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685800" y="1531800"/>
            <a:ext cx="7999920" cy="4639680"/>
            <a:chOff x="685800" y="1531800"/>
            <a:chExt cx="7999920" cy="4639680"/>
          </a:xfrm>
        </p:grpSpPr>
        <p:cxnSp>
          <p:nvCxnSpPr>
            <p:cNvPr id="276" name="_s78860"/>
            <p:cNvCxnSpPr>
              <a:stCxn id="277" idx="1"/>
              <a:endCxn id="278" idx="2"/>
            </p:cNvCxnSpPr>
            <p:nvPr/>
          </p:nvCxnSpPr>
          <p:spPr>
            <a:xfrm rot="10800000">
              <a:off x="3084840" y="2374920"/>
              <a:ext cx="800640" cy="337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9" name="_s78859"/>
            <p:cNvCxnSpPr>
              <a:stCxn id="280" idx="1"/>
              <a:endCxn id="278" idx="2"/>
            </p:cNvCxnSpPr>
            <p:nvPr/>
          </p:nvCxnSpPr>
          <p:spPr>
            <a:xfrm rot="10800000">
              <a:off x="3084840" y="2374920"/>
              <a:ext cx="800640" cy="210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1" name="_s78858"/>
            <p:cNvCxnSpPr>
              <a:stCxn id="282" idx="1"/>
              <a:endCxn id="278" idx="2"/>
            </p:cNvCxnSpPr>
            <p:nvPr/>
          </p:nvCxnSpPr>
          <p:spPr>
            <a:xfrm rot="10800000">
              <a:off x="3084840" y="2374920"/>
              <a:ext cx="800640" cy="844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8" name="_s78854"/>
            <p:cNvSpPr/>
            <p:nvPr/>
          </p:nvSpPr>
          <p:spPr>
            <a:xfrm>
              <a:off x="685800" y="15318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Возможность приватизац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_s78855"/>
            <p:cNvSpPr/>
            <p:nvPr/>
          </p:nvSpPr>
          <p:spPr>
            <a:xfrm>
              <a:off x="3885840" y="27972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Запрещённ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_s78856"/>
            <p:cNvSpPr/>
            <p:nvPr/>
          </p:nvSpPr>
          <p:spPr>
            <a:xfrm>
              <a:off x="3885840" y="40626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По решению Правительств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_s78857"/>
            <p:cNvSpPr/>
            <p:nvPr/>
          </p:nvSpPr>
          <p:spPr>
            <a:xfrm>
              <a:off x="3885840" y="53280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Свободно приватизируем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имер общей классификации зданий фасетным методом по одному признак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2209680"/>
            <a:ext cx="228600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д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4038480"/>
            <a:ext cx="220968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Жи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59092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коммерче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4038480"/>
            <a:ext cx="243828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ециа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обществен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43400" y="2895480"/>
            <a:ext cx="0" cy="1143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" name=""/>
          <p:cNvCxnSpPr>
            <a:stCxn id="285" idx="0"/>
            <a:endCxn id="287" idx="0"/>
          </p:cNvCxnSpPr>
          <p:nvPr/>
        </p:nvCxnSpPr>
        <p:spPr>
          <a:xfrm flipH="1" rot="16200000">
            <a:off x="4323240" y="1123560"/>
            <a:ext cx="2520" cy="5829840"/>
          </a:xfrm>
          <a:prstGeom prst="bentConnector3">
            <a:avLst>
              <a:gd name="adj1" fmla="val -14400000"/>
            </a:avLst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sp>
        <p:nvSpPr>
          <p:cNvPr id="290" name=""/>
          <p:cNvSpPr/>
          <p:nvPr/>
        </p:nvSpPr>
        <p:spPr>
          <a:xfrm>
            <a:off x="2652840" y="324180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лев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9400" y="32418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зна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изнаки классификации недвижимости по уровням управл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85800" y="1981080"/>
          <a:ext cx="7772400" cy="4232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однохозяйст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ион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к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 собств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роизводимость в натуральной фор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аслевая принадлеж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рриториальное размещ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иональное на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требление свойств (удобств) предме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а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 дох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епень готовности к эксплуат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собенности недвижимости как това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Взаимосвязь потребительских и инвестиционных свойств недвижимости как товар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666880"/>
            <a:ext cx="1600200" cy="1524240"/>
          </a:xfrm>
          <a:prstGeom prst="ellipse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в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2441520"/>
            <a:ext cx="1447920" cy="2057400"/>
          </a:xfrm>
          <a:prstGeom prst="ellipse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68320" y="2708280"/>
            <a:ext cx="9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ла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00280" y="3470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вес-и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38480" y="2239920"/>
            <a:ext cx="175284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ез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д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ранич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питал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ём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2239920"/>
            <a:ext cx="114300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69280" y="2239920"/>
            <a:ext cx="152244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4788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3165480"/>
            <a:ext cx="685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00800" y="3657600"/>
            <a:ext cx="685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934320" y="316512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16548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09720" y="257004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73640" y="3733920"/>
            <a:ext cx="119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л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001000" y="316548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01000" y="365760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153280" y="316548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8458200" y="316512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71800" y="25970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о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10280" y="36990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34290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591000" y="2441160"/>
            <a:ext cx="447480" cy="2667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733920" y="3027240"/>
            <a:ext cx="304560" cy="138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733920" y="3276720"/>
            <a:ext cx="30456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3733920"/>
            <a:ext cx="30456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27082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31654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1320" y="36576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1320" y="4156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Взаимосвязь потребительских и инвестиционных свойств недвижимости как товара</a:t>
            </a:r>
            <a:endParaRPr b="0" lang="en-US" sz="33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50920" y="1905120"/>
          <a:ext cx="8569080" cy="4038480"/>
        </p:xfrm>
        <a:graphic>
          <a:graphicData uri="http://schemas.openxmlformats.org/drawingml/2006/table">
            <a:tbl>
              <a:tblPr/>
              <a:tblGrid>
                <a:gridCol w="2143080"/>
                <a:gridCol w="1962000"/>
                <a:gridCol w="2160720"/>
                <a:gridCol w="2303280"/>
              </a:tblGrid>
              <a:tr h="807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ар - недвиж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а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вест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дк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раниченн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питалоемк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р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нятия и признаки недвижим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бщая классификация объектов недвижим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обенности недвижимости как това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пецифические свойства земли как товар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зна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а функционирования в сфере предприниматель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епень подвиж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ительность хозяйственного кругообор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зможность сервиту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ирование потребительской сто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исхо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ояние потребительской формы в процессе 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нос в процессе 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стоимости во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аимозаменяе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ротоспособность на рын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ый способ распоряжения землё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бщие потребности, удовлетворяемые землёй как товаром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223000" y="2084400"/>
            <a:ext cx="4316400" cy="4289760"/>
            <a:chOff x="2223000" y="2084400"/>
            <a:chExt cx="4316400" cy="4289760"/>
          </a:xfrm>
        </p:grpSpPr>
        <p:sp>
          <p:nvSpPr>
            <p:cNvPr id="335" name="_s96262"/>
            <p:cNvSpPr/>
            <p:nvPr/>
          </p:nvSpPr>
          <p:spPr>
            <a:xfrm flipV="1">
              <a:off x="3950280" y="2084040"/>
              <a:ext cx="862200" cy="857880"/>
            </a:xfrm>
            <a:custGeom>
              <a:avLst/>
              <a:gdLst>
                <a:gd name="textAreaLeft" fmla="*/ 309240 w 862200"/>
                <a:gd name="textAreaRight" fmla="*/ 552960 w 862200"/>
                <a:gd name="textAreaTop" fmla="*/ 307800 h 857880"/>
                <a:gd name="textAreaBottom" fmla="*/ 55008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. Базо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_s96266"/>
            <p:cNvSpPr/>
            <p:nvPr/>
          </p:nvSpPr>
          <p:spPr>
            <a:xfrm flipV="1">
              <a:off x="3519000" y="2941920"/>
              <a:ext cx="1724760" cy="857880"/>
            </a:xfrm>
            <a:custGeom>
              <a:avLst/>
              <a:gdLst>
                <a:gd name="textAreaLeft" fmla="*/ 379080 w 1724760"/>
                <a:gd name="textAreaRight" fmla="*/ 1345680 w 1724760"/>
                <a:gd name="textAreaTop" fmla="*/ 188640 h 857880"/>
                <a:gd name="textAreaBottom" fmla="*/ 66924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. Безопас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_s96267"/>
            <p:cNvSpPr/>
            <p:nvPr/>
          </p:nvSpPr>
          <p:spPr>
            <a:xfrm flipV="1">
              <a:off x="3085560" y="3800160"/>
              <a:ext cx="2591280" cy="857880"/>
            </a:xfrm>
            <a:custGeom>
              <a:avLst/>
              <a:gdLst>
                <a:gd name="textAreaLeft" fmla="*/ 449640 w 2591280"/>
                <a:gd name="textAreaRight" fmla="*/ 2141640 w 2591280"/>
                <a:gd name="textAreaTop" fmla="*/ 148680 h 857880"/>
                <a:gd name="textAreaBottom" fmla="*/ 70920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. Соци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_s96263"/>
            <p:cNvSpPr/>
            <p:nvPr/>
          </p:nvSpPr>
          <p:spPr>
            <a:xfrm flipV="1">
              <a:off x="2654280" y="4658040"/>
              <a:ext cx="3453840" cy="857880"/>
            </a:xfrm>
            <a:custGeom>
              <a:avLst/>
              <a:gdLst>
                <a:gd name="textAreaLeft" fmla="*/ 519480 w 3453840"/>
                <a:gd name="textAreaRight" fmla="*/ 2934360 w 3453840"/>
                <a:gd name="textAreaTop" fmla="*/ 128880 h 857880"/>
                <a:gd name="textAreaBottom" fmla="*/ 72900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4.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Психологиче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96264"/>
            <p:cNvSpPr/>
            <p:nvPr/>
          </p:nvSpPr>
          <p:spPr>
            <a:xfrm flipV="1">
              <a:off x="2223000" y="5515920"/>
              <a:ext cx="4316400" cy="857880"/>
            </a:xfrm>
            <a:custGeom>
              <a:avLst/>
              <a:gdLst>
                <a:gd name="textAreaLeft" fmla="*/ 589320 w 4316400"/>
                <a:gd name="textAreaRight" fmla="*/ 3727080 w 4316400"/>
                <a:gd name="textAreaTop" fmla="*/ 117000 h 857880"/>
                <a:gd name="textAreaBottom" fmla="*/ 74088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5.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Интеллекту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ривая спроса и предложения земли на рынке в краткосрочный период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76520" y="2437920"/>
            <a:ext cx="0" cy="312444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5562720"/>
            <a:ext cx="586728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-1179720" y="3694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а земли, Ц, Р/м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74080" y="6137280"/>
            <a:ext cx="23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щадь, м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г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29400" y="2743200"/>
            <a:ext cx="0" cy="2819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76520" y="41148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80060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2776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8588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43200" y="410364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9880" y="4121280"/>
            <a:ext cx="609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00600" y="412128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927760" y="41148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09880" y="3429000"/>
            <a:ext cx="609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27760" y="3657600"/>
            <a:ext cx="1996920" cy="137160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15000" y="2743200"/>
            <a:ext cx="2209680" cy="160020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73680" y="568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86480" y="38926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94320" y="32004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63360" y="5797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30840" y="366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22040" y="434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772400" y="4571640"/>
            <a:ext cx="447840" cy="2350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637680" y="2971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127000" y="3435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7543800" y="3663720"/>
            <a:ext cx="3808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2852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Недвижимое имущество как товар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2157120"/>
            <a:ext cx="8101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объект сделок (купли, продажи, дарения, залога и др.), удовлетворяющий различные реальные или потенциальные потребности и имеющий определенные качественные и количественные характерис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ЛЕЗ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способность удовлетворять потребности владельца именно в данном месте и в течение соответствующего периода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Экономические особенности недвижимости как товар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иболее долговечный и основательный това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спечивает надежность инвестиц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ребляются по месту их расположения (территориальные предпочте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равномерность денежных потоков при их приобретении и использова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фференциация налогообло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образие вещных пра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сткая регламентация оформления сдело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квид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обходимость грамотного менеджме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гнозируемые денежные потоки по инвестиционным циклам проект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1280" y="2549520"/>
            <a:ext cx="24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ожи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нежные пото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4160" y="3497400"/>
            <a:ext cx="22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рицатель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неж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оки сред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32000" y="4869000"/>
            <a:ext cx="126072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кл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покуп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оитель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4869000"/>
            <a:ext cx="126036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клю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оговор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рен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2000" y="4869000"/>
            <a:ext cx="126036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ходы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цес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ксплуата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51640" y="4869000"/>
            <a:ext cx="126072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ру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да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32000" y="3371760"/>
            <a:ext cx="57610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32000" y="3371760"/>
            <a:ext cx="179640" cy="1497240"/>
          </a:xfrm>
          <a:prstGeom prst="downArrow">
            <a:avLst>
              <a:gd name="adj1" fmla="val 50000"/>
              <a:gd name="adj2" fmla="val 208367"/>
            </a:avLst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751280" y="3371760"/>
            <a:ext cx="0" cy="596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51280" y="41497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51280" y="4443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51280" y="46846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54760" y="3371760"/>
            <a:ext cx="0" cy="2365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472000" y="46846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72000" y="432864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830920" y="50436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010200" y="52228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472000" y="3968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59400" y="360792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472000" y="34290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651640" y="4443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651640" y="41482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651640" y="468900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651640" y="3860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651640" y="35179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189840" y="3860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189840" y="423864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189840" y="4686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192720" y="35179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6661080" y="42372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684840" y="462276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684840" y="38782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661080" y="34974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6189840" y="2889360"/>
            <a:ext cx="2880" cy="4824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661080" y="2549520"/>
            <a:ext cx="0" cy="822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189840" y="2549520"/>
            <a:ext cx="471240" cy="33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84840" y="2549520"/>
            <a:ext cx="1308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93080" y="2549520"/>
            <a:ext cx="179280" cy="822240"/>
          </a:xfrm>
          <a:prstGeom prst="upArrow">
            <a:avLst>
              <a:gd name="adj1" fmla="val 50000"/>
              <a:gd name="adj2" fmla="val 114659"/>
            </a:avLst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32360" y="3787920"/>
            <a:ext cx="126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360920" y="344808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4164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6092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459400" y="3186000"/>
            <a:ext cx="0" cy="1857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651640" y="2889360"/>
            <a:ext cx="0" cy="4824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5172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52976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414240" y="6329520"/>
            <a:ext cx="9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89000" y="632952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12000" y="632952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53440" y="632952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(ЖЦ) объектов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это законченная последовательность  процессов существования недвижимости от ввода в эксплуатацию до прекращ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личают четыре вида цикл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делов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зненный цикл това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вида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предприятия как имущественного комплек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недвижимости как физического объек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250920" y="1844640"/>
          <a:ext cx="8713800" cy="4530600"/>
        </p:xfrm>
        <a:graphic>
          <a:graphicData uri="http://schemas.openxmlformats.org/drawingml/2006/table">
            <a:tbl>
              <a:tblPr/>
              <a:tblGrid>
                <a:gridCol w="2179440"/>
                <a:gridCol w="2178000"/>
                <a:gridCol w="2176560"/>
                <a:gridCol w="2179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Прединвести-ционная стад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Создание, формирование (строительство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Ввод в      эксплуатацию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Владение и исполь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Смена собственника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Разви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Капитальный ремо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Функциональное устаре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 Физический изн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 Ухудшение потребительских свой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 Изменение функционального назна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 Конец экономического срока жизни   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042920" y="285264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042560" y="4221000"/>
            <a:ext cx="6697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16000" y="6021360"/>
            <a:ext cx="561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40720" y="2852640"/>
            <a:ext cx="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42920" y="4221000"/>
            <a:ext cx="0" cy="6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вида бизнес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95280" y="1916280"/>
          <a:ext cx="8362800" cy="4708440"/>
        </p:xfrm>
        <a:graphic>
          <a:graphicData uri="http://schemas.openxmlformats.org/drawingml/2006/table">
            <a:tbl>
              <a:tblPr/>
              <a:tblGrid>
                <a:gridCol w="2090880"/>
                <a:gridCol w="2092320"/>
                <a:gridCol w="2089080"/>
                <a:gridCol w="2090520"/>
              </a:tblGrid>
              <a:tr h="23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дия расширения, ро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дия зрел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кращение деловой актив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Лицензирование, госрегистр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 Подготовительный этап создания нового предпри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одготовительный этап нового вида бизне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мена вида бизне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>
            <a:off x="1619280" y="342900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388360" y="3429000"/>
            <a:ext cx="0" cy="23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1618920" y="580536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Объекты недвижимости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371600" y="1143000"/>
          <a:ext cx="6076800" cy="5153040"/>
        </p:xfrm>
        <a:graphic>
          <a:graphicData uri="http://schemas.openxmlformats.org/drawingml/2006/table">
            <a:tbl>
              <a:tblPr/>
              <a:tblGrid>
                <a:gridCol w="3154320"/>
                <a:gridCol w="2922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дель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Земельные участ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Участники нед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Обособленные вод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Приравненные к недвижимости, подлежащие государственной регистрации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с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голетние насажде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да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ружени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Приравненные к недвижимости, подлежащие государственной регистрации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душные и морские суд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да внутреннего плава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смически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Иные предметы, наделённые статусом недвижим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приятия  в целом как имущественный комплекс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е участки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дания и сооруже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вентарь и оборудован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ырьё и продукц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и долги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а на обозначени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изирующие предприятие, его продукцию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атериальные активы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гие исключительные пра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рок жизни и возраст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57200" y="1600200"/>
          <a:ext cx="8229600" cy="5230800"/>
        </p:xfrm>
        <a:graphic>
          <a:graphicData uri="http://schemas.openxmlformats.org/drawingml/2006/table">
            <a:tbl>
              <a:tblPr/>
              <a:tblGrid>
                <a:gridCol w="2854440"/>
                <a:gridCol w="537516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иод прибыльного использования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иод реального существования объекта в функционально пригодном состояни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тавшийся срок экономической жизн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даты оценки до окончания срока экономической жизни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ффективный возраст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 на оценке внешнего вида и технического состояния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ронологический возраст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дня ввода в эксплуатацию до даты оценк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Изно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457200" y="1600200"/>
          <a:ext cx="8229600" cy="4168800"/>
        </p:xfrm>
        <a:graphic>
          <a:graphicData uri="http://schemas.openxmlformats.org/drawingml/2006/table">
            <a:tbl>
              <a:tblPr/>
              <a:tblGrid>
                <a:gridCol w="2135160"/>
                <a:gridCol w="1979640"/>
                <a:gridCol w="2057400"/>
                <a:gridCol w="2057400"/>
              </a:tblGrid>
              <a:tr h="748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теря технико-эксплуатационных свойств и потребительской стоим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есценение объекта независимо от его физического состоя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орционально интенсивности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 влиянием природных усл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ледствие удешевления воспроизводства объек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результате создания новых, более экономичных объек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пособы начисления амортизац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нейный мето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уменьшаемого остат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списания по сумме чисел лет срока полезного использ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списания стоимости пропорционально объему произведенной продук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мулятивный метод (мировая практик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Износ в оценке недвижимости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457200" y="1600200"/>
          <a:ext cx="8229600" cy="4529160"/>
        </p:xfrm>
        <a:graphic>
          <a:graphicData uri="http://schemas.openxmlformats.org/drawingml/2006/table">
            <a:tbl>
              <a:tblPr/>
              <a:tblGrid>
                <a:gridCol w="1414440"/>
                <a:gridCol w="1328760"/>
                <a:gridCol w="1371600"/>
                <a:gridCol w="1371600"/>
                <a:gridCol w="2743200"/>
              </a:tblGrid>
              <a:tr h="99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иона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на его исправление превосходят вклад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по устранению  меньше вклада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на его исправление превосходят вклад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по устранению  меньше вклада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бытки, вызываемый внешними по отношению к границам объекта фактор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копленный износ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8" name=""/>
          <p:cNvSpPr/>
          <p:nvPr/>
        </p:nvSpPr>
        <p:spPr>
          <a:xfrm flipH="1">
            <a:off x="457200" y="5769000"/>
            <a:ext cx="2743200" cy="0"/>
          </a:xfrm>
          <a:prstGeom prst="line">
            <a:avLst/>
          </a:prstGeom>
          <a:ln cap="sq" w="6336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943600" y="5769000"/>
            <a:ext cx="2743200" cy="0"/>
          </a:xfrm>
          <a:prstGeom prst="line">
            <a:avLst/>
          </a:prstGeom>
          <a:ln cap="sq" w="63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Недвижимость как физический, экономико-правовой и социальный комплекс отношений</a:t>
            </a:r>
            <a:br>
              <a:rPr sz="1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85800" y="2180520"/>
            <a:ext cx="7847640" cy="3762720"/>
            <a:chOff x="685800" y="2180520"/>
            <a:chExt cx="7847640" cy="3762720"/>
          </a:xfrm>
        </p:grpSpPr>
        <p:cxnSp>
          <p:nvCxnSpPr>
            <p:cNvPr id="134" name="_s34821"/>
            <p:cNvCxnSpPr>
              <a:stCxn id="135" idx="2"/>
              <a:endCxn id="136" idx="3"/>
            </p:cNvCxnSpPr>
            <p:nvPr/>
          </p:nvCxnSpPr>
          <p:spPr>
            <a:xfrm rot="10800000">
              <a:off x="3013560" y="2718360"/>
              <a:ext cx="812880" cy="298512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37" name="_s34822"/>
            <p:cNvCxnSpPr>
              <a:stCxn id="138" idx="2"/>
              <a:endCxn id="136" idx="3"/>
            </p:cNvCxnSpPr>
            <p:nvPr/>
          </p:nvCxnSpPr>
          <p:spPr>
            <a:xfrm rot="10800000">
              <a:off x="3013560" y="2718360"/>
              <a:ext cx="812880" cy="217944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39" name="_s34823"/>
            <p:cNvCxnSpPr>
              <a:stCxn id="140" idx="2"/>
              <a:endCxn id="136" idx="3"/>
            </p:cNvCxnSpPr>
            <p:nvPr/>
          </p:nvCxnSpPr>
          <p:spPr>
            <a:xfrm rot="10800000">
              <a:off x="3013560" y="2718360"/>
              <a:ext cx="812880" cy="137340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1" name="_s34824"/>
            <p:cNvCxnSpPr>
              <a:stCxn id="142" idx="2"/>
              <a:endCxn id="136" idx="3"/>
            </p:cNvCxnSpPr>
            <p:nvPr/>
          </p:nvCxnSpPr>
          <p:spPr>
            <a:xfrm rot="10800000">
              <a:off x="3013560" y="2718360"/>
              <a:ext cx="812880" cy="56736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36" name="_s34825"/>
            <p:cNvSpPr/>
            <p:nvPr/>
          </p:nvSpPr>
          <p:spPr>
            <a:xfrm>
              <a:off x="685800" y="2180520"/>
              <a:ext cx="4711320" cy="538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99ff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Недвижимое имущество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34826"/>
            <p:cNvSpPr/>
            <p:nvPr/>
          </p:nvSpPr>
          <p:spPr>
            <a:xfrm>
              <a:off x="3826800" y="298836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Физический объект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34827"/>
            <p:cNvSpPr/>
            <p:nvPr/>
          </p:nvSpPr>
          <p:spPr>
            <a:xfrm>
              <a:off x="3826800" y="379440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Объект экономический отнош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34828"/>
            <p:cNvSpPr/>
            <p:nvPr/>
          </p:nvSpPr>
          <p:spPr>
            <a:xfrm>
              <a:off x="3826800" y="4600800"/>
              <a:ext cx="4706640" cy="536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3" action="ppaction://hlinksldjump"/>
                </a:rPr>
                <a:t>Объект правовых отнош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34829"/>
            <p:cNvSpPr/>
            <p:nvPr/>
          </p:nvSpPr>
          <p:spPr>
            <a:xfrm>
              <a:off x="3826800" y="540648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4" action="ppaction://hlinksldjump"/>
                </a:rPr>
                <a:t>Объект общих социальных отношений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Физический объект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сто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ощадь и гран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ъё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мер (высота, длина, шири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андшаф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лежи ископаем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ип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изические характерис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нешняя ср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экономических отношени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в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питал в вещевой фор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ез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ход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держки содерж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квид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инансовый акти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оим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логооб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рос и пред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правовых отношений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аво собств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щные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пожизненного наследуемого вла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постоянного поль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хозяйственного ве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оперативного 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а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залога, аренды, застрой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рвиту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на земельный участок собственника здания, расположенного на нё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ециальное право «золотая акция» на участие в  управлении предприя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ые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жораев В.О.</cp:lastModifiedBy>
  <dcterms:modified xsi:type="dcterms:W3CDTF">2007-02-15T16:50:2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