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A03-A5C2-471D-AE10-F699139C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040-40C7-44F9-B883-0661DFB1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D5F-A703-4154-9DB2-44D64F80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C0C-5C55-49A1-88F0-026DD4F2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A8EB-310E-4F9B-9404-E20117FF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46B9-7479-4A56-901F-40F16F11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3AE8-312E-4A8C-9B67-A7CC45F4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DC09-C4AC-466C-BAF2-EE0FB16B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1545-4F3A-4660-882C-D97AEF06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4A63-47F7-499E-8F0D-2C92BC4D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7CD9-FE16-444D-B4E7-0BF21FD2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4BF-62AA-49E5-94DE-796979BE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DD27-0AEF-4D96-9D50-EC42766E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3118-829D-4631-89DF-F4B67EEF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7E8F-6362-42A0-8D39-570EE925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2FDA-F6DC-4B05-A6EF-77BE49BC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E05B-E4A6-4F07-A5B4-0D470EC0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580-E8BB-4962-AF8C-56A29260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A34-0814-4B23-B10D-550B13A6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8F0-C089-46AA-8A2E-606DF911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E91-3AB6-4810-B047-75C9A79F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E05-E7F3-4FB6-8771-23642000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D4C-2823-4081-A22C-F80E6FF3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CC6-9866-4A5C-B30F-1433C455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EB4D-FADA-48C8-91DF-047AC1C5A2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A2E2-F291-4FC7-B454-D03D114FAB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00"/>
                </a:solidFill>
                <a:latin typeface="Arial"/>
              </a:rPr>
              <a:t>ТЕМА: ОЦЕНКА СТОИМОСТИ ЗЕМЕЛЬ СЕЛЬСКОХОЗЯЙСТВЕННОГО НАЗНАЧЕНИЯ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85360" y="692280"/>
            <a:ext cx="425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Экономическа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стоимости зем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70828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дход, основан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а экономиче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эффективности е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59280" y="2708280"/>
            <a:ext cx="45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дход, основанный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ормативе возмещ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терь при отводе зем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а несельскохозяйстве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340000" y="1628640"/>
            <a:ext cx="14400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1628640"/>
            <a:ext cx="136836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92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192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19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19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9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9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Объекты оценки в соответствии с Европейскими стандартам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Зем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борудованные фермы (с жилыми домами и постройкам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Сельскохозяйственные имения и имуще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ноголетние культу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Квоты на производство продук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Поголовье ск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ашины и материальные запа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Зерно в хранилищах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В соответствии с законодательством РФ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Земли сельскохозяйственного назначения – это земли за чертой посе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В составе земель поселений выделяют зоны сельскохозяйственного исполь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Земли сельскохозяйственного назначения подразделяются на земли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Сельскохозяйственные угодь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внутрихозяйственными дорогами и коммуникац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древесно-кустарниковой растительн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редназначенные для обеспечения защиты земель от негативных воздейств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обособленными водными объек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зданиями, строениями и сооружениями, используемыми для производства, хранения и первичной переработки сельскохозяйственной про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350"/>
                            </p:stCondLst>
                            <p:childTnLst>
                              <p:par>
                                <p:cTn id="3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35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350"/>
                            </p:stCondLst>
                            <p:childTnLst>
                              <p:par>
                                <p:cTn id="3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350"/>
                            </p:stCondLst>
                            <p:childTnLst>
                              <p:par>
                                <p:cTn id="3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35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35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Объекты оценк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ельскохозяйственные и иные угодья, или незастроенные участки, предназначенные для сельскохозяйственного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астроенные земельные участки, с расположенными на них постройками разного назначения и использ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ельскохозяйственный имущественный комплекс с сельскохозяйственными угодь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емельные до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15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15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15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15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Основные методы оценки рыночной стоимости зем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fc50"/>
                </a:solidFill>
                <a:latin typeface="Times New Roman"/>
              </a:rPr>
              <a:t>Рекомендуемые методы оцен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229600" cy="5295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ждународными стандартам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инимуществом Росси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пособ сравнения прода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сравнения прода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знес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распре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Извле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вы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статочной 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остатка для зем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пособ развития террито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предполагаемого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питализации арендной 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капитализации земельной ре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fc50"/>
                </a:solidFill>
                <a:latin typeface="Times New Roman"/>
              </a:rPr>
              <a:t>Основные характеристики методов оценк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413000"/>
          <a:ext cx="9144000" cy="4782960"/>
        </p:xfrm>
        <a:graphic>
          <a:graphicData uri="http://schemas.openxmlformats.org/drawingml/2006/table">
            <a:tbl>
              <a:tblPr/>
              <a:tblGrid>
                <a:gridCol w="1979640"/>
                <a:gridCol w="2049480"/>
                <a:gridCol w="2271600"/>
                <a:gridCol w="284328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а каком принципе базирует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 каком случае использует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еобходимая информ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сравнения продаж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замещ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незастроенной земл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ценах продаж аналог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распреде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Сбалансированности и вкла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застроенных участк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продажах застроенных земельных участка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выде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наиболее эффективного использова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застроенных участк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стоимости улучшени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c50"/>
                </a:solidFill>
                <a:latin typeface="Times New Roman"/>
              </a:rPr>
              <a:t>Основные характеристики методов оценк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268280"/>
          <a:ext cx="9145440" cy="5300640"/>
        </p:xfrm>
        <a:graphic>
          <a:graphicData uri="http://schemas.openxmlformats.org/drawingml/2006/table">
            <a:tbl>
              <a:tblPr/>
              <a:tblGrid>
                <a:gridCol w="1944720"/>
                <a:gridCol w="2087640"/>
                <a:gridCol w="2233440"/>
                <a:gridCol w="2879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а каком принципе базиру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 каком случае использу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еобходимая информ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остатка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остаточной продуктивности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свободных или частично застроенных участ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сделках по сдаче строений участков аналогов в аренд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пред-полагаемого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остаточной продуктивности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любого земельного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возможных денежных потоках связанных с использованием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капитализации земельной р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наиболее эффективного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любого земельного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возможных денежных потоках связанных с использованием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Метод сравнения продаж.</a:t>
            </a:r>
            <a:br>
              <a:rPr sz="3400"/>
            </a:b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Последовательность действий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916280"/>
          <a:ext cx="8229600" cy="410364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одбор участков земли, сопоставимых по ценообразующим факторам с оцениваемым участком, с известными ценами продаж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несение поправок в цены продаж, позволяющих учесть отличия объекта оценки от сопоставимог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стоимости земельного участка как среднего или средневзвешенного значения скорректированных цен сопоставимых объек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ма: Оценка стоимости земель сельскохозяйственного назнач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. Особенности оценки стоимости земель сельскохозяйственного назначения. Объекты оцен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 Основные методы оценки земель        сельскохозяйственного назна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. Примеры оценки стоимости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4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2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68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fc50"/>
                </a:solidFill>
                <a:latin typeface="Times New Roman"/>
              </a:rPr>
              <a:t>Методы определения значения поправок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38080" y="1905120"/>
          <a:ext cx="8007480" cy="4327560"/>
        </p:xfrm>
        <a:graphic>
          <a:graphicData uri="http://schemas.openxmlformats.org/drawingml/2006/table">
            <a:tbl>
              <a:tblPr/>
              <a:tblGrid>
                <a:gridCol w="4005360"/>
                <a:gridCol w="400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личеств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ачеств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парного набора дан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Метод общей группиров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атистический анал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Графический анал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Метод индивидуальных опро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издерже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вторичных дан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Times New Roman"/>
              </a:rPr>
              <a:t>Последовательность действий в методе распределения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600200"/>
          <a:ext cx="8229600" cy="475920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одбор недавно проданных или предлагаемых на продажу объектов с участками земли, аналогичными к оцениваемому участку, с известными цен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ценка отношения стоимости земли к общей стоимости собственности по каждому из подобранных объек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рыночных стоимостей участков земли, находящихся в сопоставимых объекта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Корректировка полученных стоимостей земельных участков к стоимости оцениваемого участ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стоимости оцениваемого участка как среднего или средневзвешенного откорректированных стоимостей земельных участ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Последовательность действий при использовании метода выделен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600" cy="47307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дбор объектов недвижимости с участками земли, аналогичными оцениваемому, с известными цен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ценка рыночной стоимости улучшений для каждого из подобранных объектов недвижимости как разности полной восстановительной стоимости и накопленного износ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чет рыночных стоимостей участков земли, находящихся в составе подобранных объектов недвижимост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а полученных стоимостей земельных участков к стоимости оцениваемого участ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чет стоимости оцениваемого участка как среднего или средневзвешенного откорректированных стоимостей земельных участ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Arial"/>
              </a:rPr>
              <a:t>Метод остатка земли</a:t>
            </a:r>
            <a:br>
              <a:rPr sz="2700"/>
            </a:br>
            <a:r>
              <a:rPr b="0" lang="en-US" sz="2700" spc="-1" strike="noStrike">
                <a:solidFill>
                  <a:srgbClr val="ffff66"/>
                </a:solidFill>
                <a:latin typeface="Arial"/>
              </a:rPr>
              <a:t>Последовательность действий</a:t>
            </a:r>
            <a:endParaRPr b="0" lang="en-US" sz="27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5280" y="1197000"/>
          <a:ext cx="8229600" cy="53481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дбор наиболее типичных для оцениваемой территории видов коммерческого использования оцениваемого земельного участк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остаточной (для существующих) или полной восстановительной стоимости прогнозируемых улучшений для выбранных видов использования оцениваемого участка с учетом возможных ограниче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общего чистого дохода от объекта недвижимо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доли общего чистого дохода, приходящегося на строения, как произведение их полной восстановительной  стоимости на коэффициент капитализации доходов от улучше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доли общего чистого дохода, приходящегося на земельный участок, как разности общего чистого дохода и доли, приходящейся на стро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стоимости земельного  участка путем деления доли общего чистого дохода, приходящейся на участок, на коэффициент капитализации доходов от зем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Метод предполагаемого использова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5280" y="1125360"/>
          <a:ext cx="8229600" cy="531972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Анализ наиболее эффективного варианта застройки и доходного использования застроен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Составление сметы, обоснование сроков и графика строительства выбранного варианта застройки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огнозирование доходов от использования застроенного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издержек, необходимых для получения доходов от использования застроенного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ценка  стоимости земельного участка путем дисконтирования всех денежных потоков, связанных с реализацией проекта наиболее эффективного использования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Метод капитализации земельной ренты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Годовая р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Коэф. капитал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 –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ыночная стоимость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3280" y="3068640"/>
            <a:ext cx="3600360" cy="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доходного подход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22280" y="2689560"/>
            <a:ext cx="8252640" cy="2687040"/>
            <a:chOff x="422280" y="2689560"/>
            <a:chExt cx="8252640" cy="2687040"/>
          </a:xfrm>
        </p:grpSpPr>
        <p:cxnSp>
          <p:nvCxnSpPr>
            <p:cNvPr id="182" name="_s133131"/>
            <p:cNvCxnSpPr>
              <a:stCxn id="183" idx="0"/>
              <a:endCxn id="184" idx="2"/>
            </p:cNvCxnSpPr>
            <p:nvPr/>
          </p:nvCxnSpPr>
          <p:spPr>
            <a:xfrm flipV="1" rot="16200000">
              <a:off x="5910840" y="2268720"/>
              <a:ext cx="160200" cy="2886840"/>
            </a:xfrm>
            <a:prstGeom prst="bentConnector3">
              <a:avLst>
                <a:gd name="adj1" fmla="val 495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5" name="_s133125"/>
            <p:cNvCxnSpPr>
              <a:stCxn id="186" idx="0"/>
              <a:endCxn id="184" idx="2"/>
            </p:cNvCxnSpPr>
            <p:nvPr/>
          </p:nvCxnSpPr>
          <p:spPr>
            <a:xfrm flipV="1">
              <a:off x="4548240" y="3632040"/>
              <a:ext cx="3600" cy="1602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7" name="_s133126"/>
            <p:cNvCxnSpPr>
              <a:stCxn id="188" idx="0"/>
              <a:endCxn id="184" idx="2"/>
            </p:cNvCxnSpPr>
            <p:nvPr/>
          </p:nvCxnSpPr>
          <p:spPr>
            <a:xfrm flipH="1" flipV="1" rot="5400000">
              <a:off x="3025440" y="2269080"/>
              <a:ext cx="160200" cy="2886120"/>
            </a:xfrm>
            <a:prstGeom prst="bentConnector3">
              <a:avLst>
                <a:gd name="adj1" fmla="val 495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84" name="_s133127"/>
            <p:cNvSpPr/>
            <p:nvPr/>
          </p:nvSpPr>
          <p:spPr>
            <a:xfrm>
              <a:off x="3333240" y="2689560"/>
              <a:ext cx="2430000" cy="94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Доходный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подход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133128"/>
            <p:cNvSpPr/>
            <p:nvPr/>
          </p:nvSpPr>
          <p:spPr>
            <a:xfrm>
              <a:off x="422280" y="3791880"/>
              <a:ext cx="248112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капитализации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Земельной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ренты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133129"/>
            <p:cNvSpPr/>
            <p:nvPr/>
          </p:nvSpPr>
          <p:spPr>
            <a:xfrm>
              <a:off x="3308400" y="3791880"/>
              <a:ext cx="248040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предполагаемого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использования 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133130"/>
            <p:cNvSpPr/>
            <p:nvPr/>
          </p:nvSpPr>
          <p:spPr>
            <a:xfrm>
              <a:off x="6193800" y="3791880"/>
              <a:ext cx="248112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остатка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для земли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сравнительного подход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24000" y="1483560"/>
            <a:ext cx="8410320" cy="3850920"/>
            <a:chOff x="324000" y="1483560"/>
            <a:chExt cx="8410320" cy="3850920"/>
          </a:xfrm>
        </p:grpSpPr>
        <p:cxnSp>
          <p:nvCxnSpPr>
            <p:cNvPr id="193" name="_s134149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425200" y="1590480"/>
              <a:ext cx="1162440" cy="2947320"/>
            </a:xfrm>
            <a:prstGeom prst="bentConnector3">
              <a:avLst>
                <a:gd name="adj1" fmla="val 98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6" name="_s134150"/>
            <p:cNvCxnSpPr>
              <a:stCxn id="197" idx="0"/>
              <a:endCxn id="195" idx="2"/>
            </p:cNvCxnSpPr>
            <p:nvPr/>
          </p:nvCxnSpPr>
          <p:spPr>
            <a:xfrm flipV="1">
              <a:off x="4533120" y="2482560"/>
              <a:ext cx="3240" cy="2025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8" name="_s134151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2474280" y="1586160"/>
              <a:ext cx="1162440" cy="2955960"/>
            </a:xfrm>
            <a:prstGeom prst="bentConnector3">
              <a:avLst>
                <a:gd name="adj1" fmla="val 98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95" name="_s134152"/>
            <p:cNvSpPr/>
            <p:nvPr/>
          </p:nvSpPr>
          <p:spPr>
            <a:xfrm>
              <a:off x="3276720" y="1483560"/>
              <a:ext cx="2511000" cy="99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равнительны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одхо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34153"/>
            <p:cNvSpPr/>
            <p:nvPr/>
          </p:nvSpPr>
          <p:spPr>
            <a:xfrm>
              <a:off x="324000" y="3645000"/>
              <a:ext cx="25081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равнен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прода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34154"/>
            <p:cNvSpPr/>
            <p:nvPr/>
          </p:nvSpPr>
          <p:spPr>
            <a:xfrm>
              <a:off x="3276720" y="4507560"/>
              <a:ext cx="2511000" cy="82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распреде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34155"/>
            <p:cNvSpPr/>
            <p:nvPr/>
          </p:nvSpPr>
          <p:spPr>
            <a:xfrm>
              <a:off x="6228720" y="3645000"/>
              <a:ext cx="2505600" cy="826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выде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Примеры оценки стоимости земли        сельскохозяйственного назна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324000" y="907920"/>
          <a:ext cx="8567640" cy="5338800"/>
        </p:xfrm>
        <a:graphic>
          <a:graphicData uri="http://schemas.openxmlformats.org/drawingml/2006/table">
            <a:tbl>
              <a:tblPr/>
              <a:tblGrid>
                <a:gridCol w="4103640"/>
                <a:gridCol w="4464000"/>
              </a:tblGrid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факт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и на 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. Условия финансир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0000(1-0,06)=28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. Дата прода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+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8200(1+0,05)=296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а на не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. Местопо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. Удоб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 Топ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бщая корректировка на не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объекта-аналога, если он обладал характеристиками оцениваемого 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9610(1-0,2)=236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55280" y="189000"/>
            <a:ext cx="77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Расчёт стоимости земли методом сравнения прода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ценка недвижимости/ Под ред. А.Г. Грязновой. – М.: Финансы и статистика,  2003. – С. 236-2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жораев В.О. Оценка бизнеса: Учебно–методическое пособие – Оренбург, ОГАУ, 2004. – 42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Экономическая оценка земли/ Под ред. Руденко Н.Р. – М.: ВНИИЭСХ, 2005. – 210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79280" y="2492280"/>
          <a:ext cx="8713800" cy="3333960"/>
        </p:xfrm>
        <a:graphic>
          <a:graphicData uri="http://schemas.openxmlformats.org/drawingml/2006/table">
            <a:tbl>
              <a:tblPr/>
              <a:tblGrid>
                <a:gridCol w="496800"/>
                <a:gridCol w="2760480"/>
                <a:gridCol w="1538640"/>
                <a:gridCol w="39178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Цена земельного участка с улучшениями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оля земли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земли, руб./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20 000*0,32=134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50 000*0,17=144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00 000*0,15=15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свободного земельного (134400+144500+150000)/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43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19120" y="431640"/>
            <a:ext cx="80136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Расчёт рыночной стоимости зем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методом рас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Пример 1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50920" y="1484280"/>
          <a:ext cx="8678880" cy="3697200"/>
        </p:xfrm>
        <a:graphic>
          <a:graphicData uri="http://schemas.openxmlformats.org/drawingml/2006/table">
            <a:tbl>
              <a:tblPr/>
              <a:tblGrid>
                <a:gridCol w="461880"/>
                <a:gridCol w="2779560"/>
                <a:gridCol w="1943280"/>
                <a:gridCol w="3494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Цена объекта недвижимости (земельного участка с улучшениями)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улучшений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Отношение стоимости улучшений к стоимости 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реднее значе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свободного земельного участка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(1-0,75)*500000/0,75=167000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3564000" y="476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Пример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00"/>
                            </p:stCondLst>
                            <p:childTnLst>
                              <p:par>
                                <p:cTn id="5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468360" y="1773360"/>
          <a:ext cx="8451720" cy="4627440"/>
        </p:xfrm>
        <a:graphic>
          <a:graphicData uri="http://schemas.openxmlformats.org/drawingml/2006/table">
            <a:tbl>
              <a:tblPr/>
              <a:tblGrid>
                <a:gridCol w="1368360"/>
                <a:gridCol w="2087640"/>
                <a:gridCol w="2736720"/>
                <a:gridCol w="2259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Цена предложения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гнозируемый чистый операционный доход, руб./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эффициент капит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6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1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5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70 7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9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 126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97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9 8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150560" y="212760"/>
            <a:ext cx="7368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Оценка рыночной стоимости земл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методом остат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Таблица 1.- Определение величины коэффициен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капитализации для улучш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360"/>
                            </p:stCondLst>
                            <p:childTnLst>
                              <p:par>
                                <p:cTn id="5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395280" y="1916280"/>
          <a:ext cx="8280360" cy="4081320"/>
        </p:xfrm>
        <a:graphic>
          <a:graphicData uri="http://schemas.openxmlformats.org/drawingml/2006/table">
            <a:tbl>
              <a:tblPr/>
              <a:tblGrid>
                <a:gridCol w="792000"/>
                <a:gridCol w="5905800"/>
                <a:gridCol w="15825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Элемент анал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Общий чистый операционный доход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25 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улучшений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 228 1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эффициент капитализации для улучш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2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Чистый операционный доход, относящийся к улучшениям (стр. 2*стр. 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48 0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Чистый операционный доход, относящийся к земле (стр. 1 – стр. 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77 6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1332000" y="40464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Таблица 2. - Расчёт величины чистого операционного доход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относящегося к земельному участку</a:t>
            </a:r>
            <a:r>
              <a:rPr b="0" lang="en-US" sz="2200" spc="-1" strike="noStrike">
                <a:solidFill>
                  <a:srgbClr val="ffcc66"/>
                </a:solidFill>
                <a:latin typeface="Arial Black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11280" y="2060640"/>
          <a:ext cx="8137440" cy="3095640"/>
        </p:xfrm>
        <a:graphic>
          <a:graphicData uri="http://schemas.openxmlformats.org/drawingml/2006/table">
            <a:tbl>
              <a:tblPr/>
              <a:tblGrid>
                <a:gridCol w="1081080"/>
                <a:gridCol w="5543640"/>
                <a:gridCol w="151272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Элемент анал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Чистый операционный доход, относящийся к земле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77 6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эффициент капитализации дохода от зем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ыночная стоимость земли, руб. (стр.1:стр.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 986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1648440" y="476280"/>
            <a:ext cx="63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Таблица 3. - Итоговый расчёт стоим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земельного учас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95280" y="765000"/>
          <a:ext cx="8229600" cy="5927760"/>
        </p:xfrm>
        <a:graphic>
          <a:graphicData uri="http://schemas.openxmlformats.org/drawingml/2006/table">
            <a:tbl>
              <a:tblPr/>
              <a:tblGrid>
                <a:gridCol w="1828800"/>
                <a:gridCol w="522360"/>
                <a:gridCol w="588960"/>
                <a:gridCol w="520560"/>
                <a:gridCol w="523800"/>
                <a:gridCol w="522360"/>
                <a:gridCol w="587520"/>
                <a:gridCol w="522000"/>
                <a:gridCol w="524160"/>
                <a:gridCol w="520560"/>
                <a:gridCol w="523800"/>
                <a:gridCol w="520920"/>
                <a:gridCol w="523800"/>
              </a:tblGrid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Затраты на строитель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обремен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рендная плата за зем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оходы от продажи кварт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оходы (+), расходы (-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1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2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авка дискон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1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Фактор дискон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9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6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исконтирован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ный денежный пот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1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20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78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7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69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07,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5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3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29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2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1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того сум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1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625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Пример расчета методом предполагаемого использования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7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539640" y="2708280"/>
          <a:ext cx="8136000" cy="1714320"/>
        </p:xfrm>
        <a:graphic>
          <a:graphicData uri="http://schemas.openxmlformats.org/drawingml/2006/table">
            <a:tbl>
              <a:tblPr/>
              <a:tblGrid>
                <a:gridCol w="431640"/>
                <a:gridCol w="4992840"/>
                <a:gridCol w="2711520"/>
              </a:tblGrid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Годовая рента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0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 = 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ыночная стоимость земельного участка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00 : 0,1 = 4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2207160" y="731880"/>
            <a:ext cx="5068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imes New Roman"/>
              </a:rPr>
              <a:t>Оценка стоимости земли методом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imes New Roman"/>
              </a:rPr>
              <a:t>капитализации земельной рен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Особенности оценки стоимости земель сельскохозяйственного назначения. Объекты оц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Основные факторы, оказывающие влияние на стоимость земли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риродно-климатические услов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Тип землепользования и направление ведения сельскохозяйственного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труктура посевных площадей и преобладающие системы севооборо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Виды сельскохозяйственных угодий и производимых товарных культу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лодородие, технологические свойства и другие характеристики качества почв и рельеф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Основные факторы (продолжение)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Урожайность основных товарных культу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Местоположение относительно рынков сбы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Улучшения, произведенные с сельскохозяйственными угодь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анятость населения и другие социально-демографические особ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Цены на ГСМ и сельскохозяйственную техник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Инфраструктура хозяй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тличия, которые необходимо учитывать при оценке земель сельскохозяйственного назнач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определении структуры  и состава издержек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определении статей дохода и способов его оцен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применении принципа наиболее эффективного использования, через выбор технологий ведения сельскохозяйственного производства, системы севооборотов, обеспечивающих получение максимального доход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критериях отбора объектов аналогов и элементов сравн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собенности, которые необходимо учитывать при проведении оценки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Необходимость поддержания почвенного плодородия сельскохозяйственных угод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Прямая зависимость структуры сельскохозяйственных угодий от физико-географических характеристик мест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ысокие риски ведения производства, обусловленные природными факторам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лияние на доходы производства колебания цен на сельскохозяйственную продукцию, ГСМ, сельскохозяйственную техник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Сезонный характер сельскохозяйственного производства и цен на рынк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Диспаритет цен на сельскохозяйственную и промышленную продукцию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Невысокая плотность насел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Степень развития инфраструктуры и д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71640" y="1557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76800" y="3645000"/>
            <a:ext cx="368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стоимости зем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0640" y="3645000"/>
            <a:ext cx="357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Качественная оцен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земель по природ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свойств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195640" y="2205000"/>
            <a:ext cx="20160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205000"/>
            <a:ext cx="18716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18000" y="1197000"/>
            <a:ext cx="56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Оценка сельскохозяйстве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угод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300"/>
                            </p:stCondLst>
                            <p:childTnLst>
                              <p:par>
                                <p:cTn id="2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3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300"/>
                            </p:stCondLst>
                            <p:childTnLst>
                              <p:par>
                                <p:cTn id="2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3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0:18:03Z</dcterms:created>
  <dc:creator>Джораев </dc:creator>
  <dc:description/>
  <dc:language>en-US</dc:language>
  <cp:lastModifiedBy>Джораев В.О.</cp:lastModifiedBy>
  <dcterms:modified xsi:type="dcterms:W3CDTF">2007-02-15T17:00:20Z</dcterms:modified>
  <cp:revision>18</cp:revision>
  <dc:subject/>
  <dc:title>ТЕМА: ОЦЕНКА СТОИМОСТИ ЗЕМЕЛЬ СЕЛЬСКОХОЗЯЙСТВЕННОГО НАЗНАЧЕНИЯ</dc:title>
</cp:coreProperties>
</file>