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1DA-D483-4003-A90E-14BA7121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A95-AA7B-4DCA-AFBE-AA4106C6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AAF-1A51-49BE-9A8D-1F1C9053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BB0-BFB9-4C7B-9356-CC17B8C0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1BD0D-1A27-4938-9F4F-B5BE649A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E75FB-FB06-4C09-8356-5710D73C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2CFE1-6C5C-45AA-8297-305EABE2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B3938-87D3-4952-A596-9D851FA2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C0E67-AEBA-4BC1-AE0E-2C8FCF97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9379A-EF7B-43A3-B571-F732FE22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551A1-7972-4006-9BC0-30E91C9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050-3111-4F36-A70A-2C5A3E6E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A35D8-A0EF-49AB-AE7A-2D044CD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A6ED1-BACF-4F6F-928D-C9845BE8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4E272-1935-4D45-B11E-F1C8CFB7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08BFC-2C59-41F3-81B0-209116A5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2E3CC-BA58-42C4-81C3-7860FB03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0DA-6817-4BE9-BBCC-3A0ABAC8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74F-FB15-42E7-ACEA-81D83B0F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2D9-6879-4252-B18A-01F6D3E8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A3E-6DED-4C44-A7E8-E4024F6C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337-8E8D-4562-B5DD-F97C9C8A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89F-B0D3-400A-A02E-82DA168A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3C5-45C9-4127-B9ED-0E13C03C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6EAF-B202-4354-922A-16FC156B69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F4A4-9D53-4027-A87C-766BA2E7B9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Тема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СУЩНОСТЬ И ОБЩАЯ КЛАССИФИКАЦИЯ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общих социальных отношен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о обитания людей всех покол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ловие жизн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осполняемый природный ресу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чник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нный базис размещения других о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щается на благо всех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свободы и независимости люд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стижность вла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а гордости и сла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функциональное 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словие формирования среднего слоя общ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Компоненты недвижимости в зарубежной практике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523880"/>
            <a:ext cx="6934320" cy="4191120"/>
          </a:xfrm>
          <a:custGeom>
            <a:avLst/>
            <a:gdLst>
              <a:gd name="textAreaLeft" fmla="*/ 1524960 w 6934320"/>
              <a:gd name="textAreaRight" fmla="*/ 5409360 w 6934320"/>
              <a:gd name="textAreaTop" fmla="*/ 921600 h 4191120"/>
              <a:gd name="textAreaBottom" fmla="*/ 3269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523880"/>
            <a:ext cx="160020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866920" y="1523880"/>
            <a:ext cx="175284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1905120"/>
            <a:ext cx="56386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05120"/>
            <a:ext cx="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2860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743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200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50292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486400"/>
            <a:ext cx="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743200"/>
            <a:ext cx="4952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124080"/>
            <a:ext cx="472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09880" y="2743200"/>
            <a:ext cx="990720" cy="3048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2819520"/>
            <a:ext cx="914400" cy="2895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1240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3623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3716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мплекс прав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46480" y="1793880"/>
            <a:ext cx="47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здушное                  простран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2362320"/>
            <a:ext cx="44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роения                     стро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63760" y="27432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ельные                   учас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6200" y="312408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ра                    нед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36576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24280" y="36576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езные ископ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00760" y="4765680"/>
            <a:ext cx="9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ем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4173600">
            <a:off x="1217880" y="3275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784200">
            <a:off x="6309720" y="32137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е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новные признаки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62120" y="1371600"/>
            <a:ext cx="7771320" cy="3885120"/>
            <a:chOff x="762120" y="1371600"/>
            <a:chExt cx="7771320" cy="3885120"/>
          </a:xfrm>
        </p:grpSpPr>
        <p:cxnSp>
          <p:nvCxnSpPr>
            <p:cNvPr id="192" name="_s43019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305680" y="2268000"/>
              <a:ext cx="777600" cy="209196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43018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3212640" y="2267280"/>
              <a:ext cx="777600" cy="2093400"/>
            </a:xfrm>
            <a:prstGeom prst="bentConnector3">
              <a:avLst>
                <a:gd name="adj1" fmla="val 2079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4" name="_s43014"/>
            <p:cNvSpPr/>
            <p:nvPr/>
          </p:nvSpPr>
          <p:spPr>
            <a:xfrm>
              <a:off x="2854800" y="1371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Признаки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43015"/>
            <p:cNvSpPr/>
            <p:nvPr/>
          </p:nvSpPr>
          <p:spPr>
            <a:xfrm>
              <a:off x="76212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Сущностные 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(родов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43016"/>
            <p:cNvSpPr/>
            <p:nvPr/>
          </p:nvSpPr>
          <p:spPr>
            <a:xfrm>
              <a:off x="4946760" y="3702600"/>
              <a:ext cx="3586680" cy="1554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Видовые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(частные)</a:t>
              </a:r>
              <a:endParaRPr b="0" lang="en-US" sz="5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Сущностные (родовые признаки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Связь с землё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Форма функционир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Состояние потребительской формы в процессе использ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5" action="ppaction://hlinksldjump"/>
              </a:rPr>
              <a:t>Длительность кругооборота (долговечность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6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ffcc"/>
                </a:solidFill>
                <a:uFillTx/>
                <a:latin typeface="Arial"/>
                <a:hlinkClick r:id="rId7" action="ppaction://hlinksldjump"/>
              </a:rPr>
              <a:t>Общественное значен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38080" y="6094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тепень подвижности</a:t>
            </a: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2" action="ppaction://hlinksldjump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солютная недвижимость, неперемещаемость в пространстве без ущерба функциональному назна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вязь с землё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чная физическая и юрид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орма функционир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турально-вещественная и стоимост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остояние потребительской формы в процессе использов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потребляется, сохраняется натуральная форма в течении всего срока эксплуа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Длительность кругооборота (долговечность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кратное использование, а земли – бесконечно при правильном использов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Способ переноса стоимости в производственном процессе или потери потребительских свой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тепенно по мере износа и накопления амортизационных отчисл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мыкин, Бугулов. Экономика недвижимости. – М.: Филин,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ка недвижимости/ Под ред. Грязновой Г.А. – М.: Финансы и статистика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ссаул Экономика недвижимости. – М.: Филин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щественное знач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льзование объектом часто затрагивает интересы многих граждан и других собственников, интересы которых защищаются государ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Видовые (частные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 (местоположение, функциональное назначение, состояние и др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хнические и технологические характерис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яются конкретными частными показателями в зависимости от вида недвижимости и целесообразности распространения особого режима использования на другое имущество. Неразрывное единство с функциональным назнач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онятие о классификации недвижимого имущества (вещей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600200"/>
            <a:ext cx="8228880" cy="4494600"/>
            <a:chOff x="457200" y="1600200"/>
            <a:chExt cx="8228880" cy="4494600"/>
          </a:xfrm>
        </p:grpSpPr>
        <p:cxnSp>
          <p:nvCxnSpPr>
            <p:cNvPr id="213" name="_s5838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5561640" y="240660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6" name="_s58381"/>
            <p:cNvCxnSpPr>
              <a:stCxn id="217" idx="0"/>
              <a:endCxn id="215" idx="2"/>
            </p:cNvCxnSpPr>
            <p:nvPr/>
          </p:nvCxnSpPr>
          <p:spPr>
            <a:xfrm flipV="1">
              <a:off x="4571280" y="3397320"/>
              <a:ext cx="3240" cy="899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18" name="_s58380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681640" y="2406960"/>
              <a:ext cx="899640" cy="288072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5" name="_s58376"/>
            <p:cNvSpPr/>
            <p:nvPr/>
          </p:nvSpPr>
          <p:spPr>
            <a:xfrm>
              <a:off x="3337200" y="16002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Классификац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(общая, частная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58377"/>
            <p:cNvSpPr/>
            <p:nvPr/>
          </p:nvSpPr>
          <p:spPr>
            <a:xfrm>
              <a:off x="45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Объект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_s58378"/>
            <p:cNvSpPr/>
            <p:nvPr/>
          </p:nvSpPr>
          <p:spPr>
            <a:xfrm>
              <a:off x="333720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Признак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58379"/>
            <p:cNvSpPr/>
            <p:nvPr/>
          </p:nvSpPr>
          <p:spPr>
            <a:xfrm>
              <a:off x="6217560" y="42969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ания и соору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ельные учас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са и многолетние насаж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астки нед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ные объе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рия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равненные предм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ущественные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ые ве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Признак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ункциональны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пита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оитель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рок служ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сти констру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ичество комн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об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ые призн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" y="1600200"/>
            <a:ext cx="8228520" cy="4494600"/>
            <a:chOff x="457200" y="1600200"/>
            <a:chExt cx="8228520" cy="4494600"/>
          </a:xfrm>
        </p:grpSpPr>
        <p:cxnSp>
          <p:nvCxnSpPr>
            <p:cNvPr id="226" name="_s62477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5229360" y="2739240"/>
              <a:ext cx="899640" cy="221544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9" name="_s62476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3013560" y="2739240"/>
              <a:ext cx="899640" cy="2216160"/>
            </a:xfrm>
            <a:prstGeom prst="bentConnector3">
              <a:avLst>
                <a:gd name="adj1" fmla="val 1389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28" name="_s62472"/>
            <p:cNvSpPr/>
            <p:nvPr/>
          </p:nvSpPr>
          <p:spPr>
            <a:xfrm>
              <a:off x="2673000" y="16002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Методы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62473"/>
            <p:cNvSpPr/>
            <p:nvPr/>
          </p:nvSpPr>
          <p:spPr>
            <a:xfrm>
              <a:off x="45720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иерархически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62474"/>
            <p:cNvSpPr/>
            <p:nvPr/>
          </p:nvSpPr>
          <p:spPr>
            <a:xfrm>
              <a:off x="4888080" y="42969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фасетные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Times New Roman"/>
              </a:rPr>
              <a:t>Общая классификация объектов недвижимости фасетным методом по различным признака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изнак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ункциональное назна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схождение (воспроизводимость в натуральной форм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епень готовности к эксплуа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а собств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раслевая принадлеж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можность приват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685800"/>
            <a:ext cx="7162200" cy="4799160"/>
            <a:chOff x="1143000" y="685800"/>
            <a:chExt cx="7162200" cy="4799160"/>
          </a:xfrm>
        </p:grpSpPr>
        <p:cxnSp>
          <p:nvCxnSpPr>
            <p:cNvPr id="234" name="_s67616"/>
            <p:cNvCxnSpPr>
              <a:stCxn id="235" idx="0"/>
              <a:endCxn id="236" idx="2"/>
            </p:cNvCxnSpPr>
            <p:nvPr/>
          </p:nvCxnSpPr>
          <p:spPr>
            <a:xfrm flipV="1" rot="16200000">
              <a:off x="5208120" y="2120760"/>
              <a:ext cx="960480" cy="192852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7" name="_s67615"/>
            <p:cNvCxnSpPr>
              <a:stCxn id="238" idx="0"/>
              <a:endCxn id="236" idx="2"/>
            </p:cNvCxnSpPr>
            <p:nvPr/>
          </p:nvCxnSpPr>
          <p:spPr>
            <a:xfrm flipH="1" flipV="1" rot="5400000">
              <a:off x="3279600" y="2120400"/>
              <a:ext cx="960480" cy="1929240"/>
            </a:xfrm>
            <a:prstGeom prst="bentConnector3">
              <a:avLst>
                <a:gd name="adj1" fmla="val 2080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6" name="_s67611"/>
            <p:cNvSpPr/>
            <p:nvPr/>
          </p:nvSpPr>
          <p:spPr>
            <a:xfrm>
              <a:off x="3071520" y="68580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ункционально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назнач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_s67612"/>
            <p:cNvSpPr/>
            <p:nvPr/>
          </p:nvSpPr>
          <p:spPr>
            <a:xfrm>
              <a:off x="114300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_s67613"/>
            <p:cNvSpPr/>
            <p:nvPr/>
          </p:nvSpPr>
          <p:spPr>
            <a:xfrm>
              <a:off x="4999680" y="3565440"/>
              <a:ext cx="3305520" cy="1919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производ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Вопрос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650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Понятия и признаки недвижимост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1143000" y="762120"/>
            <a:ext cx="7009200" cy="5331960"/>
            <a:chOff x="1143000" y="762120"/>
            <a:chExt cx="7009200" cy="5331960"/>
          </a:xfrm>
        </p:grpSpPr>
        <p:cxnSp>
          <p:nvCxnSpPr>
            <p:cNvPr id="240" name="_s70667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5058000" y="2484000"/>
              <a:ext cx="1067040" cy="188748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3" name="_s70666"/>
            <p:cNvCxnSpPr>
              <a:stCxn id="244" idx="0"/>
              <a:endCxn id="242" idx="2"/>
            </p:cNvCxnSpPr>
            <p:nvPr/>
          </p:nvCxnSpPr>
          <p:spPr>
            <a:xfrm flipH="1" flipV="1" rot="5400000">
              <a:off x="3170520" y="2483640"/>
              <a:ext cx="1067040" cy="1888200"/>
            </a:xfrm>
            <a:prstGeom prst="bentConnector3">
              <a:avLst>
                <a:gd name="adj1" fmla="val 20789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2" name="_s70662"/>
            <p:cNvSpPr/>
            <p:nvPr/>
          </p:nvSpPr>
          <p:spPr>
            <a:xfrm>
              <a:off x="3030480" y="76212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Происхождени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70663"/>
            <p:cNvSpPr/>
            <p:nvPr/>
          </p:nvSpPr>
          <p:spPr>
            <a:xfrm>
              <a:off x="114300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Не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_s70664"/>
            <p:cNvSpPr/>
            <p:nvPr/>
          </p:nvSpPr>
          <p:spPr>
            <a:xfrm>
              <a:off x="4917240" y="3961440"/>
              <a:ext cx="3234960" cy="21326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Воспроизводим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457200" y="228600"/>
            <a:ext cx="8228520" cy="5865480"/>
            <a:chOff x="457200" y="228600"/>
            <a:chExt cx="8228520" cy="5865480"/>
          </a:xfrm>
        </p:grpSpPr>
        <p:cxnSp>
          <p:nvCxnSpPr>
            <p:cNvPr id="246" name="_s71697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5092560" y="2053080"/>
              <a:ext cx="1173600" cy="221544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49" name="_s71696"/>
            <p:cNvCxnSpPr>
              <a:stCxn id="250" idx="0"/>
              <a:endCxn id="248" idx="2"/>
            </p:cNvCxnSpPr>
            <p:nvPr/>
          </p:nvCxnSpPr>
          <p:spPr>
            <a:xfrm flipH="1" flipV="1" rot="5400000">
              <a:off x="2876400" y="2053080"/>
              <a:ext cx="1173600" cy="2216160"/>
            </a:xfrm>
            <a:prstGeom prst="bentConnector3">
              <a:avLst>
                <a:gd name="adj1" fmla="val 1040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48" name="_s71692"/>
            <p:cNvSpPr/>
            <p:nvPr/>
          </p:nvSpPr>
          <p:spPr>
            <a:xfrm>
              <a:off x="2673000" y="22860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Степень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готовност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Times New Roman"/>
                </a:rPr>
                <a:t>к эксплуатации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71693"/>
            <p:cNvSpPr/>
            <p:nvPr/>
          </p:nvSpPr>
          <p:spPr>
            <a:xfrm>
              <a:off x="45720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Введённые в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71694"/>
            <p:cNvSpPr/>
            <p:nvPr/>
          </p:nvSpPr>
          <p:spPr>
            <a:xfrm>
              <a:off x="4888080" y="3747960"/>
              <a:ext cx="3797640" cy="2346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Незавершённые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строительство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52" name="_s74769"/>
            <p:cNvCxnSpPr>
              <a:stCxn id="253" idx="1"/>
              <a:endCxn id="254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5" name="_s74767"/>
            <p:cNvCxnSpPr>
              <a:stCxn id="256" idx="1"/>
              <a:endCxn id="254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7" name="_s74764"/>
            <p:cNvCxnSpPr>
              <a:stCxn id="258" idx="1"/>
              <a:endCxn id="254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59" name="_s74763"/>
            <p:cNvCxnSpPr>
              <a:stCxn id="260" idx="1"/>
              <a:endCxn id="254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1" name="_s74762"/>
            <p:cNvCxnSpPr>
              <a:stCxn id="262" idx="1"/>
              <a:endCxn id="254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54" name="_s74758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Форма собственност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_s74759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Ча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_s74760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Государствен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_s74761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ые совмест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_s74766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Коллективно-доле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74768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Общественных организаци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457200" y="228600"/>
            <a:ext cx="8228160" cy="5866920"/>
            <a:chOff x="457200" y="228600"/>
            <a:chExt cx="8228160" cy="5866920"/>
          </a:xfrm>
        </p:grpSpPr>
        <p:cxnSp>
          <p:nvCxnSpPr>
            <p:cNvPr id="264" name="_s76818"/>
            <p:cNvCxnSpPr>
              <a:stCxn id="265" idx="1"/>
              <a:endCxn id="266" idx="2"/>
            </p:cNvCxnSpPr>
            <p:nvPr/>
          </p:nvCxnSpPr>
          <p:spPr>
            <a:xfrm rot="10800000">
              <a:off x="2925000" y="918000"/>
              <a:ext cx="823320" cy="4832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7" name="_s76816"/>
            <p:cNvCxnSpPr>
              <a:stCxn id="268" idx="1"/>
              <a:endCxn id="266" idx="2"/>
            </p:cNvCxnSpPr>
            <p:nvPr/>
          </p:nvCxnSpPr>
          <p:spPr>
            <a:xfrm rot="10800000">
              <a:off x="2925000" y="918000"/>
              <a:ext cx="823320" cy="3796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69" name="_s76813"/>
            <p:cNvCxnSpPr>
              <a:stCxn id="270" idx="1"/>
              <a:endCxn id="266" idx="2"/>
            </p:cNvCxnSpPr>
            <p:nvPr/>
          </p:nvCxnSpPr>
          <p:spPr>
            <a:xfrm rot="10800000">
              <a:off x="2925000" y="918000"/>
              <a:ext cx="823320" cy="2761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1" name="_s76812"/>
            <p:cNvCxnSpPr>
              <a:stCxn id="272" idx="1"/>
              <a:endCxn id="266" idx="2"/>
            </p:cNvCxnSpPr>
            <p:nvPr/>
          </p:nvCxnSpPr>
          <p:spPr>
            <a:xfrm rot="10800000">
              <a:off x="2925000" y="918000"/>
              <a:ext cx="823320" cy="1726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3" name="_s76811"/>
            <p:cNvCxnSpPr>
              <a:stCxn id="274" idx="1"/>
              <a:endCxn id="266" idx="2"/>
            </p:cNvCxnSpPr>
            <p:nvPr/>
          </p:nvCxnSpPr>
          <p:spPr>
            <a:xfrm rot="10800000">
              <a:off x="2925000" y="918000"/>
              <a:ext cx="823320" cy="690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66" name="_s76807"/>
            <p:cNvSpPr/>
            <p:nvPr/>
          </p:nvSpPr>
          <p:spPr>
            <a:xfrm>
              <a:off x="457200" y="2286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Отраслевая принадлежность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76808"/>
            <p:cNvSpPr/>
            <p:nvPr/>
          </p:nvSpPr>
          <p:spPr>
            <a:xfrm>
              <a:off x="3748320" y="126396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ромышл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76809"/>
            <p:cNvSpPr/>
            <p:nvPr/>
          </p:nvSpPr>
          <p:spPr>
            <a:xfrm>
              <a:off x="3748320" y="229932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троите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76810"/>
            <p:cNvSpPr/>
            <p:nvPr/>
          </p:nvSpPr>
          <p:spPr>
            <a:xfrm>
              <a:off x="3748320" y="333468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Сельскохозяйствен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76815"/>
            <p:cNvSpPr/>
            <p:nvPr/>
          </p:nvSpPr>
          <p:spPr>
            <a:xfrm>
              <a:off x="3748320" y="437004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Жилищно-коммун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_s76817"/>
            <p:cNvSpPr/>
            <p:nvPr/>
          </p:nvSpPr>
          <p:spPr>
            <a:xfrm>
              <a:off x="3748320" y="5405400"/>
              <a:ext cx="4937040" cy="6901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Культурно-бытовые и др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685800" y="1531800"/>
            <a:ext cx="7999920" cy="4639680"/>
            <a:chOff x="685800" y="1531800"/>
            <a:chExt cx="7999920" cy="4639680"/>
          </a:xfrm>
        </p:grpSpPr>
        <p:cxnSp>
          <p:nvCxnSpPr>
            <p:cNvPr id="276" name="_s78860"/>
            <p:cNvCxnSpPr>
              <a:stCxn id="277" idx="1"/>
              <a:endCxn id="278" idx="2"/>
            </p:cNvCxnSpPr>
            <p:nvPr/>
          </p:nvCxnSpPr>
          <p:spPr>
            <a:xfrm rot="10800000">
              <a:off x="3084840" y="2374920"/>
              <a:ext cx="800640" cy="337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79" name="_s78859"/>
            <p:cNvCxnSpPr>
              <a:stCxn id="280" idx="1"/>
              <a:endCxn id="278" idx="2"/>
            </p:cNvCxnSpPr>
            <p:nvPr/>
          </p:nvCxnSpPr>
          <p:spPr>
            <a:xfrm rot="10800000">
              <a:off x="3084840" y="2374920"/>
              <a:ext cx="800640" cy="21096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81" name="_s78858"/>
            <p:cNvCxnSpPr>
              <a:stCxn id="282" idx="1"/>
              <a:endCxn id="278" idx="2"/>
            </p:cNvCxnSpPr>
            <p:nvPr/>
          </p:nvCxnSpPr>
          <p:spPr>
            <a:xfrm rot="10800000">
              <a:off x="3084840" y="2374920"/>
              <a:ext cx="800640" cy="844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78" name="_s78854"/>
            <p:cNvSpPr/>
            <p:nvPr/>
          </p:nvSpPr>
          <p:spPr>
            <a:xfrm>
              <a:off x="685800" y="15318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Возможность приватизаци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_s78855"/>
            <p:cNvSpPr/>
            <p:nvPr/>
          </p:nvSpPr>
          <p:spPr>
            <a:xfrm>
              <a:off x="3885840" y="27972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Запрещённ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_s78856"/>
            <p:cNvSpPr/>
            <p:nvPr/>
          </p:nvSpPr>
          <p:spPr>
            <a:xfrm>
              <a:off x="3885840" y="40626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По решению Правительства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_s78857"/>
            <p:cNvSpPr/>
            <p:nvPr/>
          </p:nvSpPr>
          <p:spPr>
            <a:xfrm>
              <a:off x="3885840" y="5328000"/>
              <a:ext cx="4799880" cy="84348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Свободно приватизируемые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ример общей классификации зданий фасетным методом по одному признак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2209680"/>
            <a:ext cx="228600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Зд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4038480"/>
            <a:ext cx="22096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л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59092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ля коммерческ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038480"/>
            <a:ext cx="2438280" cy="6858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ециа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обществен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2895480"/>
            <a:ext cx="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5" idx="0"/>
            <a:endCxn id="287" idx="0"/>
          </p:cNvCxnSpPr>
          <p:nvPr/>
        </p:nvCxnSpPr>
        <p:spPr>
          <a:xfrm flipH="1" rot="16200000">
            <a:off x="4323240" y="1123560"/>
            <a:ext cx="2520" cy="5829840"/>
          </a:xfrm>
          <a:prstGeom prst="bentConnector3">
            <a:avLst>
              <a:gd name="adj1" fmla="val -14400000"/>
            </a:avLst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sp>
        <p:nvSpPr>
          <p:cNvPr id="290" name=""/>
          <p:cNvSpPr/>
          <p:nvPr/>
        </p:nvSpPr>
        <p:spPr>
          <a:xfrm>
            <a:off x="2652840" y="324180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ев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9400" y="324180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на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изнаки классификации недвижимости по уровням управл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85800" y="1981080"/>
          <a:ext cx="7772400" cy="4232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однохозяйствен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он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к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собств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роизводимость в натуральной фор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аслевая принадле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рриториальное размещ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ое на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требление свойств (удобств) предм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3e3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чник дох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12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 готовности к эксплуат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666880"/>
            <a:ext cx="1600200" cy="152424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дв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2441520"/>
            <a:ext cx="1447920" cy="205740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8320" y="270828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ла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00280" y="3470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с-и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2239920"/>
            <a:ext cx="17528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ез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д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ранич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пита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ёмк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2239920"/>
            <a:ext cx="114300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69280" y="2239920"/>
            <a:ext cx="1522440" cy="225900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47880" y="3429000"/>
            <a:ext cx="314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316548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00800" y="3657600"/>
            <a:ext cx="685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93432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309720" y="2570040"/>
            <a:ext cx="9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73640" y="3733920"/>
            <a:ext cx="119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001000" y="316548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01000" y="365760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153280" y="316548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8458200" y="3165120"/>
            <a:ext cx="0" cy="492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71800" y="259704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то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10280" y="36990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34290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591000" y="2441160"/>
            <a:ext cx="447480" cy="266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733920" y="3027240"/>
            <a:ext cx="304560" cy="138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733920" y="3276720"/>
            <a:ext cx="30456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3733920"/>
            <a:ext cx="30456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27082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316548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36576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1320" y="4156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Взаимосвязь потребительских и инвестиционных свойств недвижимости как товара</a:t>
            </a:r>
            <a:endParaRPr b="0" lang="en-US" sz="33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0920" y="1905120"/>
          <a:ext cx="8569080" cy="4038480"/>
        </p:xfrm>
        <a:graphic>
          <a:graphicData uri="http://schemas.openxmlformats.org/drawingml/2006/table">
            <a:tbl>
              <a:tblPr/>
              <a:tblGrid>
                <a:gridCol w="2143080"/>
                <a:gridCol w="1962000"/>
                <a:gridCol w="2160720"/>
                <a:gridCol w="2303280"/>
              </a:tblGrid>
              <a:tr h="807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ар - недвиж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а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вести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ез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д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н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талоемкость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р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лан лекц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нятия и признаки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щая классификация объектов недвижим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обенности недвижимости как това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пецифические свойства земл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а функционирования в сфере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епень подви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ительность хозяйственного кругообор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зможность сервиту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ормирование потребительск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ояние потребительской формы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нос в процессе 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стоимости во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заимозаменяе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ротоспособность на рын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ый способ распоряжения землё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бщие потребности, удовлетворяемые землёй как товаром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23000" y="2084400"/>
            <a:ext cx="4316400" cy="4289760"/>
            <a:chOff x="2223000" y="2084400"/>
            <a:chExt cx="4316400" cy="4289760"/>
          </a:xfrm>
        </p:grpSpPr>
        <p:sp>
          <p:nvSpPr>
            <p:cNvPr id="335" name="_s96262"/>
            <p:cNvSpPr/>
            <p:nvPr/>
          </p:nvSpPr>
          <p:spPr>
            <a:xfrm flipV="1">
              <a:off x="3950280" y="2084040"/>
              <a:ext cx="862200" cy="857880"/>
            </a:xfrm>
            <a:custGeom>
              <a:avLst/>
              <a:gdLst>
                <a:gd name="textAreaLeft" fmla="*/ 309240 w 862200"/>
                <a:gd name="textAreaRight" fmla="*/ 552960 w 862200"/>
                <a:gd name="textAreaTop" fmla="*/ 307800 h 857880"/>
                <a:gd name="textAreaBottom" fmla="*/ 5500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. Базов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96266"/>
            <p:cNvSpPr/>
            <p:nvPr/>
          </p:nvSpPr>
          <p:spPr>
            <a:xfrm flipV="1">
              <a:off x="3519000" y="2941920"/>
              <a:ext cx="1724760" cy="857880"/>
            </a:xfrm>
            <a:custGeom>
              <a:avLst/>
              <a:gdLst>
                <a:gd name="textAreaLeft" fmla="*/ 379080 w 1724760"/>
                <a:gd name="textAreaRight" fmla="*/ 1345680 w 1724760"/>
                <a:gd name="textAreaTop" fmla="*/ 188640 h 857880"/>
                <a:gd name="textAreaBottom" fmla="*/ 66924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. Безопасности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_s96267"/>
            <p:cNvSpPr/>
            <p:nvPr/>
          </p:nvSpPr>
          <p:spPr>
            <a:xfrm flipV="1">
              <a:off x="3085560" y="3800160"/>
              <a:ext cx="2591280" cy="857880"/>
            </a:xfrm>
            <a:custGeom>
              <a:avLst/>
              <a:gdLst>
                <a:gd name="textAreaLeft" fmla="*/ 449640 w 2591280"/>
                <a:gd name="textAreaRight" fmla="*/ 2141640 w 2591280"/>
                <a:gd name="textAreaTop" fmla="*/ 148680 h 857880"/>
                <a:gd name="textAreaBottom" fmla="*/ 7092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. Соци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_s96263"/>
            <p:cNvSpPr/>
            <p:nvPr/>
          </p:nvSpPr>
          <p:spPr>
            <a:xfrm flipV="1">
              <a:off x="2654280" y="4658040"/>
              <a:ext cx="3453840" cy="857880"/>
            </a:xfrm>
            <a:custGeom>
              <a:avLst/>
              <a:gdLst>
                <a:gd name="textAreaLeft" fmla="*/ 519480 w 3453840"/>
                <a:gd name="textAreaRight" fmla="*/ 2934360 w 3453840"/>
                <a:gd name="textAreaTop" fmla="*/ 128880 h 857880"/>
                <a:gd name="textAreaBottom" fmla="*/ 72900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4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сихологически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96264"/>
            <p:cNvSpPr/>
            <p:nvPr/>
          </p:nvSpPr>
          <p:spPr>
            <a:xfrm flipV="1">
              <a:off x="2223000" y="5515920"/>
              <a:ext cx="4316400" cy="857880"/>
            </a:xfrm>
            <a:custGeom>
              <a:avLst/>
              <a:gdLst>
                <a:gd name="textAreaLeft" fmla="*/ 589320 w 4316400"/>
                <a:gd name="textAreaRight" fmla="*/ 3727080 w 4316400"/>
                <a:gd name="textAreaTop" fmla="*/ 117000 h 857880"/>
                <a:gd name="textAreaBottom" fmla="*/ 740880 h 85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5.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Интеллектуаль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ривая спроса и предложения земли на рынке в краткосрочный период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76520" y="2437920"/>
            <a:ext cx="0" cy="312444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5562720"/>
            <a:ext cx="586728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-1179720" y="3694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на земли, Ц, Р/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74080" y="6137280"/>
            <a:ext cx="23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щадь, м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г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29400" y="2743200"/>
            <a:ext cx="0" cy="28195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2776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8588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10364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412128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0600" y="412128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927760" y="41148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43200" y="3429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9880" y="3429000"/>
            <a:ext cx="609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27760" y="3657600"/>
            <a:ext cx="1996920" cy="13716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15000" y="2743200"/>
            <a:ext cx="2209680" cy="16002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73680" y="568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86480" y="38926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4320" y="32004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63360" y="579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30840" y="366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22040" y="434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772400" y="4571640"/>
            <a:ext cx="447840" cy="235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37680" y="297180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127000" y="34354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7543800" y="3663720"/>
            <a:ext cx="3808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28520" y="205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едвижимое имущество как товар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2157120"/>
            <a:ext cx="810108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объект сделок (купли, продажи, дарения, залога и др.), удовлетворяющий различные реальные или потенциальные потребности и имеющий определенные качественные и количественные характерис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ЛЕЗ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способность удовлетворять потребности владельца именно в данном месте и в течение соответствующего периода врем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Экономические особенности недвижимости как товар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иболее долговечный и основательный това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ивает надежность инвести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требляются по месту их расположения (территориальные предпочте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авномерность денежных потоков при их приобретении и использов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ференциация налогообло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ногообразие вещных пра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ая регламентация оформления сдел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квид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обходимость грамотного менеджм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гнозируемые денежные потоки по инвестиционным циклам проект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61280" y="2549520"/>
            <a:ext cx="24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ожи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 пото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160" y="3497400"/>
            <a:ext cx="22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рицатель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неж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оки сре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13200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кл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покуп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оител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в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заклю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оговор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ре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2000" y="4869000"/>
            <a:ext cx="126036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ходы 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с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ксплуата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51640" y="4869000"/>
            <a:ext cx="1260720" cy="1439640"/>
          </a:xfrm>
          <a:prstGeom prst="rect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ру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да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32000" y="3371760"/>
            <a:ext cx="576108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32000" y="3371760"/>
            <a:ext cx="179640" cy="1497240"/>
          </a:xfrm>
          <a:prstGeom prst="downArrow">
            <a:avLst>
              <a:gd name="adj1" fmla="val 50000"/>
              <a:gd name="adj2" fmla="val 208367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51280" y="3371760"/>
            <a:ext cx="0" cy="596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751280" y="41497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128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5128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54760" y="3371760"/>
            <a:ext cx="0" cy="2365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472000" y="46846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72000" y="432864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830920" y="50436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10200" y="52228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472000" y="3968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59400" y="360792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472000" y="34290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51640" y="4443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651640" y="414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651640" y="468900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6516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65164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189840" y="3860280"/>
            <a:ext cx="0" cy="179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189840" y="423864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189840" y="46864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192720" y="351792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6661080" y="42372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684840" y="462276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684840" y="387828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661080" y="3497400"/>
            <a:ext cx="0" cy="179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6189840" y="2889360"/>
            <a:ext cx="288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661080" y="2549520"/>
            <a:ext cx="0" cy="8222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189840" y="2549520"/>
            <a:ext cx="471240" cy="3398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84840" y="2549520"/>
            <a:ext cx="1308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93080" y="2549520"/>
            <a:ext cx="179280" cy="822240"/>
          </a:xfrm>
          <a:prstGeom prst="upArrow">
            <a:avLst>
              <a:gd name="adj1" fmla="val 50000"/>
              <a:gd name="adj2" fmla="val 114659"/>
            </a:avLst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32360" y="3787920"/>
            <a:ext cx="126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360920" y="344808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4164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609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459400" y="3186000"/>
            <a:ext cx="0" cy="185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651640" y="2889360"/>
            <a:ext cx="0" cy="482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172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529760" y="27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414240" y="6329520"/>
            <a:ext cx="9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89000" y="6329520"/>
            <a:ext cx="10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632952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53440" y="632952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(ЖЦ) объектов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это законченная последовательность  процессов существования недвижимости от ввода в эксплуатацию до прекращ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личают четыре вида цик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делов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зненный цикл това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вида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Ц предприятия как имущественного комплек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недвижимости как физического объек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250920" y="1844640"/>
          <a:ext cx="8713800" cy="4530600"/>
        </p:xfrm>
        <a:graphic>
          <a:graphicData uri="http://schemas.openxmlformats.org/drawingml/2006/table">
            <a:tbl>
              <a:tblPr/>
              <a:tblGrid>
                <a:gridCol w="2179440"/>
                <a:gridCol w="2178000"/>
                <a:gridCol w="2176560"/>
                <a:gridCol w="21798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рединвести-ционная стад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Создание, формирование (строительств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Ввод в      эксплуатацию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Владение и использо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Смена собственника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Разви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Капитальный ремон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Функциональное устаре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 Физический изно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 Ухудшение потребительских свой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 Изменение функционального назна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 Конец экономического срока жизни    (госрегистрац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042920" y="285264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042560" y="4221000"/>
            <a:ext cx="6697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116000" y="6021360"/>
            <a:ext cx="561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0720" y="2852640"/>
            <a:ext cx="0" cy="4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Жизненный цикл вида бизне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95280" y="1916280"/>
          <a:ext cx="8362800" cy="4708440"/>
        </p:xfrm>
        <a:graphic>
          <a:graphicData uri="http://schemas.openxmlformats.org/drawingml/2006/table">
            <a:tbl>
              <a:tblPr/>
              <a:tblGrid>
                <a:gridCol w="2090880"/>
                <a:gridCol w="2092320"/>
                <a:gridCol w="2089080"/>
                <a:gridCol w="2090520"/>
              </a:tblGrid>
              <a:tr h="23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расширения, ро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дия зрел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кращение деловой акти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Лицензирование, госрегистра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 Подготовительный этап создания нового предприя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Подготовительный этап нового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мена вида бизне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"/>
          <p:cNvSpPr/>
          <p:nvPr/>
        </p:nvSpPr>
        <p:spPr>
          <a:xfrm>
            <a:off x="1619280" y="342900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388360" y="3429000"/>
            <a:ext cx="0" cy="23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618920" y="580536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Объекты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371600" y="1143000"/>
          <a:ext cx="6076800" cy="5153040"/>
        </p:xfrm>
        <a:graphic>
          <a:graphicData uri="http://schemas.openxmlformats.org/drawingml/2006/table">
            <a:tbl>
              <a:tblPr/>
              <a:tblGrid>
                <a:gridCol w="3154320"/>
                <a:gridCol w="2922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дель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ж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Земельные учас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Участники нед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Обособленные водны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с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ноголетние насажд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оруж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Приравненные к недвижимости, подлежащие государственной регистраци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душные и морские суда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да внутреннего плава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смические объе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Иные предметы, наделённые статусом недвижимо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приятия  в целом как имущественный комплекс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е участк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дания и сооружен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вентарь и оборудование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рьё и продук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и долги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а на обозначени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изирующие предприятие, его продукцию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материальные активы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3e3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угие исключительные пра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рок жизни и возраст недвижимост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7200" y="1600200"/>
          <a:ext cx="8229600" cy="5230800"/>
        </p:xfrm>
        <a:graphic>
          <a:graphicData uri="http://schemas.openxmlformats.org/drawingml/2006/table">
            <a:tbl>
              <a:tblPr/>
              <a:tblGrid>
                <a:gridCol w="2854440"/>
                <a:gridCol w="537516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прибыльного использова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иод реального существования объекта в функционально пригодном состояни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тавшийся срок экономической жизн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аты оценки до окончания срока экономической жизни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ффективны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 на оценке внешнего вида и технического состояния объекта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ронологический возраст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 дня ввода в эксплуатацию до даты оценки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зн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57200" y="1600200"/>
          <a:ext cx="8229600" cy="4168800"/>
        </p:xfrm>
        <a:graphic>
          <a:graphicData uri="http://schemas.openxmlformats.org/drawingml/2006/table">
            <a:tbl>
              <a:tblPr/>
              <a:tblGrid>
                <a:gridCol w="2135160"/>
                <a:gridCol w="1979640"/>
                <a:gridCol w="2057400"/>
                <a:gridCol w="2057400"/>
              </a:tblGrid>
              <a:tr h="748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альн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еря технико-эксплуатационных свойств и потребительск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есценение объекта независимо от его физического состоя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порционально интенсивности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 влиянием природных услов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ледствие удешевления воспроизводства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результате создания новых, более экономичных объек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пособы начисления амортизац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нейный мет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уменьшаемого остат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по сумме чисел лет срока полезного исполь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 списания стоимости пропорционально объему произведенной продук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мулятивный метод (мировая практ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Износ в оценке недвижимости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1414440"/>
                <a:gridCol w="1328760"/>
                <a:gridCol w="1371600"/>
                <a:gridCol w="1371600"/>
                <a:gridCol w="2743200"/>
              </a:tblGrid>
              <a:tr h="99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иональ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ранимы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на его исправление превосходят вклад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держки по устранению  меньше вклада в стоим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бытки, вызываемый внешними по отношению к границам объекта фактор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копленный износ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8" name=""/>
          <p:cNvSpPr/>
          <p:nvPr/>
        </p:nvSpPr>
        <p:spPr>
          <a:xfrm flipH="1">
            <a:off x="4572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943600" y="5769000"/>
            <a:ext cx="2743200" cy="0"/>
          </a:xfrm>
          <a:prstGeom prst="line">
            <a:avLst/>
          </a:prstGeom>
          <a:ln cap="sq" w="633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Недвижимость как физический, экономико-правовой и социальный комплекс отношений</a:t>
            </a:r>
            <a:br>
              <a:rPr sz="1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2180520"/>
            <a:ext cx="7847640" cy="3762720"/>
            <a:chOff x="685800" y="2180520"/>
            <a:chExt cx="7847640" cy="3762720"/>
          </a:xfrm>
        </p:grpSpPr>
        <p:cxnSp>
          <p:nvCxnSpPr>
            <p:cNvPr id="134" name="_s34821"/>
            <p:cNvCxnSpPr>
              <a:stCxn id="135" idx="2"/>
              <a:endCxn id="136" idx="3"/>
            </p:cNvCxnSpPr>
            <p:nvPr/>
          </p:nvCxnSpPr>
          <p:spPr>
            <a:xfrm rot="10800000">
              <a:off x="3013560" y="2718360"/>
              <a:ext cx="812880" cy="298512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7" name="_s34822"/>
            <p:cNvCxnSpPr>
              <a:stCxn id="138" idx="2"/>
              <a:endCxn id="136" idx="3"/>
            </p:cNvCxnSpPr>
            <p:nvPr/>
          </p:nvCxnSpPr>
          <p:spPr>
            <a:xfrm rot="10800000">
              <a:off x="3013560" y="2718360"/>
              <a:ext cx="812880" cy="217944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39" name="_s34823"/>
            <p:cNvCxnSpPr>
              <a:stCxn id="140" idx="2"/>
              <a:endCxn id="136" idx="3"/>
            </p:cNvCxnSpPr>
            <p:nvPr/>
          </p:nvCxnSpPr>
          <p:spPr>
            <a:xfrm rot="10800000">
              <a:off x="3013560" y="2718360"/>
              <a:ext cx="812880" cy="137340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1" name="_s34824"/>
            <p:cNvCxnSpPr>
              <a:stCxn id="142" idx="2"/>
              <a:endCxn id="136" idx="3"/>
            </p:cNvCxnSpPr>
            <p:nvPr/>
          </p:nvCxnSpPr>
          <p:spPr>
            <a:xfrm rot="10800000">
              <a:off x="3013560" y="2718360"/>
              <a:ext cx="812880" cy="567360"/>
            </a:xfrm>
            <a:prstGeom prst="bentConnector2">
              <a:avLst/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36" name="_s34825"/>
            <p:cNvSpPr/>
            <p:nvPr/>
          </p:nvSpPr>
          <p:spPr>
            <a:xfrm>
              <a:off x="685800" y="2180520"/>
              <a:ext cx="4711320" cy="538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99ff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Times New Roman"/>
                </a:rPr>
                <a:t>Недвижимое имущество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34826"/>
            <p:cNvSpPr/>
            <p:nvPr/>
          </p:nvSpPr>
          <p:spPr>
            <a:xfrm>
              <a:off x="3826800" y="298836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1" action="ppaction://hlinksldjump"/>
                </a:rPr>
                <a:t>Физический объект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34827"/>
            <p:cNvSpPr/>
            <p:nvPr/>
          </p:nvSpPr>
          <p:spPr>
            <a:xfrm>
              <a:off x="3826800" y="379440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2" action="ppaction://hlinksldjump"/>
                </a:rPr>
                <a:t>Объект экономический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4828"/>
            <p:cNvSpPr/>
            <p:nvPr/>
          </p:nvSpPr>
          <p:spPr>
            <a:xfrm>
              <a:off x="3826800" y="4600800"/>
              <a:ext cx="4706640" cy="5364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3" action="ppaction://hlinksldjump"/>
                </a:rPr>
                <a:t>Объект правовых отнош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34829"/>
            <p:cNvSpPr/>
            <p:nvPr/>
          </p:nvSpPr>
          <p:spPr>
            <a:xfrm>
              <a:off x="3826800" y="5406480"/>
              <a:ext cx="4706640" cy="5367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cccc">
                    <a:alpha val="40000"/>
                  </a:srgbClr>
                </a:gs>
                <a:gs pos="100000">
                  <a:srgbClr val="003399"/>
                </a:gs>
              </a:gsLst>
              <a:lin ang="54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ffcc"/>
                  </a:solidFill>
                  <a:uFillTx/>
                  <a:latin typeface="Times New Roman"/>
                  <a:hlinkClick r:id="rId4" action="ppaction://hlinksldjump"/>
                </a:rPr>
                <a:t>Объект общих социальных отношений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Физический объек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стопо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ощадь и гра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мер (высота, длина, шири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андшаф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лежи ископаем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ип поч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изические характерис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нешняя сре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экономических отношен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в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питал в вещевой форм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ез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хо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держки содерж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кви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нансовый акти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оим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гооб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в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Объект правовых отношений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аво собстве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щные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жизненного наследуемого вла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постоянного поль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хозяйственного ве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оперативного 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ра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залога, аренды, застрой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рвиту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 на земельный участок собственника здания, расположенного на нё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ециальное право «золотая акция» на участие в  управлении предпри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ые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жораев В.О.</cp:lastModifiedBy>
  <dcterms:modified xsi:type="dcterms:W3CDTF">2007-02-15T16:50:2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