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8B2-544E-4552-9F4D-DDED1B44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645-C051-41CF-9001-4197812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3C0-9F15-47AB-9171-1857D6D2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82E-EFA1-4765-8190-D57200FD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0D534-A0C7-412A-BC98-6B05079E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1691-9A5E-4F70-B90E-DC61C176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978C1-7FF8-4434-81D2-7D63F15E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27CE4-9630-4B0C-AC21-CF437ACF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AF8BF-410A-4FF9-B861-E67B8449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1B772-2544-4545-BDA1-FEA9D33B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10C1D-7106-4788-A1BC-DEDB1459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6C2-5780-4D06-8B84-ED22A99C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ECF05-31A7-4ED6-AFC2-8E49FA5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93A6E-CFFB-4823-A6C1-7A78C86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F02BF-2B37-4D40-8A37-39453932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7EE31-C1A3-485B-8760-060364B9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EBB49-B56B-4E7F-9C4F-00B70FD0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9D1-5521-4D04-AD4B-7AB88294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E97-2502-4B37-9645-23189B27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EA0-1A06-45FD-9E0E-BAFF4898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951-6AF7-4B1F-AE12-258E037E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C23-0631-4F21-95B4-65FBC148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C8D-B3DA-4FFB-8C4F-C4E21EC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469-E9EB-4BC8-98E8-A22DDAC8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0788-175A-4849-B0E7-EA3F1E361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4B12-792E-49DF-B178-CDCD747BF1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м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чественная и количественная характеристики объектов недвижим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Качество местоположения недвижимости (Ситус)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н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916280"/>
            <a:ext cx="7417080" cy="33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421000"/>
            <a:ext cx="6696000" cy="2448000"/>
          </a:xfrm>
          <a:prstGeom prst="ellipse">
            <a:avLst/>
          </a:prstGeom>
          <a:solidFill>
            <a:srgbClr val="3399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2640"/>
            <a:ext cx="5256360" cy="1513080"/>
          </a:xfrm>
          <a:prstGeom prst="ellipse">
            <a:avLst/>
          </a:prstGeom>
          <a:solidFill>
            <a:srgbClr val="33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284640"/>
            <a:ext cx="280836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357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рг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492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ыкающие терри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9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жайшие окре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208720" cy="43196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22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Т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 ВЗАИМОДЕЙСТВИЯ КОНКРЕТНОГО ВАРИАНТА ЗЕМЛЕПОЛЬЗОВАНИЯ И ЭКОНОМИЧЕСКОЙ СРЕДЫ НА ПЯТИ УРОВНЯХ (СТРАНА, РЕГИОН, ТОРГОВАЯ ЗОНА, ПРИМЫКАЮЩИЕ И БЛИЖАЙШИЕ ТЕРРИТОР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ешняя среда недвижим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213000"/>
            <a:ext cx="187164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виж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989000"/>
            <a:ext cx="2519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28464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з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22100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201636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557360"/>
            <a:ext cx="259236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родные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916280"/>
            <a:ext cx="2376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лож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24280"/>
            <a:ext cx="1728720" cy="93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тоя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 рын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076640"/>
            <a:ext cx="1728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5157720"/>
            <a:ext cx="2232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м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516640"/>
            <a:ext cx="2303640" cy="936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феры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24360" y="328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4076640"/>
            <a:ext cx="93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59280" y="2492280"/>
            <a:ext cx="1297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2421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059280" y="2565000"/>
            <a:ext cx="1441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843280" y="3500280"/>
            <a:ext cx="93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407664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42920" y="4365720"/>
            <a:ext cx="158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365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436572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часть поверхности земли, имеющая четко обозначенную границу, площадь, местоположение, правовой статус и другие характеристики, учитываемые в государственном земельном кадастре и Едином государственном реестре прав на недвижимое имущество и сделок с ним. Бывают делимыми и неделим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лимый 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читается такой участок, который может быть разделен на части, каждая из которых после раздела по своему размеру образует самостоятельный участок с прежним целевым назначением и разрешенным использ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адастровый номер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362440" cy="4103640"/>
        </p:xfrm>
        <a:graphic>
          <a:graphicData uri="http://schemas.openxmlformats.org/drawingml/2006/table">
            <a:tbl>
              <a:tblPr/>
              <a:tblGrid>
                <a:gridCol w="1252800"/>
                <a:gridCol w="3783600"/>
                <a:gridCol w="33260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1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3х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министративный 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ая админист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масс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8х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исание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17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субъекта права - Адрес, документы удостоверяющие субъекта и его реквиз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ресные ориентиры - Жилой массив, поселок, улица и номер д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кументы , устанавливающие землепользование ( Постановление, свидетельство, договор – аренды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 земель - Целевое назначение и фактическое исполь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классификатора зем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по документам, в том числе постороннего 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санитарно-защитной зоны и (или) зоны с особым режимом использования в пределах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земельного права (собственность, временное пользование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рхностный и подпочвенный слой, ландшафт, топограф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лучшения и инженерное об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спорт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пликация зем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земельного налога или арендной пл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ая и расчетная стоимость уча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ансовая стоимость строений и сооружений на учас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ая стоимость (стр.3+стр.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ог на недвиж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женерно-технически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ологические показа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достроительны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тегории земель по потребительским свойств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600200"/>
          <a:ext cx="8424720" cy="5213520"/>
        </p:xfrm>
        <a:graphic>
          <a:graphicData uri="http://schemas.openxmlformats.org/drawingml/2006/table">
            <a:tbl>
              <a:tblPr/>
              <a:tblGrid>
                <a:gridCol w="1247760"/>
                <a:gridCol w="4368960"/>
                <a:gridCol w="28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по Оренбургской области (млн. г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хозяйствен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населенных пун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промышленности, транспорта, связ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обо охраняемые терри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но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запа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земель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сание зданий и соору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обленные вод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ки не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 уровню хозяйственной освоенности участки могут быт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астроенными, предназначенными под строитель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роен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незавершенного стро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ветхими застройками (под сно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подлежащими вывод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бод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ункции ле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(климаторегулирующая, почвозащитная, водоохранная, санитарно-гигиеническа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(источник древесины и множества видов потребительской продукц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(оздоровительная, улучшает условия жизни люд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став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507520" cy="4965840"/>
        </p:xfrm>
        <a:graphic>
          <a:graphicData uri="http://schemas.openxmlformats.org/drawingml/2006/table">
            <a:tbl>
              <a:tblPr/>
              <a:tblGrid>
                <a:gridCol w="2127240"/>
                <a:gridCol w="2125800"/>
                <a:gridCol w="2127240"/>
                <a:gridCol w="212724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лесного фо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ходящие в лесно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евесно-кустарниковая растительность на земл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ые ле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я нужд лесного 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а на землях Министерства обор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льскохозяйст-венного назна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боло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нспорта (на полосах отвода доро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крытые, но предназначен- ные для его восстано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каменистыми россыпя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ские ле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дного фонда (на полосах отвода канал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ачные уча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Классификация лесов по категории защищенности земел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600200"/>
          <a:ext cx="8362800" cy="4843440"/>
        </p:xfrm>
        <a:graphic>
          <a:graphicData uri="http://schemas.openxmlformats.org/drawingml/2006/table">
            <a:tbl>
              <a:tblPr/>
              <a:tblGrid>
                <a:gridCol w="2090520"/>
                <a:gridCol w="2163960"/>
                <a:gridCol w="2270160"/>
                <a:gridCol w="1838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тегории защищ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защитные, санитарно-гигиенические, оздоровительные, особоохраня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оздоровительные, санитарно-гигиенические, ограниченно эксплуат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плуатационные при сохранении экологиче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рас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ретные и защитные полосы, леса пустынь, поселений, куро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регионах с высокой плотностью населения или недостаточными лесными ресур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много лесных реги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 допускаетс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пля – продажа, залог и совершение других сделок, которые могут повлечь отчуждение  участков лесного ф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есной фонд является федеральной собственностью. Допускается передача части фондов в собственность субъектов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знаки классификации многолетних насажд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иду продукции (плодово-ягодные; техническ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функциональному назначению (живые изгороди;  полезащитные; декоративно-озеленитель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зрасту вступления в товарное исполь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сроку эксплуатации (плодово-ягодные 10-30 лет; технические 10-50 лет; озеленительные 50-100 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летние насаждения могут быть в собственности граждан без ограничения сделок (купля – продажа, залог, аренда, траст, дарение, наследова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особленные водные объе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бособленные водные объек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то небольшие по площади и непроточные искусственные водоемы, не имеющие гидравлической связи с другими поверхностными водными объе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ношения регулируются Водным Кодекс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озможные цели использов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итьевого и хозяйственно-бытового водоснаб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здравоо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сельского и лесно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оспла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гидроэнергетики и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рыбного и охотничье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добычи полезных ископаемых, торф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писание зданий и сооруж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жимы водопольз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водопольз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е водопользование (с применением технических средств, устройств и сооружений при наличии лицензии, за исключением плавания на маломерных суда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дра -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ь земной коры, расположенная ниже почвенного слоя, а при его отсутствии – ниже земной поверхности и дна водоемов, простирающейся до глубин, доступных для геологического изучения и осво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астки недр являются государственным недвижимым имуществом. Права пользования недрами могут передаваться субъектам предприниматель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Государственный кадастр месторождений и проявлений полезных ископаемых содержит следующие свед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сновных и совместно залегающи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содержащихся в них компонен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орно-технических и иных условиях разрабо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еолого-экономической оценке месторо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выявленных проявления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лицензиях на пользование недр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работах по геологическому изучению не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Государственный баланс запасов полезных ископаем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 для учета минерально-сырьевой базы и содержит с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количестве, качестве и степени изученности запасов каждого вида полезных ископаемых по месторождениям, имеющим промышлен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их размещении и степени промышленного осв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беспеченности промышленности разведанными полезными ископаем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чественная и количественная информация о собствен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ие характеристик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мущественно-правовое опис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ческие показател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стояние внешней сре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естоположение объекта (Кадастровый номер зд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административного округа (г. Оренбур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массива кадастрового кварт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земельного участка в кварт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первичного объекта на учас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вторичного объекта, как составная часть первич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изические характеристики здания, соору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мен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ощадь, объем, выс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 стен, крыши, перекрыт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построй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дефектов по видам и размеру (дефектная ведомост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пертная оценка стоимости объекта и его отдельны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ксплуатационные качест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руктивная надежность и и физическая долговеч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соответств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тектурно-планировочное соответствие назнач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ность строительства и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ргономические показате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опасность эксплуа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мущественно правовое описа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О СОБСТВЕННОСТИ (ВЛАДЕНИЕ, ПОЛЬЗОВАНИЕ, РАСПОРЯЖЕНИЕ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ЩНЫЕ ПРА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ГРАНИЧЕ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ГРАНИЧ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рвитуты – ограниченное вещное пра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потека – залог недвижим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ренда и доверительное управление – договорные обязатель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38:10Z</dcterms:created>
  <dc:creator>Джораев В.О.</dc:creator>
  <dc:description/>
  <dc:language>en-US</dc:language>
  <cp:lastModifiedBy>Джораев В.О.</cp:lastModifiedBy>
  <dcterms:modified xsi:type="dcterms:W3CDTF">2007-03-21T15:31:13Z</dcterms:modified>
  <cp:revision>6</cp:revision>
  <dc:subject/>
  <dc:title>Тема 2</dc:title>
</cp:coreProperties>
</file>