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C93-C107-4BC8-80D1-38594BB2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7B1-D8A8-4D47-9477-3AE6A94D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D1A-40E3-46B1-B06F-CFAD8DA6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6DD-B7D3-4118-AC2E-261B30AA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CE7D1-F12F-48C2-9E90-DD14D67F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AB148-CEAC-4478-9634-F34B6B3D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AAA0B-B636-4927-B207-FF3A38D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E438B-795C-46F7-8B30-C461199F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B6552-E6CE-4C2A-9E9B-6C847C7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BBB0D-1BF3-464D-BBA8-D528EE9C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0FEC9-E726-4505-AFA9-2C585B8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08D-0C54-47FD-AF48-16183D1C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4EB3F-9158-4D04-865E-6AB91E5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4DED0-CBD4-4B3D-BD10-DAB92ED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C1142-5FA4-43AA-AE82-85328DE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498DC-2260-4D41-9B23-1B96FA5E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283AB-31B1-4A2C-B463-43108FA8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27B-A4D3-4F34-A697-EF740BC7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1B8-7A8C-424A-8A4F-E1961A4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506-228C-4F32-BA1E-47BBA2A8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0F6-4AD4-45D0-8296-A8070F3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EFF-D5CD-4BAC-83B6-F8952D6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8D0-17FF-401A-B6DC-5B16EA8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A5F-95C6-4492-BAE1-6C018714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A195-8A21-4F4D-951B-F6759F1D33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0163-B86B-47B2-98E3-53A8FBA826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УЩНОСТЬ И ОБЩАЯ КЛАССИФИКАЦИЯ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общих социальных отнош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итания людей всех поко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овие жизн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осполняемый природный ресу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нный базис размещения других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ется на благо все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свободы и независимост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ижность 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гордости и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функциональное 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формирования среднего слоя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омпоненты недвижимости в зарубежной практик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523880"/>
            <a:ext cx="6934320" cy="4191120"/>
          </a:xfrm>
          <a:custGeom>
            <a:avLst/>
            <a:gdLst>
              <a:gd name="textAreaLeft" fmla="*/ 1524960 w 6934320"/>
              <a:gd name="textAreaRight" fmla="*/ 5409360 w 6934320"/>
              <a:gd name="textAreaTop" fmla="*/ 921600 h 4191120"/>
              <a:gd name="textAreaBottom" fmla="*/ 3269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523880"/>
            <a:ext cx="160020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1523880"/>
            <a:ext cx="175284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905120"/>
            <a:ext cx="5638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029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743200"/>
            <a:ext cx="4952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124080"/>
            <a:ext cx="472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2743200"/>
            <a:ext cx="990720" cy="3048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914400" cy="2895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3716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лекс пр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17938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ушное                  простра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36232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ения                     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3760" y="2743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ельные                  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6200" y="31240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ра                    не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657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00760" y="4765680"/>
            <a:ext cx="9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4173600">
            <a:off x="1217880" y="3275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784200">
            <a:off x="6309720" y="321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изнаки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371600"/>
            <a:ext cx="7771320" cy="3885120"/>
            <a:chOff x="762120" y="1371600"/>
            <a:chExt cx="7771320" cy="3885120"/>
          </a:xfrm>
        </p:grpSpPr>
        <p:cxnSp>
          <p:nvCxnSpPr>
            <p:cNvPr id="192" name="_s43019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305680" y="2268000"/>
              <a:ext cx="777600" cy="209196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43018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212640" y="2267280"/>
              <a:ext cx="777600" cy="20934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43014"/>
            <p:cNvSpPr/>
            <p:nvPr/>
          </p:nvSpPr>
          <p:spPr>
            <a:xfrm>
              <a:off x="2854800" y="1371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знаки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43015"/>
            <p:cNvSpPr/>
            <p:nvPr/>
          </p:nvSpPr>
          <p:spPr>
            <a:xfrm>
              <a:off x="76212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Сущностные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(родов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3016"/>
            <p:cNvSpPr/>
            <p:nvPr/>
          </p:nvSpPr>
          <p:spPr>
            <a:xfrm>
              <a:off x="494676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Видовые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(частн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Сущностные (родовые признаки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Связь с землё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Форма функционир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Состояние потребительской формы в процессе исполь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лительность кругооборота (долговечност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Общественное зна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солютная недвижимость, неперемещаемость в пространстве без ущерба функциональному назна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с землё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 физическая и юри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орма функцион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ально-вещественная и стоимо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стояние потребительской формы в процессе исполь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отребляется, сохраняется натуральная форма в течении всего срока эксплуа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лительность кругооборота (долговечност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использование, а земли – бесконечно при правильном исполь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епенно по мере износа и накопления амортизационных отчис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мыкин, Бугулов. Экономика недвижимости. – М.: Филин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недвижимости/ Под ред. Грязновой Г.А. – М.: Финансы и статистика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саул Экономика недвижимости. – М.: Филин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щественное 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объектом часто затрагивает интересы многих граждан и других собственников, интересы которых защищаются государ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идовые (частные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 (местоположение, функциональное назначение, состояние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ются конкретными частными показателями в зависимости от вида недвижимости и целесообразности распространения особого режима использования на другое имущество. Неразрывное единство с функциональным назнач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нятие о классификации недвижимого имущества (вещей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213" name="_s5838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58381"/>
            <p:cNvCxnSpPr>
              <a:stCxn id="217" idx="0"/>
              <a:endCxn id="215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5838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5837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общая, частна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5837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5837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Призна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837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я и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ельные уча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а и многолетние наса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ные 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авненны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ущественные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ые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изна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ональны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констр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ом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о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ые призн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00200"/>
            <a:ext cx="8228520" cy="4494600"/>
            <a:chOff x="457200" y="1600200"/>
            <a:chExt cx="8228520" cy="4494600"/>
          </a:xfrm>
        </p:grpSpPr>
        <p:cxnSp>
          <p:nvCxnSpPr>
            <p:cNvPr id="226" name="_s62477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29360" y="2739240"/>
              <a:ext cx="899640" cy="221544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2476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3560" y="2739240"/>
              <a:ext cx="899640" cy="22161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2472"/>
            <p:cNvSpPr/>
            <p:nvPr/>
          </p:nvSpPr>
          <p:spPr>
            <a:xfrm>
              <a:off x="2673000" y="16002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2473"/>
            <p:cNvSpPr/>
            <p:nvPr/>
          </p:nvSpPr>
          <p:spPr>
            <a:xfrm>
              <a:off x="45720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иерархически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2474"/>
            <p:cNvSpPr/>
            <p:nvPr/>
          </p:nvSpPr>
          <p:spPr>
            <a:xfrm>
              <a:off x="488808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фасетн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imes New Roman"/>
              </a:rPr>
              <a:t>Общая классификация объектов недвижимости фасетным методом по различным признака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зна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схождение (воспроизводимость в натуральной форм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ень готовности к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а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аслевая принадле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ь приват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685800"/>
            <a:ext cx="7162200" cy="4799160"/>
            <a:chOff x="1143000" y="685800"/>
            <a:chExt cx="7162200" cy="4799160"/>
          </a:xfrm>
        </p:grpSpPr>
        <p:cxnSp>
          <p:nvCxnSpPr>
            <p:cNvPr id="234" name="_s6761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208120" y="2120760"/>
              <a:ext cx="960480" cy="192852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67615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279600" y="2120400"/>
              <a:ext cx="960480" cy="1929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67611"/>
            <p:cNvSpPr/>
            <p:nvPr/>
          </p:nvSpPr>
          <p:spPr>
            <a:xfrm>
              <a:off x="3071520" y="68580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ункцион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назнач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67612"/>
            <p:cNvSpPr/>
            <p:nvPr/>
          </p:nvSpPr>
          <p:spPr>
            <a:xfrm>
              <a:off x="114300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67613"/>
            <p:cNvSpPr/>
            <p:nvPr/>
          </p:nvSpPr>
          <p:spPr>
            <a:xfrm>
              <a:off x="499968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Понятия и признаки недвижимост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143000" y="762120"/>
            <a:ext cx="7009200" cy="5331960"/>
            <a:chOff x="1143000" y="762120"/>
            <a:chExt cx="7009200" cy="5331960"/>
          </a:xfrm>
        </p:grpSpPr>
        <p:cxnSp>
          <p:nvCxnSpPr>
            <p:cNvPr id="240" name="_s70667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058000" y="2484000"/>
              <a:ext cx="1067040" cy="188748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70666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170520" y="2483640"/>
              <a:ext cx="1067040" cy="188820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2" name="_s70662"/>
            <p:cNvSpPr/>
            <p:nvPr/>
          </p:nvSpPr>
          <p:spPr>
            <a:xfrm>
              <a:off x="3030480" y="76212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Происхожд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0663"/>
            <p:cNvSpPr/>
            <p:nvPr/>
          </p:nvSpPr>
          <p:spPr>
            <a:xfrm>
              <a:off x="114300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0664"/>
            <p:cNvSpPr/>
            <p:nvPr/>
          </p:nvSpPr>
          <p:spPr>
            <a:xfrm>
              <a:off x="491724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57200" y="228600"/>
            <a:ext cx="8228520" cy="5865480"/>
            <a:chOff x="457200" y="228600"/>
            <a:chExt cx="8228520" cy="5865480"/>
          </a:xfrm>
        </p:grpSpPr>
        <p:cxnSp>
          <p:nvCxnSpPr>
            <p:cNvPr id="246" name="_s71697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92560" y="2053080"/>
              <a:ext cx="1173600" cy="221544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71696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2876400" y="2053080"/>
              <a:ext cx="1173600" cy="221616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71692"/>
            <p:cNvSpPr/>
            <p:nvPr/>
          </p:nvSpPr>
          <p:spPr>
            <a:xfrm>
              <a:off x="2673000" y="22860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Степень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готовност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к эксплуатаци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1693"/>
            <p:cNvSpPr/>
            <p:nvPr/>
          </p:nvSpPr>
          <p:spPr>
            <a:xfrm>
              <a:off x="45720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Введённые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1694"/>
            <p:cNvSpPr/>
            <p:nvPr/>
          </p:nvSpPr>
          <p:spPr>
            <a:xfrm>
              <a:off x="488808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езавершё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52" name="_s74769"/>
            <p:cNvCxnSpPr>
              <a:stCxn id="253" idx="1"/>
              <a:endCxn id="254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5" name="_s74767"/>
            <p:cNvCxnSpPr>
              <a:stCxn id="256" idx="1"/>
              <a:endCxn id="254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7" name="_s74764"/>
            <p:cNvCxnSpPr>
              <a:stCxn id="258" idx="1"/>
              <a:endCxn id="254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74763"/>
            <p:cNvCxnSpPr>
              <a:stCxn id="260" idx="1"/>
              <a:endCxn id="254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74762"/>
            <p:cNvCxnSpPr>
              <a:stCxn id="262" idx="1"/>
              <a:endCxn id="254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74758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орма собственн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4759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Ча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4760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4761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ые совме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4766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о-дол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4768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бщественных организац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64" name="_s76818"/>
            <p:cNvCxnSpPr>
              <a:stCxn id="265" idx="1"/>
              <a:endCxn id="266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7" name="_s76816"/>
            <p:cNvCxnSpPr>
              <a:stCxn id="268" idx="1"/>
              <a:endCxn id="266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9" name="_s76813"/>
            <p:cNvCxnSpPr>
              <a:stCxn id="270" idx="1"/>
              <a:endCxn id="266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1" name="_s76812"/>
            <p:cNvCxnSpPr>
              <a:stCxn id="272" idx="1"/>
              <a:endCxn id="266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76811"/>
            <p:cNvCxnSpPr>
              <a:stCxn id="274" idx="1"/>
              <a:endCxn id="266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6" name="_s76807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Отраслевая принадлеж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76808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мышл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76809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76810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ельскохозяй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76815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Жилищно-коммун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76817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Культурно-бытовые и др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85800" y="1531800"/>
            <a:ext cx="7999920" cy="4639680"/>
            <a:chOff x="685800" y="1531800"/>
            <a:chExt cx="7999920" cy="4639680"/>
          </a:xfrm>
        </p:grpSpPr>
        <p:cxnSp>
          <p:nvCxnSpPr>
            <p:cNvPr id="276" name="_s78860"/>
            <p:cNvCxnSpPr>
              <a:stCxn id="277" idx="1"/>
              <a:endCxn id="278" idx="2"/>
            </p:cNvCxnSpPr>
            <p:nvPr/>
          </p:nvCxnSpPr>
          <p:spPr>
            <a:xfrm rot="10800000">
              <a:off x="3084840" y="2374920"/>
              <a:ext cx="800640" cy="337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78859"/>
            <p:cNvCxnSpPr>
              <a:stCxn id="280" idx="1"/>
              <a:endCxn id="278" idx="2"/>
            </p:cNvCxnSpPr>
            <p:nvPr/>
          </p:nvCxnSpPr>
          <p:spPr>
            <a:xfrm rot="10800000">
              <a:off x="3084840" y="2374920"/>
              <a:ext cx="800640" cy="210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78858"/>
            <p:cNvCxnSpPr>
              <a:stCxn id="282" idx="1"/>
              <a:endCxn id="278" idx="2"/>
            </p:cNvCxnSpPr>
            <p:nvPr/>
          </p:nvCxnSpPr>
          <p:spPr>
            <a:xfrm rot="10800000">
              <a:off x="3084840" y="2374920"/>
              <a:ext cx="800640" cy="84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78854"/>
            <p:cNvSpPr/>
            <p:nvPr/>
          </p:nvSpPr>
          <p:spPr>
            <a:xfrm>
              <a:off x="685800" y="15318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зможность приватиз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8855"/>
            <p:cNvSpPr/>
            <p:nvPr/>
          </p:nvSpPr>
          <p:spPr>
            <a:xfrm>
              <a:off x="3885840" y="27972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Запрещё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8856"/>
            <p:cNvSpPr/>
            <p:nvPr/>
          </p:nvSpPr>
          <p:spPr>
            <a:xfrm>
              <a:off x="3885840" y="40626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По решению Правитель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78857"/>
            <p:cNvSpPr/>
            <p:nvPr/>
          </p:nvSpPr>
          <p:spPr>
            <a:xfrm>
              <a:off x="3885840" y="53280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Свободно приватизиру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мер общей классификации зданий фасетным методом по одному признак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209680"/>
            <a:ext cx="228600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038480"/>
            <a:ext cx="22096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59092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коммер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38480"/>
            <a:ext cx="24382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бществ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895480"/>
            <a:ext cx="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5" idx="0"/>
            <a:endCxn id="287" idx="0"/>
          </p:cNvCxnSpPr>
          <p:nvPr/>
        </p:nvCxnSpPr>
        <p:spPr>
          <a:xfrm flipH="1" rot="16200000">
            <a:off x="4323240" y="1123560"/>
            <a:ext cx="2520" cy="58298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290" name=""/>
          <p:cNvSpPr/>
          <p:nvPr/>
        </p:nvSpPr>
        <p:spPr>
          <a:xfrm>
            <a:off x="2652840" y="3241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е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9400" y="32418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 классификации недвижимости по уровням управл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однохозяй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обств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оизводимость в натуральн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слевая принадле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ое разме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свойств (удобств) предм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дох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готовности к эксплуа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666880"/>
            <a:ext cx="1600200" cy="152424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441520"/>
            <a:ext cx="1447920" cy="205740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8320" y="270828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0280" y="3470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-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2239920"/>
            <a:ext cx="17528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рани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ита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ё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239920"/>
            <a:ext cx="114300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9280" y="2239920"/>
            <a:ext cx="15224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788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3165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93432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9720" y="25700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3733920"/>
            <a:ext cx="119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31654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3657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45820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1800" y="25970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10280" y="3699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91000" y="2441160"/>
            <a:ext cx="447480" cy="266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3027240"/>
            <a:ext cx="304560" cy="138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33920" y="3276720"/>
            <a:ext cx="3045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37339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27082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654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6576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156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905120"/>
          <a:ext cx="8569080" cy="4038480"/>
        </p:xfrm>
        <a:graphic>
          <a:graphicData uri="http://schemas.openxmlformats.org/drawingml/2006/table">
            <a:tbl>
              <a:tblPr/>
              <a:tblGrid>
                <a:gridCol w="2143080"/>
                <a:gridCol w="1962000"/>
                <a:gridCol w="2160720"/>
                <a:gridCol w="2303280"/>
              </a:tblGrid>
              <a:tr h="807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 - недвиж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ем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я и признаки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ецифические свойства земл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 функционирования в сфере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ень подви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ительность хозяйственного кругооб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ервиту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требительск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отребительской формы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нос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тоимости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заменя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ротоспособность на ры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распоряжения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ие потребности, удовлетворяемые землёй как това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23000" y="2084400"/>
            <a:ext cx="4316400" cy="4289760"/>
            <a:chOff x="2223000" y="2084400"/>
            <a:chExt cx="4316400" cy="4289760"/>
          </a:xfrm>
        </p:grpSpPr>
        <p:sp>
          <p:nvSpPr>
            <p:cNvPr id="335" name="_s96262"/>
            <p:cNvSpPr/>
            <p:nvPr/>
          </p:nvSpPr>
          <p:spPr>
            <a:xfrm flipV="1">
              <a:off x="3950280" y="2084040"/>
              <a:ext cx="862200" cy="857880"/>
            </a:xfrm>
            <a:custGeom>
              <a:avLst/>
              <a:gdLst>
                <a:gd name="textAreaLeft" fmla="*/ 309240 w 862200"/>
                <a:gd name="textAreaRight" fmla="*/ 552960 w 862200"/>
                <a:gd name="textAreaTop" fmla="*/ 307800 h 857880"/>
                <a:gd name="textAreaBottom" fmla="*/ 5500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. Баз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96266"/>
            <p:cNvSpPr/>
            <p:nvPr/>
          </p:nvSpPr>
          <p:spPr>
            <a:xfrm flipV="1">
              <a:off x="3519000" y="2941920"/>
              <a:ext cx="1724760" cy="857880"/>
            </a:xfrm>
            <a:custGeom>
              <a:avLst/>
              <a:gdLst>
                <a:gd name="textAreaLeft" fmla="*/ 379080 w 1724760"/>
                <a:gd name="textAreaRight" fmla="*/ 1345680 w 1724760"/>
                <a:gd name="textAreaTop" fmla="*/ 188640 h 857880"/>
                <a:gd name="textAreaBottom" fmla="*/ 66924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. Безопас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96267"/>
            <p:cNvSpPr/>
            <p:nvPr/>
          </p:nvSpPr>
          <p:spPr>
            <a:xfrm flipV="1">
              <a:off x="3085560" y="3800160"/>
              <a:ext cx="2591280" cy="857880"/>
            </a:xfrm>
            <a:custGeom>
              <a:avLst/>
              <a:gdLst>
                <a:gd name="textAreaLeft" fmla="*/ 449640 w 2591280"/>
                <a:gd name="textAreaRight" fmla="*/ 2141640 w 2591280"/>
                <a:gd name="textAreaTop" fmla="*/ 148680 h 857880"/>
                <a:gd name="textAreaBottom" fmla="*/ 7092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. Соц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96263"/>
            <p:cNvSpPr/>
            <p:nvPr/>
          </p:nvSpPr>
          <p:spPr>
            <a:xfrm flipV="1">
              <a:off x="2654280" y="4658040"/>
              <a:ext cx="3453840" cy="857880"/>
            </a:xfrm>
            <a:custGeom>
              <a:avLst/>
              <a:gdLst>
                <a:gd name="textAreaLeft" fmla="*/ 519480 w 3453840"/>
                <a:gd name="textAreaRight" fmla="*/ 2934360 w 3453840"/>
                <a:gd name="textAreaTop" fmla="*/ 128880 h 857880"/>
                <a:gd name="textAreaBottom" fmla="*/ 7290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сихолог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96264"/>
            <p:cNvSpPr/>
            <p:nvPr/>
          </p:nvSpPr>
          <p:spPr>
            <a:xfrm flipV="1">
              <a:off x="2223000" y="5515920"/>
              <a:ext cx="4316400" cy="857880"/>
            </a:xfrm>
            <a:custGeom>
              <a:avLst/>
              <a:gdLst>
                <a:gd name="textAreaLeft" fmla="*/ 589320 w 4316400"/>
                <a:gd name="textAreaRight" fmla="*/ 3727080 w 4316400"/>
                <a:gd name="textAreaTop" fmla="*/ 117000 h 857880"/>
                <a:gd name="textAreaBottom" fmla="*/ 7408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ивая спроса и предложения земли на рынке в краткосрочный период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76520" y="2437920"/>
            <a:ext cx="0" cy="312444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5562720"/>
            <a:ext cx="5867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179720" y="3694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 земли, Ц, Р/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4080" y="613728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, 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2743200"/>
            <a:ext cx="0" cy="2819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2776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588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10364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412128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41212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776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4290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7760" y="3657600"/>
            <a:ext cx="1996920" cy="1371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743200"/>
            <a:ext cx="2209680" cy="16002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368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6480" y="3892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4320" y="3200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63360" y="57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0840" y="366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2040" y="434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72400" y="4571640"/>
            <a:ext cx="447840" cy="235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3768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27000" y="343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43800" y="366372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852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движимое имущество как това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2157120"/>
            <a:ext cx="8101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ъект сделок (купли, продажи, дарения, залога и др.), удовлетворяющий различные реальные или потенциальные потребности и имеющий определенные качественные и количественные характери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пособность удовлетворять потребности владельца именно в данном месте и в течение соответствующего период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кономические особенности недвижимост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более долговечный и основательный това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надежность инвест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яются по месту их расположения (территориальные предпочт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вномерность денежных потоков при их приобретении и использов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налогообло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образие вещны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ая регламентация оформления сдел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квид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сть грамотного менедж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уемые денежные потоки по инвестиционным циклам проек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1280" y="25495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 пот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160" y="349740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ок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окуп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гов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луат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164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ру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а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371760"/>
            <a:ext cx="576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2000" y="3371760"/>
            <a:ext cx="179640" cy="1497240"/>
          </a:xfrm>
          <a:prstGeom prst="downArrow">
            <a:avLst>
              <a:gd name="adj1" fmla="val 50000"/>
              <a:gd name="adj2" fmla="val 208367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51280" y="3371760"/>
            <a:ext cx="0" cy="596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1280" y="41497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128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128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54760" y="3371760"/>
            <a:ext cx="0" cy="23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7200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72000" y="432864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830920" y="50436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0200" y="52228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472000" y="3968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59400" y="360792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72000" y="34290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51640" y="414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51640" y="468900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516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5164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1898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89840" y="423864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189840" y="4686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19272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661080" y="42372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684840" y="462276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684840" y="387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61080" y="34974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189840" y="2889360"/>
            <a:ext cx="288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61080" y="2549520"/>
            <a:ext cx="0" cy="822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9840" y="2549520"/>
            <a:ext cx="471240" cy="33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4840" y="2549520"/>
            <a:ext cx="1308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93080" y="2549520"/>
            <a:ext cx="179280" cy="822240"/>
          </a:xfrm>
          <a:prstGeom prst="upArrow">
            <a:avLst>
              <a:gd name="adj1" fmla="val 50000"/>
              <a:gd name="adj2" fmla="val 114659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2360" y="3787920"/>
            <a:ext cx="126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60920" y="3448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16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609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59400" y="3186000"/>
            <a:ext cx="0" cy="185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651640" y="2889360"/>
            <a:ext cx="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17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297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4240" y="63295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9000" y="6329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6329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3440" y="63295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(ЖЦ) объектов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это законченная последовательность  процессов существования недвижимости от ввода в эксплуатацию до прекра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ают четыре вида цик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дел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й цикл това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вида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предприятия как имущественного компле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недвижимости как физического объ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1844640"/>
          <a:ext cx="8713800" cy="4530600"/>
        </p:xfrm>
        <a:graphic>
          <a:graphicData uri="http://schemas.openxmlformats.org/drawingml/2006/table">
            <a:tbl>
              <a:tblPr/>
              <a:tblGrid>
                <a:gridCol w="2179440"/>
                <a:gridCol w="2178000"/>
                <a:gridCol w="2176560"/>
                <a:gridCol w="2179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единвести-ционная ста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, формирование (строительств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вод в      эксплуатацию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Владение и исполь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Смена собственника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апитальный ремо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Функциональное устар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Физический изн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Ухудшение потребительских свой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зменение функциональ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Конец экономического срока жизни   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042920" y="285264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042560" y="4221000"/>
            <a:ext cx="669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61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2852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вида бизн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916280"/>
          <a:ext cx="8362800" cy="47084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23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расширения,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зрел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кращение деловой а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Лицензирование, госрег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Подготовительный этап создания нового пред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дготовительный этап нового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на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619280" y="342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88360" y="342900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618920" y="580536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ъекты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1600" y="1143000"/>
          <a:ext cx="6076800" cy="5153040"/>
        </p:xfrm>
        <a:graphic>
          <a:graphicData uri="http://schemas.openxmlformats.org/drawingml/2006/table">
            <a:tbl>
              <a:tblPr/>
              <a:tblGrid>
                <a:gridCol w="3154320"/>
                <a:gridCol w="2922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ь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емельные учас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частники не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особленные вод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с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летние наса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руж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шные и морские су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да внутреннего пла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мически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ные предметы, наделённые статусом недвиж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ятия  в целом как имущественный комплекс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е участк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 и сооруж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ь и оборудов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рьё и продук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и долг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на обознач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ующие предприятие, его продукцию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ключительные пра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рок жизни и возраст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2854440"/>
                <a:gridCol w="53751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прибыльного использова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реального существования объекта в функционально пригодном состоян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вшийся срок экономической жизн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аты оценки до окончания срока экономической жизни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ы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 на оценке внешнего вида и технического состоя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ически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ня ввода в эксплуатацию до даты оце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н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1600200"/>
          <a:ext cx="8229600" cy="416880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  <a:gridCol w="2057400"/>
                <a:gridCol w="2057400"/>
              </a:tblGrid>
              <a:tr h="74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ря технико-эксплуатационных свойств и потребительск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ценение объекта независимо от его физического состоя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онально интенсивности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 влиянием природных усл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ледствие удешевления воспроизводства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езультате создания новых, более экономичных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начисления амортиз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ный мет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уменьшаемого оста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по сумме чисел лет срока полезного ис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стоимости пропорционально объему произвед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мулятивный метод (мировая практ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Износ в оценке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1414440"/>
                <a:gridCol w="1328760"/>
                <a:gridCol w="1371600"/>
                <a:gridCol w="1371600"/>
                <a:gridCol w="2743200"/>
              </a:tblGrid>
              <a:tr h="99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ытки, вызываемый внешними по отношению к границам объекта фактор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пленный износ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4572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Недвижимость как физический, экономико-правовой и социальный комплекс отношений</a:t>
            </a:r>
            <a:br>
              <a:rPr sz="1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2180520"/>
            <a:ext cx="7847640" cy="3762720"/>
            <a:chOff x="685800" y="2180520"/>
            <a:chExt cx="7847640" cy="3762720"/>
          </a:xfrm>
        </p:grpSpPr>
        <p:cxnSp>
          <p:nvCxnSpPr>
            <p:cNvPr id="134" name="_s34821"/>
            <p:cNvCxnSpPr>
              <a:stCxn id="135" idx="2"/>
              <a:endCxn id="136" idx="3"/>
            </p:cNvCxnSpPr>
            <p:nvPr/>
          </p:nvCxnSpPr>
          <p:spPr>
            <a:xfrm rot="10800000">
              <a:off x="3013560" y="2718360"/>
              <a:ext cx="812880" cy="298512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7" name="_s34822"/>
            <p:cNvCxnSpPr>
              <a:stCxn id="138" idx="2"/>
              <a:endCxn id="136" idx="3"/>
            </p:cNvCxnSpPr>
            <p:nvPr/>
          </p:nvCxnSpPr>
          <p:spPr>
            <a:xfrm rot="10800000">
              <a:off x="3013560" y="2718360"/>
              <a:ext cx="812880" cy="217944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9" name="_s34823"/>
            <p:cNvCxnSpPr>
              <a:stCxn id="140" idx="2"/>
              <a:endCxn id="136" idx="3"/>
            </p:cNvCxnSpPr>
            <p:nvPr/>
          </p:nvCxnSpPr>
          <p:spPr>
            <a:xfrm rot="10800000">
              <a:off x="3013560" y="2718360"/>
              <a:ext cx="812880" cy="137340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1" name="_s34824"/>
            <p:cNvCxnSpPr>
              <a:stCxn id="142" idx="2"/>
              <a:endCxn id="136" idx="3"/>
            </p:cNvCxnSpPr>
            <p:nvPr/>
          </p:nvCxnSpPr>
          <p:spPr>
            <a:xfrm rot="10800000">
              <a:off x="3013560" y="2718360"/>
              <a:ext cx="812880" cy="56736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36" name="_s34825"/>
            <p:cNvSpPr/>
            <p:nvPr/>
          </p:nvSpPr>
          <p:spPr>
            <a:xfrm>
              <a:off x="685800" y="2180520"/>
              <a:ext cx="4711320" cy="538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ff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Недвижимое имуществ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4826"/>
            <p:cNvSpPr/>
            <p:nvPr/>
          </p:nvSpPr>
          <p:spPr>
            <a:xfrm>
              <a:off x="3826800" y="298836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Физический объект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4827"/>
            <p:cNvSpPr/>
            <p:nvPr/>
          </p:nvSpPr>
          <p:spPr>
            <a:xfrm>
              <a:off x="3826800" y="379440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Объект экономический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4828"/>
            <p:cNvSpPr/>
            <p:nvPr/>
          </p:nvSpPr>
          <p:spPr>
            <a:xfrm>
              <a:off x="3826800" y="4600800"/>
              <a:ext cx="4706640" cy="536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Объект правовых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4829"/>
            <p:cNvSpPr/>
            <p:nvPr/>
          </p:nvSpPr>
          <p:spPr>
            <a:xfrm>
              <a:off x="3826800" y="540648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Объект общих социальных отношени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изический объек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и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(высота, длина, ши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ндш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шня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экономических отнош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л в вещев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х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держки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ый ак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правовых отнош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о 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щные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жизненного наследуемого вла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стоянного 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хозяйственного 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оперативного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залога, аренды, застро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виту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на земельный участок собственника здания, расположенного на н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е право «золотая акция» на участие в  управлении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ые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ораев В.О.</cp:lastModifiedBy>
  <dcterms:modified xsi:type="dcterms:W3CDTF">2007-02-15T16:5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