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1FC9-2964-4EA9-B692-EDD3D8E30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8A51-88D2-4897-A75C-A39D01F1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DCFF-9473-4187-8D96-C46B68826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5D64-6907-442C-85DE-E1B58421B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34C17-3077-4FF6-9549-B749028A0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A8CD75-68D5-4B96-AD5C-A4DE9D36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DFBCC-BBF8-4085-9DE2-B7729101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022B1-7339-4CFD-8D39-DE2EA86F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CC12E5-5ABE-4CC1-AF3D-1BAC68DE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2F360C-FA54-4851-9BEA-FCB52D4E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FD6F3-FBF6-41F0-B66A-159FA525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CF19-8FE2-4CB0-9907-ADFF8C6A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DD6F3E-861C-49BA-AE45-A7600C84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79B37-7DE6-47F2-B598-80C7E820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29DF3-44B1-4642-A30F-8B9FA3B4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B088C-2824-4B17-A18F-2241BD289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037252-B652-4301-A50C-5407940F9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6383-0A3F-4C29-963A-2CFD8078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9E24-B246-40C2-97FF-BEB81C8B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5B27-EF69-4C23-B996-E0AE868F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C4A6-0169-48CB-9329-94274C7B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3097-B85E-477A-BD06-AFF1110E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4ADB-43B9-4554-9F77-652EC8A3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40E3-024F-43D9-A8E0-3F0A85DB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BFCF-10D2-4624-A1D6-45D641FACE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6B92-0D1F-490D-AAA7-18B1909C30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21.xml"/><Relationship Id="rId4" Type="http://schemas.openxmlformats.org/officeDocument/2006/relationships/slide" Target="slide21.xml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19.xml"/><Relationship Id="rId7" Type="http://schemas.openxmlformats.org/officeDocument/2006/relationships/slide" Target="slide20.xml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6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Тема 1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СУЩНОСТЬ И ОБЩАЯ КЛАССИФИКАЦИЯ НЕДВИЖИМОСТ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Объект общих социальных отношений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сто обитания людей всех покол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ловие жизни люд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восполняемый природный ресур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чник бла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странственный базис размещения других объек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щищается на благо всех люд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7960" y="13712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нова свободы и независимости люд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естижность влад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нова гордости и сла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ногофункциональное назнач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словие формирования среднего слоя общ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Компоненты недвижимости в зарубежной практике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523880"/>
            <a:ext cx="6934320" cy="4191120"/>
          </a:xfrm>
          <a:custGeom>
            <a:avLst/>
            <a:gdLst>
              <a:gd name="textAreaLeft" fmla="*/ 1524960 w 6934320"/>
              <a:gd name="textAreaRight" fmla="*/ 5409360 w 6934320"/>
              <a:gd name="textAreaTop" fmla="*/ 921600 h 4191120"/>
              <a:gd name="textAreaBottom" fmla="*/ 3269520 h 419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3880" y="1523880"/>
            <a:ext cx="1600200" cy="41911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866920" y="1523880"/>
            <a:ext cx="1752840" cy="41911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1905120"/>
            <a:ext cx="56386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1905120"/>
            <a:ext cx="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2286000"/>
            <a:ext cx="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2743200"/>
            <a:ext cx="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3200400"/>
            <a:ext cx="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3657600"/>
            <a:ext cx="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4114800"/>
            <a:ext cx="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4572000"/>
            <a:ext cx="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0" y="5029200"/>
            <a:ext cx="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5486400"/>
            <a:ext cx="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057400" y="2743200"/>
            <a:ext cx="4952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33720" y="3124080"/>
            <a:ext cx="4724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809880" y="2743200"/>
            <a:ext cx="990720" cy="30481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43400" y="2819520"/>
            <a:ext cx="914400" cy="28954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23623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14600" y="23623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0400" y="23623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90920" y="312408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86200" y="23623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48320" y="23623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23623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19920" y="23623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3623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76720" y="1371600"/>
            <a:ext cx="34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омплекс прави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346480" y="1793880"/>
            <a:ext cx="47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оздушное                  пространств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2362320"/>
            <a:ext cx="44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роения                     стро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363760" y="274320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емельные                   участ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96200" y="3124080"/>
            <a:ext cx="31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дра                    нед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90920" y="36576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лезные ископаем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24280" y="365760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лезные ископаем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100760" y="4765680"/>
            <a:ext cx="94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цент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ем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4173600">
            <a:off x="1217880" y="32756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ек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6784200">
            <a:off x="6309720" y="32137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ек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Основные признаки недвижимост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62120" y="1371600"/>
            <a:ext cx="7771320" cy="3885120"/>
            <a:chOff x="762120" y="1371600"/>
            <a:chExt cx="7771320" cy="3885120"/>
          </a:xfrm>
        </p:grpSpPr>
        <p:cxnSp>
          <p:nvCxnSpPr>
            <p:cNvPr id="192" name="_s43019"/>
            <p:cNvCxnSpPr>
              <a:stCxn id="193" idx="0"/>
              <a:endCxn id="194" idx="2"/>
            </p:cNvCxnSpPr>
            <p:nvPr/>
          </p:nvCxnSpPr>
          <p:spPr>
            <a:xfrm flipV="1" rot="16200000">
              <a:off x="5305680" y="2268000"/>
              <a:ext cx="777600" cy="2091960"/>
            </a:xfrm>
            <a:prstGeom prst="bentConnector3">
              <a:avLst>
                <a:gd name="adj1" fmla="val 2079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5" name="_s43018"/>
            <p:cNvCxnSpPr>
              <a:stCxn id="196" idx="0"/>
              <a:endCxn id="194" idx="2"/>
            </p:cNvCxnSpPr>
            <p:nvPr/>
          </p:nvCxnSpPr>
          <p:spPr>
            <a:xfrm flipH="1" flipV="1" rot="5400000">
              <a:off x="3212640" y="2267280"/>
              <a:ext cx="777600" cy="2093400"/>
            </a:xfrm>
            <a:prstGeom prst="bentConnector3">
              <a:avLst>
                <a:gd name="adj1" fmla="val 2079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94" name="_s43014"/>
            <p:cNvSpPr/>
            <p:nvPr/>
          </p:nvSpPr>
          <p:spPr>
            <a:xfrm>
              <a:off x="2854800" y="1371600"/>
              <a:ext cx="3586680" cy="1554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Признаки</a:t>
              </a: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_s43015"/>
            <p:cNvSpPr/>
            <p:nvPr/>
          </p:nvSpPr>
          <p:spPr>
            <a:xfrm>
              <a:off x="762120" y="3702600"/>
              <a:ext cx="3586680" cy="1554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 u="sng">
                  <a:solidFill>
                    <a:srgbClr val="00ffcc"/>
                  </a:solidFill>
                  <a:uFillTx/>
                  <a:latin typeface="Times New Roman"/>
                  <a:hlinkClick r:id="rId1" action="ppaction://hlinksldjump"/>
                </a:rPr>
                <a:t>Сущностные </a:t>
              </a: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 u="sng">
                  <a:solidFill>
                    <a:srgbClr val="00ffcc"/>
                  </a:solidFill>
                  <a:uFillTx/>
                  <a:latin typeface="Times New Roman"/>
                  <a:hlinkClick r:id="rId2" action="ppaction://hlinksldjump"/>
                </a:rPr>
                <a:t>(родовые)</a:t>
              </a: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_s43016"/>
            <p:cNvSpPr/>
            <p:nvPr/>
          </p:nvSpPr>
          <p:spPr>
            <a:xfrm>
              <a:off x="4946760" y="3702600"/>
              <a:ext cx="3586680" cy="1554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 u="sng">
                  <a:solidFill>
                    <a:srgbClr val="00ffcc"/>
                  </a:solidFill>
                  <a:uFillTx/>
                  <a:latin typeface="Times New Roman"/>
                  <a:hlinkClick r:id="rId3" action="ppaction://hlinksldjump"/>
                </a:rPr>
                <a:t>Видовые</a:t>
              </a: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 u="sng">
                  <a:solidFill>
                    <a:srgbClr val="00ffcc"/>
                  </a:solidFill>
                  <a:uFillTx/>
                  <a:latin typeface="Times New Roman"/>
                  <a:hlinkClick r:id="rId4" action="ppaction://hlinksldjump"/>
                </a:rPr>
                <a:t>(частные)</a:t>
              </a: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3e3ff"/>
                </a:solidFill>
                <a:uFillTx/>
                <a:latin typeface="Arial"/>
              </a:rPr>
              <a:t>Сущностные (родовые признаки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Степень подвижност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ffcc"/>
                </a:solidFill>
                <a:uFillTx/>
                <a:latin typeface="Arial"/>
                <a:hlinkClick r:id="rId2" action="ppaction://hlinksldjump"/>
              </a:rPr>
              <a:t>Связь с землё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ffcc"/>
                </a:solidFill>
                <a:uFillTx/>
                <a:latin typeface="Arial"/>
                <a:hlinkClick r:id="rId3" action="ppaction://hlinksldjump"/>
              </a:rPr>
              <a:t>Форма функционирован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ffcc"/>
                </a:solidFill>
                <a:uFillTx/>
                <a:latin typeface="Arial"/>
                <a:hlinkClick r:id="rId4" action="ppaction://hlinksldjump"/>
              </a:rPr>
              <a:t>Состояние потребительской формы в процессе использован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ffcc"/>
                </a:solidFill>
                <a:uFillTx/>
                <a:latin typeface="Arial"/>
                <a:hlinkClick r:id="rId5" action="ppaction://hlinksldjump"/>
              </a:rPr>
              <a:t>Длительность кругооборота (долговечность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ffcc"/>
                </a:solidFill>
                <a:uFillTx/>
                <a:latin typeface="Arial"/>
                <a:hlinkClick r:id="rId6" action="ppaction://hlinksldjump"/>
              </a:rPr>
              <a:t>Способ переноса стоимости в производственном процессе или потери потребительских свойств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ffcc"/>
                </a:solidFill>
                <a:uFillTx/>
                <a:latin typeface="Arial"/>
                <a:hlinkClick r:id="rId7" action="ppaction://hlinksldjump"/>
              </a:rPr>
              <a:t>Общественное значени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838080" y="609480"/>
            <a:ext cx="7467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Степень подвижности</a:t>
            </a: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2" action="ppaction://hlinksldjump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бсолютная недвижимость, неперемещаемость в пространстве без ущерба функциональному назначен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Связь с землё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чная физическая и юридиче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Форма функциониров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турально-вещественная и стоимост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Состояние потребительской формы в процессе использов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потребляется, сохраняется натуральная форма в течении всего срока эксплуат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Длительность кругооборота (долговечность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ногократное использование, а земли – бесконечно при правильном использова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Способ переноса стоимости в производственном процессе или потери потребительских свойст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степенно по мере износа и накопления амортизационных отчисл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емыкин, Бугулов. Экономика недвижимости. – М.: Филин, 2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ценка недвижимости/ Под ред. Грязновой Г.А. – М.: Финансы и статистика,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ссаул Экономика недвижимости. – М.: Филин,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Общественное знач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льзование объектом часто затрагивает интересы многих граждан и других собственников, интересы которых защищаются государств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Видовые (частные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хнические и технологические характеристики (местоположение, функциональное назначение, состояние и др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ехнические и технологические характеристи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ределяются конкретными частными показателями в зависимости от вида недвижимости и целесообразности распространения особого режима использования на другое имущество. Неразрывное единство с функциональным назначени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опрос 2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Общая классификация объектов недвижимост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Понятие о классификации недвижимого имущества (вещей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57200" y="1600200"/>
            <a:ext cx="8228880" cy="4494600"/>
            <a:chOff x="457200" y="1600200"/>
            <a:chExt cx="8228880" cy="4494600"/>
          </a:xfrm>
        </p:grpSpPr>
        <p:cxnSp>
          <p:nvCxnSpPr>
            <p:cNvPr id="213" name="_s58382"/>
            <p:cNvCxnSpPr>
              <a:stCxn id="214" idx="0"/>
              <a:endCxn id="215" idx="2"/>
            </p:cNvCxnSpPr>
            <p:nvPr/>
          </p:nvCxnSpPr>
          <p:spPr>
            <a:xfrm flipV="1" rot="16200000">
              <a:off x="5561640" y="2406600"/>
              <a:ext cx="899640" cy="2880720"/>
            </a:xfrm>
            <a:prstGeom prst="bentConnector3">
              <a:avLst>
                <a:gd name="adj1" fmla="val 1389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16" name="_s58381"/>
            <p:cNvCxnSpPr>
              <a:stCxn id="217" idx="0"/>
              <a:endCxn id="215" idx="2"/>
            </p:cNvCxnSpPr>
            <p:nvPr/>
          </p:nvCxnSpPr>
          <p:spPr>
            <a:xfrm flipV="1">
              <a:off x="4571280" y="3397320"/>
              <a:ext cx="3240" cy="899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18" name="_s58380"/>
            <p:cNvCxnSpPr>
              <a:stCxn id="219" idx="0"/>
              <a:endCxn id="215" idx="2"/>
            </p:cNvCxnSpPr>
            <p:nvPr/>
          </p:nvCxnSpPr>
          <p:spPr>
            <a:xfrm flipH="1" flipV="1" rot="5400000">
              <a:off x="2681640" y="2406960"/>
              <a:ext cx="899640" cy="2880720"/>
            </a:xfrm>
            <a:prstGeom prst="bentConnector3">
              <a:avLst>
                <a:gd name="adj1" fmla="val 1389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15" name="_s58376"/>
            <p:cNvSpPr/>
            <p:nvPr/>
          </p:nvSpPr>
          <p:spPr>
            <a:xfrm>
              <a:off x="3337200" y="160020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Классификация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(общая, частная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_s58377"/>
            <p:cNvSpPr/>
            <p:nvPr/>
          </p:nvSpPr>
          <p:spPr>
            <a:xfrm>
              <a:off x="457200" y="42969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ffcc"/>
                  </a:solidFill>
                  <a:uFillTx/>
                  <a:latin typeface="Times New Roman"/>
                  <a:hlinkClick r:id="rId1" action="ppaction://hlinksldjump"/>
                </a:rPr>
                <a:t>Объект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_s58378"/>
            <p:cNvSpPr/>
            <p:nvPr/>
          </p:nvSpPr>
          <p:spPr>
            <a:xfrm>
              <a:off x="3337200" y="42969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ffcc"/>
                  </a:solidFill>
                  <a:uFillTx/>
                  <a:latin typeface="Times New Roman"/>
                  <a:hlinkClick r:id="rId2" action="ppaction://hlinksldjump"/>
                </a:rPr>
                <a:t>Признак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_s58379"/>
            <p:cNvSpPr/>
            <p:nvPr/>
          </p:nvSpPr>
          <p:spPr>
            <a:xfrm>
              <a:off x="6217560" y="42969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Метод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Объект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дания и сооруж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емельные участ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еса и многолетние насажд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астки нед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дные объек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едприят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равненные предме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мущественные пра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ые вещ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Признак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ункциональные назна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пита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роитель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рок служб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обенности констру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таж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личество комн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доб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естополож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ип поч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ные призна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Метод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57200" y="1600200"/>
            <a:ext cx="8228520" cy="4494600"/>
            <a:chOff x="457200" y="1600200"/>
            <a:chExt cx="8228520" cy="4494600"/>
          </a:xfrm>
        </p:grpSpPr>
        <p:cxnSp>
          <p:nvCxnSpPr>
            <p:cNvPr id="226" name="_s62477"/>
            <p:cNvCxnSpPr>
              <a:stCxn id="227" idx="0"/>
              <a:endCxn id="228" idx="2"/>
            </p:cNvCxnSpPr>
            <p:nvPr/>
          </p:nvCxnSpPr>
          <p:spPr>
            <a:xfrm flipV="1" rot="16200000">
              <a:off x="5229360" y="2739240"/>
              <a:ext cx="899640" cy="2215440"/>
            </a:xfrm>
            <a:prstGeom prst="bentConnector3">
              <a:avLst>
                <a:gd name="adj1" fmla="val 1389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9" name="_s62476"/>
            <p:cNvCxnSpPr>
              <a:stCxn id="230" idx="0"/>
              <a:endCxn id="228" idx="2"/>
            </p:cNvCxnSpPr>
            <p:nvPr/>
          </p:nvCxnSpPr>
          <p:spPr>
            <a:xfrm flipH="1" flipV="1" rot="5400000">
              <a:off x="3013560" y="2739240"/>
              <a:ext cx="899640" cy="2216160"/>
            </a:xfrm>
            <a:prstGeom prst="bentConnector3">
              <a:avLst>
                <a:gd name="adj1" fmla="val 1389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28" name="_s62472"/>
            <p:cNvSpPr/>
            <p:nvPr/>
          </p:nvSpPr>
          <p:spPr>
            <a:xfrm>
              <a:off x="2673000" y="160020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Times New Roman"/>
                </a:rPr>
                <a:t>Методы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_s62473"/>
            <p:cNvSpPr/>
            <p:nvPr/>
          </p:nvSpPr>
          <p:spPr>
            <a:xfrm>
              <a:off x="457200" y="429696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иерархические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_s62474"/>
            <p:cNvSpPr/>
            <p:nvPr/>
          </p:nvSpPr>
          <p:spPr>
            <a:xfrm>
              <a:off x="4888080" y="429696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фасетные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Times New Roman"/>
              </a:rPr>
              <a:t>Общая классификация объектов недвижимости фасетным методом по различным признакам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ризнак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ункциональное назнач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исхождение (воспроизводимость в натуральной форме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тепень готовности к эксплуата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орма собствен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раслевая принадлежн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зможность приватиза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1143000" y="685800"/>
            <a:ext cx="7162200" cy="4799160"/>
            <a:chOff x="1143000" y="685800"/>
            <a:chExt cx="7162200" cy="4799160"/>
          </a:xfrm>
        </p:grpSpPr>
        <p:cxnSp>
          <p:nvCxnSpPr>
            <p:cNvPr id="234" name="_s67616"/>
            <p:cNvCxnSpPr>
              <a:stCxn id="235" idx="0"/>
              <a:endCxn id="236" idx="2"/>
            </p:cNvCxnSpPr>
            <p:nvPr/>
          </p:nvCxnSpPr>
          <p:spPr>
            <a:xfrm flipV="1" rot="16200000">
              <a:off x="5208120" y="2120760"/>
              <a:ext cx="960480" cy="1928520"/>
            </a:xfrm>
            <a:prstGeom prst="bentConnector3">
              <a:avLst>
                <a:gd name="adj1" fmla="val 2080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7" name="_s67615"/>
            <p:cNvCxnSpPr>
              <a:stCxn id="238" idx="0"/>
              <a:endCxn id="236" idx="2"/>
            </p:cNvCxnSpPr>
            <p:nvPr/>
          </p:nvCxnSpPr>
          <p:spPr>
            <a:xfrm flipH="1" flipV="1" rot="5400000">
              <a:off x="3279600" y="2120400"/>
              <a:ext cx="960480" cy="1929240"/>
            </a:xfrm>
            <a:prstGeom prst="bentConnector3">
              <a:avLst>
                <a:gd name="adj1" fmla="val 20809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36" name="_s67611"/>
            <p:cNvSpPr/>
            <p:nvPr/>
          </p:nvSpPr>
          <p:spPr>
            <a:xfrm>
              <a:off x="3071520" y="685800"/>
              <a:ext cx="3305520" cy="19195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Функциональное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назначение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_s67612"/>
            <p:cNvSpPr/>
            <p:nvPr/>
          </p:nvSpPr>
          <p:spPr>
            <a:xfrm>
              <a:off x="1143000" y="3565440"/>
              <a:ext cx="3305520" cy="19195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Производствен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_s67613"/>
            <p:cNvSpPr/>
            <p:nvPr/>
          </p:nvSpPr>
          <p:spPr>
            <a:xfrm>
              <a:off x="4999680" y="3565440"/>
              <a:ext cx="3305520" cy="19195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Непроизводствен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Вопрос 1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65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Понятия и признаки недвижимости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"/>
          <p:cNvGrpSpPr/>
          <p:nvPr/>
        </p:nvGrpSpPr>
        <p:grpSpPr>
          <a:xfrm>
            <a:off x="1143000" y="762120"/>
            <a:ext cx="7009200" cy="5331960"/>
            <a:chOff x="1143000" y="762120"/>
            <a:chExt cx="7009200" cy="5331960"/>
          </a:xfrm>
        </p:grpSpPr>
        <p:cxnSp>
          <p:nvCxnSpPr>
            <p:cNvPr id="240" name="_s70667"/>
            <p:cNvCxnSpPr>
              <a:stCxn id="241" idx="0"/>
              <a:endCxn id="242" idx="2"/>
            </p:cNvCxnSpPr>
            <p:nvPr/>
          </p:nvCxnSpPr>
          <p:spPr>
            <a:xfrm flipV="1" rot="16200000">
              <a:off x="5058000" y="2484000"/>
              <a:ext cx="1067040" cy="1887480"/>
            </a:xfrm>
            <a:prstGeom prst="bentConnector3">
              <a:avLst>
                <a:gd name="adj1" fmla="val 2078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3" name="_s70666"/>
            <p:cNvCxnSpPr>
              <a:stCxn id="244" idx="0"/>
              <a:endCxn id="242" idx="2"/>
            </p:cNvCxnSpPr>
            <p:nvPr/>
          </p:nvCxnSpPr>
          <p:spPr>
            <a:xfrm flipH="1" flipV="1" rot="5400000">
              <a:off x="3170520" y="2483640"/>
              <a:ext cx="1067040" cy="1888200"/>
            </a:xfrm>
            <a:prstGeom prst="bentConnector3">
              <a:avLst>
                <a:gd name="adj1" fmla="val 20789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42" name="_s70662"/>
            <p:cNvSpPr/>
            <p:nvPr/>
          </p:nvSpPr>
          <p:spPr>
            <a:xfrm>
              <a:off x="3030480" y="762120"/>
              <a:ext cx="3234960" cy="21326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Происхождение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_s70663"/>
            <p:cNvSpPr/>
            <p:nvPr/>
          </p:nvSpPr>
          <p:spPr>
            <a:xfrm>
              <a:off x="1143000" y="3961440"/>
              <a:ext cx="3234960" cy="21326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Невоспроизводим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_s70664"/>
            <p:cNvSpPr/>
            <p:nvPr/>
          </p:nvSpPr>
          <p:spPr>
            <a:xfrm>
              <a:off x="4917240" y="3961440"/>
              <a:ext cx="3234960" cy="21326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Воспроизводим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457200" y="228600"/>
            <a:ext cx="8228520" cy="5865480"/>
            <a:chOff x="457200" y="228600"/>
            <a:chExt cx="8228520" cy="5865480"/>
          </a:xfrm>
        </p:grpSpPr>
        <p:cxnSp>
          <p:nvCxnSpPr>
            <p:cNvPr id="246" name="_s71697"/>
            <p:cNvCxnSpPr>
              <a:stCxn id="247" idx="0"/>
              <a:endCxn id="248" idx="2"/>
            </p:cNvCxnSpPr>
            <p:nvPr/>
          </p:nvCxnSpPr>
          <p:spPr>
            <a:xfrm flipV="1" rot="16200000">
              <a:off x="5092560" y="2053080"/>
              <a:ext cx="1173600" cy="2215440"/>
            </a:xfrm>
            <a:prstGeom prst="bentConnector3">
              <a:avLst>
                <a:gd name="adj1" fmla="val 1040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9" name="_s71696"/>
            <p:cNvCxnSpPr>
              <a:stCxn id="250" idx="0"/>
              <a:endCxn id="248" idx="2"/>
            </p:cNvCxnSpPr>
            <p:nvPr/>
          </p:nvCxnSpPr>
          <p:spPr>
            <a:xfrm flipH="1" flipV="1" rot="5400000">
              <a:off x="2876400" y="2053080"/>
              <a:ext cx="1173600" cy="2216160"/>
            </a:xfrm>
            <a:prstGeom prst="bentConnector3">
              <a:avLst>
                <a:gd name="adj1" fmla="val 1040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48" name="_s71692"/>
            <p:cNvSpPr/>
            <p:nvPr/>
          </p:nvSpPr>
          <p:spPr>
            <a:xfrm>
              <a:off x="2673000" y="228600"/>
              <a:ext cx="3797640" cy="2346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Times New Roman"/>
                </a:rPr>
                <a:t>Степень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Times New Roman"/>
                </a:rPr>
                <a:t>готовности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Times New Roman"/>
                </a:rPr>
                <a:t>к эксплуатации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_s71693"/>
            <p:cNvSpPr/>
            <p:nvPr/>
          </p:nvSpPr>
          <p:spPr>
            <a:xfrm>
              <a:off x="457200" y="3747960"/>
              <a:ext cx="3797640" cy="2346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Введённые в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строительство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_s71694"/>
            <p:cNvSpPr/>
            <p:nvPr/>
          </p:nvSpPr>
          <p:spPr>
            <a:xfrm>
              <a:off x="4888080" y="3747960"/>
              <a:ext cx="3797640" cy="2346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Незавершённые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строительство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457200" y="228600"/>
            <a:ext cx="8228160" cy="5866920"/>
            <a:chOff x="457200" y="228600"/>
            <a:chExt cx="8228160" cy="5866920"/>
          </a:xfrm>
        </p:grpSpPr>
        <p:cxnSp>
          <p:nvCxnSpPr>
            <p:cNvPr id="252" name="_s74769"/>
            <p:cNvCxnSpPr>
              <a:stCxn id="253" idx="1"/>
              <a:endCxn id="254" idx="2"/>
            </p:cNvCxnSpPr>
            <p:nvPr/>
          </p:nvCxnSpPr>
          <p:spPr>
            <a:xfrm rot="10800000">
              <a:off x="2925000" y="918000"/>
              <a:ext cx="823320" cy="48322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55" name="_s74767"/>
            <p:cNvCxnSpPr>
              <a:stCxn id="256" idx="1"/>
              <a:endCxn id="254" idx="2"/>
            </p:cNvCxnSpPr>
            <p:nvPr/>
          </p:nvCxnSpPr>
          <p:spPr>
            <a:xfrm rot="10800000">
              <a:off x="2925000" y="918000"/>
              <a:ext cx="823320" cy="3796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57" name="_s74764"/>
            <p:cNvCxnSpPr>
              <a:stCxn id="258" idx="1"/>
              <a:endCxn id="254" idx="2"/>
            </p:cNvCxnSpPr>
            <p:nvPr/>
          </p:nvCxnSpPr>
          <p:spPr>
            <a:xfrm rot="10800000">
              <a:off x="2925000" y="918000"/>
              <a:ext cx="823320" cy="2761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59" name="_s74763"/>
            <p:cNvCxnSpPr>
              <a:stCxn id="260" idx="1"/>
              <a:endCxn id="254" idx="2"/>
            </p:cNvCxnSpPr>
            <p:nvPr/>
          </p:nvCxnSpPr>
          <p:spPr>
            <a:xfrm rot="10800000">
              <a:off x="2925000" y="918000"/>
              <a:ext cx="823320" cy="1726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1" name="_s74762"/>
            <p:cNvCxnSpPr>
              <a:stCxn id="262" idx="1"/>
              <a:endCxn id="254" idx="2"/>
            </p:cNvCxnSpPr>
            <p:nvPr/>
          </p:nvCxnSpPr>
          <p:spPr>
            <a:xfrm rot="10800000">
              <a:off x="2925000" y="918000"/>
              <a:ext cx="823320" cy="690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54" name="_s74758"/>
            <p:cNvSpPr/>
            <p:nvPr/>
          </p:nvSpPr>
          <p:spPr>
            <a:xfrm>
              <a:off x="457200" y="22860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Форма собственности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_s74759"/>
            <p:cNvSpPr/>
            <p:nvPr/>
          </p:nvSpPr>
          <p:spPr>
            <a:xfrm>
              <a:off x="3748320" y="126396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Част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_s74760"/>
            <p:cNvSpPr/>
            <p:nvPr/>
          </p:nvSpPr>
          <p:spPr>
            <a:xfrm>
              <a:off x="3748320" y="229932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Государствен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_s74761"/>
            <p:cNvSpPr/>
            <p:nvPr/>
          </p:nvSpPr>
          <p:spPr>
            <a:xfrm>
              <a:off x="3748320" y="333468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Коллективные совмест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_s74766"/>
            <p:cNvSpPr/>
            <p:nvPr/>
          </p:nvSpPr>
          <p:spPr>
            <a:xfrm>
              <a:off x="3748320" y="437004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Коллективно-долев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_s74768"/>
            <p:cNvSpPr/>
            <p:nvPr/>
          </p:nvSpPr>
          <p:spPr>
            <a:xfrm>
              <a:off x="3748320" y="540540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Общественных организаци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457200" y="228600"/>
            <a:ext cx="8228160" cy="5866920"/>
            <a:chOff x="457200" y="228600"/>
            <a:chExt cx="8228160" cy="5866920"/>
          </a:xfrm>
        </p:grpSpPr>
        <p:cxnSp>
          <p:nvCxnSpPr>
            <p:cNvPr id="264" name="_s76818"/>
            <p:cNvCxnSpPr>
              <a:stCxn id="265" idx="1"/>
              <a:endCxn id="266" idx="2"/>
            </p:cNvCxnSpPr>
            <p:nvPr/>
          </p:nvCxnSpPr>
          <p:spPr>
            <a:xfrm rot="10800000">
              <a:off x="2925000" y="918000"/>
              <a:ext cx="823320" cy="48322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7" name="_s76816"/>
            <p:cNvCxnSpPr>
              <a:stCxn id="268" idx="1"/>
              <a:endCxn id="266" idx="2"/>
            </p:cNvCxnSpPr>
            <p:nvPr/>
          </p:nvCxnSpPr>
          <p:spPr>
            <a:xfrm rot="10800000">
              <a:off x="2925000" y="918000"/>
              <a:ext cx="823320" cy="3796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9" name="_s76813"/>
            <p:cNvCxnSpPr>
              <a:stCxn id="270" idx="1"/>
              <a:endCxn id="266" idx="2"/>
            </p:cNvCxnSpPr>
            <p:nvPr/>
          </p:nvCxnSpPr>
          <p:spPr>
            <a:xfrm rot="10800000">
              <a:off x="2925000" y="918000"/>
              <a:ext cx="823320" cy="2761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1" name="_s76812"/>
            <p:cNvCxnSpPr>
              <a:stCxn id="272" idx="1"/>
              <a:endCxn id="266" idx="2"/>
            </p:cNvCxnSpPr>
            <p:nvPr/>
          </p:nvCxnSpPr>
          <p:spPr>
            <a:xfrm rot="10800000">
              <a:off x="2925000" y="918000"/>
              <a:ext cx="823320" cy="1726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3" name="_s76811"/>
            <p:cNvCxnSpPr>
              <a:stCxn id="274" idx="1"/>
              <a:endCxn id="266" idx="2"/>
            </p:cNvCxnSpPr>
            <p:nvPr/>
          </p:nvCxnSpPr>
          <p:spPr>
            <a:xfrm rot="10800000">
              <a:off x="2925000" y="918000"/>
              <a:ext cx="823320" cy="690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66" name="_s76807"/>
            <p:cNvSpPr/>
            <p:nvPr/>
          </p:nvSpPr>
          <p:spPr>
            <a:xfrm>
              <a:off x="457200" y="22860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Отраслевая принадлежность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_s76808"/>
            <p:cNvSpPr/>
            <p:nvPr/>
          </p:nvSpPr>
          <p:spPr>
            <a:xfrm>
              <a:off x="3748320" y="126396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Промышлен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_s76809"/>
            <p:cNvSpPr/>
            <p:nvPr/>
          </p:nvSpPr>
          <p:spPr>
            <a:xfrm>
              <a:off x="3748320" y="229932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Строитель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_s76810"/>
            <p:cNvSpPr/>
            <p:nvPr/>
          </p:nvSpPr>
          <p:spPr>
            <a:xfrm>
              <a:off x="3748320" y="333468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Сельскохозяйствен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_s76815"/>
            <p:cNvSpPr/>
            <p:nvPr/>
          </p:nvSpPr>
          <p:spPr>
            <a:xfrm>
              <a:off x="3748320" y="437004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Жилищно-коммуналь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_s76817"/>
            <p:cNvSpPr/>
            <p:nvPr/>
          </p:nvSpPr>
          <p:spPr>
            <a:xfrm>
              <a:off x="3748320" y="540540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Культурно-бытовые и др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685800" y="1531800"/>
            <a:ext cx="7999920" cy="4639680"/>
            <a:chOff x="685800" y="1531800"/>
            <a:chExt cx="7999920" cy="4639680"/>
          </a:xfrm>
        </p:grpSpPr>
        <p:cxnSp>
          <p:nvCxnSpPr>
            <p:cNvPr id="276" name="_s78860"/>
            <p:cNvCxnSpPr>
              <a:stCxn id="277" idx="1"/>
              <a:endCxn id="278" idx="2"/>
            </p:cNvCxnSpPr>
            <p:nvPr/>
          </p:nvCxnSpPr>
          <p:spPr>
            <a:xfrm rot="10800000">
              <a:off x="3084840" y="2374920"/>
              <a:ext cx="800640" cy="337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9" name="_s78859"/>
            <p:cNvCxnSpPr>
              <a:stCxn id="280" idx="1"/>
              <a:endCxn id="278" idx="2"/>
            </p:cNvCxnSpPr>
            <p:nvPr/>
          </p:nvCxnSpPr>
          <p:spPr>
            <a:xfrm rot="10800000">
              <a:off x="3084840" y="2374920"/>
              <a:ext cx="800640" cy="210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1" name="_s78858"/>
            <p:cNvCxnSpPr>
              <a:stCxn id="282" idx="1"/>
              <a:endCxn id="278" idx="2"/>
            </p:cNvCxnSpPr>
            <p:nvPr/>
          </p:nvCxnSpPr>
          <p:spPr>
            <a:xfrm rot="10800000">
              <a:off x="3084840" y="2374920"/>
              <a:ext cx="800640" cy="844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78" name="_s78854"/>
            <p:cNvSpPr/>
            <p:nvPr/>
          </p:nvSpPr>
          <p:spPr>
            <a:xfrm>
              <a:off x="685800" y="1531800"/>
              <a:ext cx="4799880" cy="84348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Возможность приватизаци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_s78855"/>
            <p:cNvSpPr/>
            <p:nvPr/>
          </p:nvSpPr>
          <p:spPr>
            <a:xfrm>
              <a:off x="3885840" y="2797200"/>
              <a:ext cx="4799880" cy="84348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Запрещённые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_s78856"/>
            <p:cNvSpPr/>
            <p:nvPr/>
          </p:nvSpPr>
          <p:spPr>
            <a:xfrm>
              <a:off x="3885840" y="4062600"/>
              <a:ext cx="4799880" cy="84348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По решению Правительства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_s78857"/>
            <p:cNvSpPr/>
            <p:nvPr/>
          </p:nvSpPr>
          <p:spPr>
            <a:xfrm>
              <a:off x="3885840" y="5328000"/>
              <a:ext cx="4799880" cy="84348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Свободно приватизируемые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Пример общей классификации зданий фасетным методом по одному признаку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00400" y="2209680"/>
            <a:ext cx="2286000" cy="68580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Зд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04920" y="4038480"/>
            <a:ext cx="2209680" cy="68580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Жил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971800" y="4038480"/>
            <a:ext cx="2590920" cy="68580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ля коммерческ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9920" y="4038480"/>
            <a:ext cx="2438280" cy="68580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пециаль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общественны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343400" y="2895480"/>
            <a:ext cx="0" cy="1143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9" name=""/>
          <p:cNvCxnSpPr>
            <a:stCxn id="285" idx="0"/>
            <a:endCxn id="287" idx="0"/>
          </p:cNvCxnSpPr>
          <p:nvPr/>
        </p:nvCxnSpPr>
        <p:spPr>
          <a:xfrm flipH="1" rot="16200000">
            <a:off x="4323240" y="1123560"/>
            <a:ext cx="2520" cy="5829840"/>
          </a:xfrm>
          <a:prstGeom prst="bentConnector3">
            <a:avLst>
              <a:gd name="adj1" fmla="val -14400000"/>
            </a:avLst>
          </a:prstGeom>
          <a:ln cap="sq" w="1260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sp>
        <p:nvSpPr>
          <p:cNvPr id="290" name=""/>
          <p:cNvSpPr/>
          <p:nvPr/>
        </p:nvSpPr>
        <p:spPr>
          <a:xfrm>
            <a:off x="2652840" y="3241800"/>
            <a:ext cx="12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Целев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649400" y="3241800"/>
            <a:ext cx="16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знач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изнаки классификации недвижимости по уровням управлени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685800" y="1981080"/>
          <a:ext cx="7772400" cy="423252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роднохозяйствен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иональ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окаль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8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а собствен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евое назнач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спроизводимость в натуральной форм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раслевая принадлеж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рриториальное размещ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ункциональное назнач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требление свойств (удобств) предме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ва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точник дох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12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епень готовности к эксплуат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опрос 3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Особенности недвижимости как товар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Взаимосвязь потребительских и инвестиционных свойств недвижимости как товар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04920" y="2666880"/>
            <a:ext cx="1600200" cy="1524240"/>
          </a:xfrm>
          <a:prstGeom prst="ellipse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ова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дви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им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2441520"/>
            <a:ext cx="1447920" cy="2057400"/>
          </a:xfrm>
          <a:prstGeom prst="ellipse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668320" y="2708280"/>
            <a:ext cx="9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ла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600280" y="3470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нвес-и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038480" y="2239920"/>
            <a:ext cx="1752840" cy="225900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ез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дк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гранич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н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питал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ёмк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172200" y="2239920"/>
            <a:ext cx="1143000" cy="225900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469280" y="2239920"/>
            <a:ext cx="1522440" cy="225900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0" y="3429000"/>
            <a:ext cx="314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276720" y="3429000"/>
            <a:ext cx="314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47880" y="3429000"/>
            <a:ext cx="314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400800" y="3165480"/>
            <a:ext cx="6858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400800" y="3657600"/>
            <a:ext cx="6858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6934320" y="3165120"/>
            <a:ext cx="0" cy="4921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629400" y="3165480"/>
            <a:ext cx="0" cy="4921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309720" y="2570040"/>
            <a:ext cx="9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пр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73640" y="3733920"/>
            <a:ext cx="119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дл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001000" y="3165480"/>
            <a:ext cx="7621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001000" y="3657600"/>
            <a:ext cx="7621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153280" y="3165480"/>
            <a:ext cx="0" cy="4921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8458200" y="3165120"/>
            <a:ext cx="0" cy="4921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471800" y="259704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тоим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910280" y="369900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це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905120" y="342900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3591000" y="2441160"/>
            <a:ext cx="447480" cy="2667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3733920" y="3027240"/>
            <a:ext cx="304560" cy="13824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3733920" y="3276720"/>
            <a:ext cx="304560" cy="3045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733920" y="3733920"/>
            <a:ext cx="30456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91320" y="270828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791320" y="316548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1320" y="365760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791320" y="415620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Взаимосвязь потребительских и инвестиционных свойств недвижимости как товара</a:t>
            </a:r>
            <a:endParaRPr b="0" lang="en-US" sz="33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250920" y="1905120"/>
          <a:ext cx="8569080" cy="4038480"/>
        </p:xfrm>
        <a:graphic>
          <a:graphicData uri="http://schemas.openxmlformats.org/drawingml/2006/table">
            <a:tbl>
              <a:tblPr/>
              <a:tblGrid>
                <a:gridCol w="2143080"/>
                <a:gridCol w="1962000"/>
                <a:gridCol w="2160720"/>
                <a:gridCol w="2303280"/>
              </a:tblGrid>
              <a:tr h="8078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вар - недвижим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8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ла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вести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езность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дкость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граниченность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питалоемкость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ро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лож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8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оим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лан лекци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онятия и признаки недвижимо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бщая классификация объектов недвижимо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собенности недвижимости как това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пецифические свойства земли как товар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знач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Форма функционирования в сфере предприниматель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епень подвиж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лительность хозяйственного кругообор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че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озможность сервиту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Формирование потребительской стоим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исхожд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4796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тояние потребительской формы в процессе использ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нос в процессе использ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менение стоимости во време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личе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заимозаменяем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оротоспособность на рын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обый способ распоряжения землё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бщие потребности, удовлетворяемые землёй как товаром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2223000" y="2084400"/>
            <a:ext cx="4316400" cy="4289760"/>
            <a:chOff x="2223000" y="2084400"/>
            <a:chExt cx="4316400" cy="4289760"/>
          </a:xfrm>
        </p:grpSpPr>
        <p:sp>
          <p:nvSpPr>
            <p:cNvPr id="335" name="_s96262"/>
            <p:cNvSpPr/>
            <p:nvPr/>
          </p:nvSpPr>
          <p:spPr>
            <a:xfrm flipV="1">
              <a:off x="3950280" y="2084040"/>
              <a:ext cx="862200" cy="857880"/>
            </a:xfrm>
            <a:custGeom>
              <a:avLst/>
              <a:gdLst>
                <a:gd name="textAreaLeft" fmla="*/ 309240 w 862200"/>
                <a:gd name="textAreaRight" fmla="*/ 552960 w 862200"/>
                <a:gd name="textAreaTop" fmla="*/ 307800 h 857880"/>
                <a:gd name="textAreaBottom" fmla="*/ 550080 h 85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3399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. Базов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_s96266"/>
            <p:cNvSpPr/>
            <p:nvPr/>
          </p:nvSpPr>
          <p:spPr>
            <a:xfrm flipV="1">
              <a:off x="3519000" y="2941920"/>
              <a:ext cx="1724760" cy="857880"/>
            </a:xfrm>
            <a:custGeom>
              <a:avLst/>
              <a:gdLst>
                <a:gd name="textAreaLeft" fmla="*/ 379080 w 1724760"/>
                <a:gd name="textAreaRight" fmla="*/ 1345680 w 1724760"/>
                <a:gd name="textAreaTop" fmla="*/ 188640 h 857880"/>
                <a:gd name="textAreaBottom" fmla="*/ 669240 h 85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99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2. Безопасност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_s96267"/>
            <p:cNvSpPr/>
            <p:nvPr/>
          </p:nvSpPr>
          <p:spPr>
            <a:xfrm flipV="1">
              <a:off x="3085560" y="3800160"/>
              <a:ext cx="2591280" cy="857880"/>
            </a:xfrm>
            <a:custGeom>
              <a:avLst/>
              <a:gdLst>
                <a:gd name="textAreaLeft" fmla="*/ 449640 w 2591280"/>
                <a:gd name="textAreaRight" fmla="*/ 2141640 w 2591280"/>
                <a:gd name="textAreaTop" fmla="*/ 148680 h 857880"/>
                <a:gd name="textAreaBottom" fmla="*/ 709200 h 85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3399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3. Социаль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_s96263"/>
            <p:cNvSpPr/>
            <p:nvPr/>
          </p:nvSpPr>
          <p:spPr>
            <a:xfrm flipV="1">
              <a:off x="2654280" y="4658040"/>
              <a:ext cx="3453840" cy="857880"/>
            </a:xfrm>
            <a:custGeom>
              <a:avLst/>
              <a:gdLst>
                <a:gd name="textAreaLeft" fmla="*/ 519480 w 3453840"/>
                <a:gd name="textAreaRight" fmla="*/ 2934360 w 3453840"/>
                <a:gd name="textAreaTop" fmla="*/ 128880 h 857880"/>
                <a:gd name="textAreaBottom" fmla="*/ 729000 h 85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3399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4.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Психологическ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_s96264"/>
            <p:cNvSpPr/>
            <p:nvPr/>
          </p:nvSpPr>
          <p:spPr>
            <a:xfrm flipV="1">
              <a:off x="2223000" y="5515920"/>
              <a:ext cx="4316400" cy="857880"/>
            </a:xfrm>
            <a:custGeom>
              <a:avLst/>
              <a:gdLst>
                <a:gd name="textAreaLeft" fmla="*/ 589320 w 4316400"/>
                <a:gd name="textAreaRight" fmla="*/ 3727080 w 4316400"/>
                <a:gd name="textAreaTop" fmla="*/ 117000 h 857880"/>
                <a:gd name="textAreaBottom" fmla="*/ 740880 h 85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3399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5.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Интеллектуаль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Кривая спроса и предложения земли на рынке в краткосрочный период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76520" y="2437920"/>
            <a:ext cx="0" cy="3124440"/>
          </a:xfrm>
          <a:prstGeom prst="line">
            <a:avLst/>
          </a:prstGeom>
          <a:ln cap="sq"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5562720"/>
            <a:ext cx="5867280" cy="0"/>
          </a:xfrm>
          <a:prstGeom prst="line">
            <a:avLst/>
          </a:prstGeom>
          <a:ln cap="sq"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16200000">
            <a:off x="-1179720" y="3694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Цена земли, Ц, Р/м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574080" y="6137280"/>
            <a:ext cx="23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лощадь, м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г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629400" y="2743200"/>
            <a:ext cx="0" cy="28195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76520" y="411480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800600" y="342900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927760" y="342900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685880" y="342900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743200" y="410364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809880" y="4121280"/>
            <a:ext cx="6098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00600" y="412128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927760" y="411480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743200" y="342900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09880" y="3429000"/>
            <a:ext cx="6098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27760" y="3657600"/>
            <a:ext cx="1996920" cy="137160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715000" y="2743200"/>
            <a:ext cx="2209680" cy="160020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273680" y="568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086480" y="38926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994320" y="32004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363360" y="5797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630840" y="3664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222040" y="434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7772400" y="4571640"/>
            <a:ext cx="447840" cy="2350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637680" y="297180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127000" y="34354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7543800" y="3663720"/>
            <a:ext cx="38088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428520" y="205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Недвижимое имущество как товар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9280" y="2157120"/>
            <a:ext cx="810108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то объект сделок (купли, продажи, дарения, залога и др.), удовлетворяющий различные реальные или потенциальные потребности и имеющий определенные качественные и количественные характеристи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ОЛЕЗНОСТЬ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то способность удовлетворять потребности владельца именно в данном месте и в течение соответствующего периода време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Экономические особенности недвижимости как товар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иболее долговечный и основательный това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еспечивает надежность инвестиц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требляются по месту их расположения (территориальные предпочтения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равномерность денежных потоков при их приобретении и использован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ифференциация налогооблож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ногообразие вещных пра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Жесткая регламентация оформления сделок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иквидн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обходимость грамотного менеджмен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гнозируемые денежные потоки по инвестиционным циклам проект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61280" y="2549520"/>
            <a:ext cx="247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ложитель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енежные пото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54160" y="3497400"/>
            <a:ext cx="228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трицательн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енеж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токи сред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132000" y="4869000"/>
            <a:ext cx="1260720" cy="143964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кл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покупк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роитель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во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72000" y="4869000"/>
            <a:ext cx="1260360" cy="143964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заключ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договор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арен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012000" y="4869000"/>
            <a:ext cx="1260360" cy="143964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ходы 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цесс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ксплуата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451640" y="4869000"/>
            <a:ext cx="1260720" cy="143964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ыруч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даж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132000" y="3371760"/>
            <a:ext cx="576108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132000" y="3371760"/>
            <a:ext cx="179640" cy="1497240"/>
          </a:xfrm>
          <a:prstGeom prst="downArrow">
            <a:avLst>
              <a:gd name="adj1" fmla="val 50000"/>
              <a:gd name="adj2" fmla="val 208367"/>
            </a:avLst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751280" y="3371760"/>
            <a:ext cx="0" cy="596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751280" y="414972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751280" y="444348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751280" y="468468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054760" y="3371760"/>
            <a:ext cx="0" cy="2365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5472000" y="468468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5472000" y="4328640"/>
            <a:ext cx="0" cy="179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830920" y="504360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6010200" y="522288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472000" y="3968280"/>
            <a:ext cx="0" cy="179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5459400" y="3607920"/>
            <a:ext cx="0" cy="179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5472000" y="342900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5651640" y="444348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5651640" y="414828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5651640" y="4689000"/>
            <a:ext cx="0" cy="179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5651640" y="3860280"/>
            <a:ext cx="0" cy="179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5651640" y="351792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6189840" y="3860280"/>
            <a:ext cx="0" cy="179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6189840" y="423864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6189840" y="468648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6192720" y="351792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6661080" y="423720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6684840" y="462276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6684840" y="387828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6661080" y="349740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 flipV="1">
            <a:off x="6189840" y="2889360"/>
            <a:ext cx="2880" cy="4824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661080" y="2549520"/>
            <a:ext cx="0" cy="82224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6189840" y="2549520"/>
            <a:ext cx="471240" cy="3398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684840" y="2549520"/>
            <a:ext cx="13082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93080" y="2549520"/>
            <a:ext cx="179280" cy="822240"/>
          </a:xfrm>
          <a:prstGeom prst="upArrow">
            <a:avLst>
              <a:gd name="adj1" fmla="val 50000"/>
              <a:gd name="adj2" fmla="val 114659"/>
            </a:avLst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832360" y="3787920"/>
            <a:ext cx="12607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360920" y="344808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рем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041640" y="27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660920" y="27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459400" y="3186000"/>
            <a:ext cx="0" cy="1857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651640" y="2889360"/>
            <a:ext cx="0" cy="4824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751720" y="27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529760" y="27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414240" y="6329520"/>
            <a:ext cx="9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а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689000" y="632952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а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012000" y="632952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I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а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453440" y="6329520"/>
            <a:ext cx="11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V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а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Жизненный цикл (ЖЦ) объектов недвижимост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Ц это законченная последовательность  процессов существования недвижимости от ввода в эксплуатацию до прекращ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личают четыре вида цикл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Ц делово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изненный цикл товар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Ц вида деятель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Ц предприятия как имущественного комплекс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Жизненный цикл недвижимости как физического объект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250920" y="1844640"/>
          <a:ext cx="8713800" cy="4530600"/>
        </p:xfrm>
        <a:graphic>
          <a:graphicData uri="http://schemas.openxmlformats.org/drawingml/2006/table">
            <a:tbl>
              <a:tblPr/>
              <a:tblGrid>
                <a:gridCol w="2179440"/>
                <a:gridCol w="2178000"/>
                <a:gridCol w="2176560"/>
                <a:gridCol w="2179800"/>
              </a:tblGrid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Прединвести-ционная стад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Создание, формирование (строительство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Ввод в      эксплуатацию (госрегистраци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Владение и использо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 Смена собственника (госрегистраци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 Развит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 Капитальный ремон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Функциональное устаре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 Физический изно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 Ухудшение потребительских свойст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 Изменение функционального назнач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 Конец экономического срока жизни    (госрегистраци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"/>
          <p:cNvSpPr/>
          <p:nvPr/>
        </p:nvSpPr>
        <p:spPr>
          <a:xfrm>
            <a:off x="1042920" y="2852640"/>
            <a:ext cx="6769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1042560" y="4221000"/>
            <a:ext cx="6697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116000" y="6021360"/>
            <a:ext cx="5616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40720" y="2852640"/>
            <a:ext cx="0" cy="43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042920" y="4221000"/>
            <a:ext cx="0" cy="64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Жизненный цикл вида бизнес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395280" y="1916280"/>
          <a:ext cx="8362800" cy="4708440"/>
        </p:xfrm>
        <a:graphic>
          <a:graphicData uri="http://schemas.openxmlformats.org/drawingml/2006/table">
            <a:tbl>
              <a:tblPr/>
              <a:tblGrid>
                <a:gridCol w="2090880"/>
                <a:gridCol w="2092320"/>
                <a:gridCol w="2089080"/>
                <a:gridCol w="2090520"/>
              </a:tblGrid>
              <a:tr h="23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иза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дия расширения, рос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дия зрел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кращение деловой актив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 Лицензирование, госрегистра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  Подготовительный этап создания нового предприят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 Подготовительный этап нового вида бизне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мена вида бизне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"/>
          <p:cNvSpPr/>
          <p:nvPr/>
        </p:nvSpPr>
        <p:spPr>
          <a:xfrm>
            <a:off x="1619280" y="3429000"/>
            <a:ext cx="6769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8388360" y="3429000"/>
            <a:ext cx="0" cy="23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1618920" y="5805360"/>
            <a:ext cx="6769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Объекты недвижимости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371600" y="1143000"/>
          <a:ext cx="6076800" cy="5153040"/>
        </p:xfrm>
        <a:graphic>
          <a:graphicData uri="http://schemas.openxmlformats.org/drawingml/2006/table">
            <a:tbl>
              <a:tblPr/>
              <a:tblGrid>
                <a:gridCol w="3154320"/>
                <a:gridCol w="29224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дельные объек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ожные объек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Земельные участ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Участники нед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Обособленные водные объек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Приравненные к недвижимости, подлежащие государственной регистрации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еса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ноголетние насаждения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дания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оружения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 Приравненные к недвижимости, подлежащие государственной регистрации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здушные и морские суда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да внутреннего плавания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смические объек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 Иные предметы, наделённые статусом недвижимост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приятия  в целом как имущественный комплекс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мельные участки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дания и сооружения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вентарь и оборудование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ырьё и продукция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ебования и долги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а на обозначения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дивидуализирующие предприятие, его продукцию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материальные активы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ция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ругие исключительные прав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Срок жизни и возраст недвижимост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457200" y="1600200"/>
          <a:ext cx="8229600" cy="5230800"/>
        </p:xfrm>
        <a:graphic>
          <a:graphicData uri="http://schemas.openxmlformats.org/drawingml/2006/table">
            <a:tbl>
              <a:tblPr/>
              <a:tblGrid>
                <a:gridCol w="2854440"/>
                <a:gridCol w="5375160"/>
              </a:tblGrid>
              <a:tr h="55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едел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ономический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иод прибыльного использования объекта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зический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иод реального существования объекта в функционально пригодном состоянии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тавшийся срок экономической жизни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даты оценки до окончания срока экономической жизни объекта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ффективный возраст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ан на оценке внешнего вида и технического состояния объекта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ронологический возраст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дня ввода в эксплуатацию до даты оценки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Износ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457200" y="1600200"/>
          <a:ext cx="8229600" cy="4168800"/>
        </p:xfrm>
        <a:graphic>
          <a:graphicData uri="http://schemas.openxmlformats.org/drawingml/2006/table">
            <a:tbl>
              <a:tblPr/>
              <a:tblGrid>
                <a:gridCol w="2135160"/>
                <a:gridCol w="1979640"/>
                <a:gridCol w="2057400"/>
                <a:gridCol w="2057400"/>
              </a:tblGrid>
              <a:tr h="748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зическ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раль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теря технико-эксплуатационных свойств и потребительской стоимос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есценение объекта независимо от его физического состоя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порционально интенсивности использо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 влиянием природных услов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ледствие удешевления воспроизводства объек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результате создания новых, более экономичных объек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Способы начисления амортизаци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инейный метод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особ уменьшаемого остат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особ списания по сумме чисел лет срока полезного использова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особ списания стоимости пропорционально объему произведенной продукц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умулятивный метод (мировая практик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Износ в оценке недвижимости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457200" y="1600200"/>
          <a:ext cx="8229600" cy="4529160"/>
        </p:xfrm>
        <a:graphic>
          <a:graphicData uri="http://schemas.openxmlformats.org/drawingml/2006/table">
            <a:tbl>
              <a:tblPr/>
              <a:tblGrid>
                <a:gridCol w="1414440"/>
                <a:gridCol w="1328760"/>
                <a:gridCol w="1371600"/>
                <a:gridCol w="1371600"/>
                <a:gridCol w="2743200"/>
              </a:tblGrid>
              <a:tr h="99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зическ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ункциональн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ономическ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раним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устраним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раним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устраним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устраним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держки на его исправление превосходят вклад в стоим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держки по устранению  меньше вклада в стоим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держки на его исправление превосходят вклад в стоим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держки по устранению  меньше вклада в стоим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бытки, вызываемый внешними по отношению к границам объекта фактора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копленный износ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48" name=""/>
          <p:cNvSpPr/>
          <p:nvPr/>
        </p:nvSpPr>
        <p:spPr>
          <a:xfrm flipH="1">
            <a:off x="457200" y="5769000"/>
            <a:ext cx="2743200" cy="0"/>
          </a:xfrm>
          <a:prstGeom prst="line">
            <a:avLst/>
          </a:prstGeom>
          <a:ln cap="sq" w="63360">
            <a:solidFill>
              <a:srgbClr val="ffffff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943600" y="5769000"/>
            <a:ext cx="2743200" cy="0"/>
          </a:xfrm>
          <a:prstGeom prst="line">
            <a:avLst/>
          </a:prstGeom>
          <a:ln cap="sq" w="63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Недвижимость как физический, экономико-правовой и социальный комплекс отношений</a:t>
            </a:r>
            <a:br>
              <a:rPr sz="1800"/>
            </a:b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85800" y="2180520"/>
            <a:ext cx="7847640" cy="3762720"/>
            <a:chOff x="685800" y="2180520"/>
            <a:chExt cx="7847640" cy="3762720"/>
          </a:xfrm>
        </p:grpSpPr>
        <p:cxnSp>
          <p:nvCxnSpPr>
            <p:cNvPr id="134" name="_s34821"/>
            <p:cNvCxnSpPr>
              <a:stCxn id="135" idx="2"/>
              <a:endCxn id="136" idx="3"/>
            </p:cNvCxnSpPr>
            <p:nvPr/>
          </p:nvCxnSpPr>
          <p:spPr>
            <a:xfrm rot="10800000">
              <a:off x="3013560" y="2718360"/>
              <a:ext cx="812880" cy="2985120"/>
            </a:xfrm>
            <a:prstGeom prst="bentConnector2">
              <a:avLst/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37" name="_s34822"/>
            <p:cNvCxnSpPr>
              <a:stCxn id="138" idx="2"/>
              <a:endCxn id="136" idx="3"/>
            </p:cNvCxnSpPr>
            <p:nvPr/>
          </p:nvCxnSpPr>
          <p:spPr>
            <a:xfrm rot="10800000">
              <a:off x="3013560" y="2718360"/>
              <a:ext cx="812880" cy="2179440"/>
            </a:xfrm>
            <a:prstGeom prst="bentConnector2">
              <a:avLst/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39" name="_s34823"/>
            <p:cNvCxnSpPr>
              <a:stCxn id="140" idx="2"/>
              <a:endCxn id="136" idx="3"/>
            </p:cNvCxnSpPr>
            <p:nvPr/>
          </p:nvCxnSpPr>
          <p:spPr>
            <a:xfrm rot="10800000">
              <a:off x="3013560" y="2718360"/>
              <a:ext cx="812880" cy="1373400"/>
            </a:xfrm>
            <a:prstGeom prst="bentConnector2">
              <a:avLst/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41" name="_s34824"/>
            <p:cNvCxnSpPr>
              <a:stCxn id="142" idx="2"/>
              <a:endCxn id="136" idx="3"/>
            </p:cNvCxnSpPr>
            <p:nvPr/>
          </p:nvCxnSpPr>
          <p:spPr>
            <a:xfrm rot="10800000">
              <a:off x="3013560" y="2718360"/>
              <a:ext cx="812880" cy="567360"/>
            </a:xfrm>
            <a:prstGeom prst="bentConnector2">
              <a:avLst/>
            </a:prstGeom>
            <a:ln w="28440">
              <a:solidFill>
                <a:srgbClr val="463416"/>
              </a:solidFill>
              <a:miter/>
            </a:ln>
          </p:spPr>
        </p:cxnSp>
        <p:sp>
          <p:nvSpPr>
            <p:cNvPr id="136" name="_s34825"/>
            <p:cNvSpPr/>
            <p:nvPr/>
          </p:nvSpPr>
          <p:spPr>
            <a:xfrm>
              <a:off x="685800" y="2180520"/>
              <a:ext cx="4711320" cy="5385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99ff">
                    <a:alpha val="40000"/>
                  </a:srgbClr>
                </a:gs>
                <a:gs pos="100000">
                  <a:srgbClr val="003399"/>
                </a:gs>
              </a:gsLst>
              <a:lin ang="5400000"/>
            </a:gra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Недвижимое имущество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_s34826"/>
            <p:cNvSpPr/>
            <p:nvPr/>
          </p:nvSpPr>
          <p:spPr>
            <a:xfrm>
              <a:off x="3826800" y="2988360"/>
              <a:ext cx="4706640" cy="536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003399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ffcc"/>
                  </a:solidFill>
                  <a:uFillTx/>
                  <a:latin typeface="Times New Roman"/>
                  <a:hlinkClick r:id="rId1" action="ppaction://hlinksldjump"/>
                </a:rPr>
                <a:t>Физический объект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_s34827"/>
            <p:cNvSpPr/>
            <p:nvPr/>
          </p:nvSpPr>
          <p:spPr>
            <a:xfrm>
              <a:off x="3826800" y="3794400"/>
              <a:ext cx="4706640" cy="536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003399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ffcc"/>
                  </a:solidFill>
                  <a:uFillTx/>
                  <a:latin typeface="Times New Roman"/>
                  <a:hlinkClick r:id="rId2" action="ppaction://hlinksldjump"/>
                </a:rPr>
                <a:t>Объект экономический отношений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_s34828"/>
            <p:cNvSpPr/>
            <p:nvPr/>
          </p:nvSpPr>
          <p:spPr>
            <a:xfrm>
              <a:off x="3826800" y="4600800"/>
              <a:ext cx="4706640" cy="5364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003399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ffcc"/>
                  </a:solidFill>
                  <a:uFillTx/>
                  <a:latin typeface="Times New Roman"/>
                  <a:hlinkClick r:id="rId3" action="ppaction://hlinksldjump"/>
                </a:rPr>
                <a:t>Объект правовых отношений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_s34829"/>
            <p:cNvSpPr/>
            <p:nvPr/>
          </p:nvSpPr>
          <p:spPr>
            <a:xfrm>
              <a:off x="3826800" y="5406480"/>
              <a:ext cx="4706640" cy="536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003399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ffcc"/>
                  </a:solidFill>
                  <a:uFillTx/>
                  <a:latin typeface="Times New Roman"/>
                  <a:hlinkClick r:id="rId4" action="ppaction://hlinksldjump"/>
                </a:rPr>
                <a:t>Объект общих социальных отношений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Физический объект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естополож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лощадь и грани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ъё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мер (высота, длина, шири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ор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андшаф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лежи ископаем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ип поч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изические характерист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нешняя сре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Объект экономических отношений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ов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питал в вещевой форм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лез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оход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здержки содерж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иквид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инансовый акти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тоим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це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логообло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вест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прос и предло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Объект правовых отношений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аво собствен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ещные пр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во пожизненного наследуемого влад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во постоянного польз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во хозяйственного вед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во оперативного управ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ра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во залога, аренды, застрой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ервиту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во на земельный участок собственника здания, расположенного на нё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пециальное право «золотая акция» на участие в  управлении предприят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ные пр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жораев В.О.</cp:lastModifiedBy>
  <dcterms:modified xsi:type="dcterms:W3CDTF">2007-02-15T16:50:26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