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1EE-B629-408B-8A82-5EA00A0F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41F-DAA6-4572-8D12-725635C2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0BF-AC87-4DFC-B67E-19C4CC40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69A-FC61-4D38-A112-D206FB09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9732F-292B-4601-B459-472A1909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1058D-DD05-45B3-8A98-E8509EF6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0F4E1-321F-4D09-8B35-525F3F01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DDCB7-102B-48E5-9DBC-2D6D56A4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D64C1-7114-46EF-A02B-4A11087C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F9116-388B-4FF3-902A-6C98EC2B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C1CAE-8757-4635-9CF2-BA312556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9E8-DA23-4612-BB07-D7ACBD4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29D33-2DDC-477A-A357-304FEA80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B7256-4C88-4011-A914-A65E0B44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0D552-7403-4816-B802-3884BA4D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DB3E8-8045-48B0-8D1A-F2B6E426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17C8B-5800-4ECE-A3BE-EA8D0B55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51C-005E-482E-866C-BD5D8F6B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D3E-6529-4A8E-818C-193216B0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06F-C6FB-4317-AC53-BAB0CC8C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164-B3B5-4E16-890F-36FD0ACE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E26-0963-4AF7-834C-C24F54D9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D89-37BE-4460-A3DE-A498D527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804-F813-41F8-8DAC-FCA3E0C0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DB0B-2DB5-41CB-A5C2-8F318FC46F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8078-B7D7-4661-837C-32AB97E694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м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чественная и количественная характеристики объектов недвижим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Качество местоположения недвижимости (Ситус)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на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916280"/>
            <a:ext cx="7417080" cy="33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421000"/>
            <a:ext cx="6696000" cy="2448000"/>
          </a:xfrm>
          <a:prstGeom prst="ellipse">
            <a:avLst/>
          </a:prstGeom>
          <a:solidFill>
            <a:srgbClr val="3399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852640"/>
            <a:ext cx="5256360" cy="1513080"/>
          </a:xfrm>
          <a:prstGeom prst="ellipse">
            <a:avLst/>
          </a:prstGeom>
          <a:solidFill>
            <a:srgbClr val="33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284640"/>
            <a:ext cx="280836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3357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виж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рг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492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мыкающие терри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29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жайшие окре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208720" cy="43196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522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ИТ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УЛЬТАТ ВЗАИМОДЕЙСТВИЯ КОНКРЕТНОГО ВАРИАНТА ЗЕМЛЕПОЛЬЗОВАНИЯ И ЭКОНОМИЧЕСКОЙ СРЕДЫ НА ПЯТИ УРОВНЯХ (СТРАНА, РЕГИОН, ТОРГОВАЯ ЗОНА, ПРИМЫКАЮЩИЕ И БЛИЖАЙШИЕ ТЕРРИТОР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нешняя среда недвижим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213000"/>
            <a:ext cx="1871640" cy="1152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движи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989000"/>
            <a:ext cx="251964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ит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28464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з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в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22100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084640"/>
            <a:ext cx="201636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1557360"/>
            <a:ext cx="259236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родные 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1916280"/>
            <a:ext cx="237672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ро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лож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24280"/>
            <a:ext cx="1728720" cy="93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стоя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 рын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б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4076640"/>
            <a:ext cx="172872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5157720"/>
            <a:ext cx="223200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м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516640"/>
            <a:ext cx="2303640" cy="936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змож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феры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24360" y="3284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4076640"/>
            <a:ext cx="93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59280" y="2492280"/>
            <a:ext cx="1297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2421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059280" y="2565000"/>
            <a:ext cx="1441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843280" y="3500280"/>
            <a:ext cx="93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407664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42920" y="4365720"/>
            <a:ext cx="158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36572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4365720"/>
            <a:ext cx="1297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часть поверхности земли, имеющая четко обозначенную границу, площадь, местоположение, правовой статус и другие характеристики, учитываемые в государственном земельном кадастре и Едином государственном реестре прав на недвижимое имущество и сделок с ним. Бывают делимыми и неделим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елимый 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читается такой участок, который может быть разделен на части, каждая из которых после раздела по своему размеру образует самостоятельный участок с прежним целевым назначением и разрешенным использ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адастровый номер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362440" cy="4103640"/>
        </p:xfrm>
        <a:graphic>
          <a:graphicData uri="http://schemas.openxmlformats.org/drawingml/2006/table">
            <a:tbl>
              <a:tblPr/>
              <a:tblGrid>
                <a:gridCol w="1252800"/>
                <a:gridCol w="3783600"/>
                <a:gridCol w="33260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1х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3х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министративный 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ая администр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е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масс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8х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писание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517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субъекта права - Адрес, документы удостоверяющие субъекта и его реквиз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ресные ориентиры - Жилой массив, поселок, улица и номер до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кументы , устанавливающие землепользование ( Постановление, свидетельство, договор – аренды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 земель - Целевое назначение и фактическое исполь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классификатора зем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по документам, в том числе постороннего 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санитарно-защитной зоны и (или) зоны с особым режимом использования в пределах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земельного права (собственность, временное пользование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ерхностный и подпочвенный слой, ландшафт, топограф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лучшения и инженерное об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аспорт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пликация зем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земельного налога или арендной пл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ночная и расчетная стоимость уча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ансовая стоимость строений и сооружений на учас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ая стоимость (стр.3+стр.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лог на недвиж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женерно-технически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ологические показа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достроительны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тегории земель по потребительским свойств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1600200"/>
          <a:ext cx="8424720" cy="5213520"/>
        </p:xfrm>
        <a:graphic>
          <a:graphicData uri="http://schemas.openxmlformats.org/drawingml/2006/table">
            <a:tbl>
              <a:tblPr/>
              <a:tblGrid>
                <a:gridCol w="1247760"/>
                <a:gridCol w="4368960"/>
                <a:gridCol w="280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нные по Оренбургской области (млн. г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охозяйствен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населенных пун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промышленности, транспорта, связи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обо охраняемые террит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но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запа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земель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сание зданий и соору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собленные вод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ки не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 уровню хозяйственной освоенности участки могут быть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застроенными, предназначенными под строитель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троен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незавершенного строитель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ветхими застройками (под сно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подлежащими вывод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бод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ункции ле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ая (климаторегулирующая, почвозащитная, водоохранная, санитарно-гигиеническа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номическая (источник древесины и множества видов потребительской продукц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ая (оздоровительная, улучшает условия жизни люд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став лес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507520" cy="4965840"/>
        </p:xfrm>
        <a:graphic>
          <a:graphicData uri="http://schemas.openxmlformats.org/drawingml/2006/table">
            <a:tbl>
              <a:tblPr/>
              <a:tblGrid>
                <a:gridCol w="2127240"/>
                <a:gridCol w="2125800"/>
                <a:gridCol w="2127240"/>
                <a:gridCol w="212724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лесного фо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входящие в лесной фон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евесно-кустарниковая растительность на земл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ые ле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я нужд лесного хозя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а на землях Министерства обор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льскохозяйст-венного назна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боло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нспорта (на полосах отвода доро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крытые, но предназначен- ные для его восстано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каменистыми россыпя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ские ле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дного фонда (на полосах отвода канал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руг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ачные уча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Классификация лесов по категории защищенности земел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600200"/>
          <a:ext cx="8362800" cy="4843440"/>
        </p:xfrm>
        <a:graphic>
          <a:graphicData uri="http://schemas.openxmlformats.org/drawingml/2006/table">
            <a:tbl>
              <a:tblPr/>
              <a:tblGrid>
                <a:gridCol w="2090520"/>
                <a:gridCol w="2163960"/>
                <a:gridCol w="2270160"/>
                <a:gridCol w="1838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тегории защищ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защитные, санитарно-гигиенические, оздоровительные, особоохраня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оздоровительные, санитарно-гигиенические, ограниченно эксплуатацио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плуатационные при сохранении экологиче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 распо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претные и защитные полосы, леса пустынь, поселений, куро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регионах с высокой плотностью населения или недостаточными лесными ресур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много лесных регио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 допускаетс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пля – продажа, залог и совершение других сделок, которые могут повлечь отчуждение  участков лесного фон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есной фонд является федеральной собственностью. Допускается передача части фондов в собственность субъектов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знаки классификации многолетних насажд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иду продукции (плодово-ягодные; техническ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функциональному назначению (живые изгороди;  полезащитные; декоративно-озеленительны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зрасту вступления в товарное исполь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сроку эксплуатации (плодово-ягодные 10-30 лет; технические 10-50 лет; озеленительные 50-100 л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летние насаждения могут быть в собственности граждан без ограничения сделок (купля – продажа, залог, аренда, траст, дарение, наследова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особленные водные объек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бособленные водные объек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это небольшие по площади и непроточные искусственные водоемы, не имеющие гидравлической связи с другими поверхностными водными объек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тношения регулируются Водным Кодексом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озможные цели использов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питьевого и хозяйственно-бытового водоснаб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здравоо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сельского и лесно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оспла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гидроэнергетики и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рыбного и охотничье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добычи полезных ископаемых, торф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писание зданий и сооружен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жимы водопольз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водопольз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ьное водопользование (с применением технических средств, устройств и сооружений при наличии лицензии, за исключением плавания на маломерных суда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дра -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ь земной коры, расположенная ниже почвенного слоя, а при его отсутствии – ниже земной поверхности и дна водоемов, простирающейся до глубин, доступных для геологического изучения и осво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частки недр являются государственным недвижимым имуществом. Права пользования недрами могут передаваться субъектам предприниматель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Государственный кадастр месторождений и проявлений полезных ископаемых содержит следующие сведения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сновных и совместно залегающи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содержащихся в них компонен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орно-технических и иных условиях разрабо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еолого-экономической оценке месторожд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выявленных проявления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лицензиях на пользование недр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работах по геологическому изучению не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Государственный баланс запасов полезных ископаемы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назначен для учета минерально-сырьевой базы и содержит с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количестве, качестве и степени изученности запасов каждого вида полезных ископаемых по месторождениям, имеющим промышлен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их размещении и степени промышленного осво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беспеченности промышленности разведанными полезными ископаем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чественная и количественная информация о собственн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зические характеристик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мущественно-правовое опис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кономические показател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стояние внешней сре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Местоположение объекта (Кадастровый номер здания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88628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административного округа (г. Оренбур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массива кадастрового кварт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земельного участка в кварта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первичного объекта на участ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вторичного объекта, как составная часть первичн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Физические характеристики здания, соору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мен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ощадь, объем, выс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ал стен, крыши, перекрыт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построй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ень дефектов по видам и размеру (дефектная ведомость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спертная оценка стоимости объекта и его отдельных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Эксплуатационные качест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руктивная надежность и и физическая долговеч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соответств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хитектурно-планировочное соответствие назнач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ность строительства и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ргономические показател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опасность эксплуат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мущественно правовое описа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О СОБСТВЕННОСТИ (ВЛАДЕНИЕ, ПОЛЬЗОВАНИЕ, РАСПОРЯЖЕНИЕ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ЩНЫЕ ПРАВ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ГРАНИЧЕНИ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ГРАНИЧ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рвитуты – ограниченное вещное право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потека – залог недвижим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ренда и доверительное управление – договорные обязатель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8:38:10Z</dcterms:created>
  <dc:creator>Джораев В.О.</dc:creator>
  <dc:description/>
  <dc:language>en-US</dc:language>
  <cp:lastModifiedBy>Джораев В.О.</cp:lastModifiedBy>
  <dcterms:modified xsi:type="dcterms:W3CDTF">2007-03-21T15:31:13Z</dcterms:modified>
  <cp:revision>6</cp:revision>
  <dc:subject/>
  <dc:title>Тема 2</dc:title>
</cp:coreProperties>
</file>