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ADF-2046-48E7-B7D6-D3527EB1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DD4-E907-41D0-B24B-50541AC9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68D-7B4A-4772-88CB-76ED48F3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48A-720B-4107-9D5E-0FB170CA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07A3-9791-43BC-88D4-E5C00BAF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8558-7327-410B-AE5C-FA47A3DD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02C2-FA77-4C70-A950-401C9C49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2AD2-77E4-4534-BF43-86E01722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6F70-B98F-40B7-9710-596FD744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C82B-2253-4EDE-9E7B-48173065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8004-D5F0-4591-A60C-D462EBE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7685-9F8A-46D1-B8A6-0A558E5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A7B1-1342-42AF-A7E4-9FEA8AAD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4E63-B445-41E5-8C6A-477D0A36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BCD7-0156-4C7F-96BC-2CBC6A6A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4AF5-FB6B-4313-9CB7-7F3413DE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600F-DE6E-4613-BDFA-5C1268DD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1469-79FA-4533-A816-1514F2C4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794FA-AC8D-49FC-BA8E-6CC95E45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F47B-7662-4DBB-9091-2B1780C7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D1EC8-7E74-4CA8-9364-69AAF0D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7E73-16F4-4FCC-B82C-0B7AC2F3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B93-CD78-4279-94BB-70F98C05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047A3-3202-42C5-A170-298726A9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B3BC-9C70-42E1-BDD8-B24BBE1F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F18A-2F14-4E72-A6CA-EA6F67EE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7E626-1DBE-44DB-9D32-4992F70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03D3-0518-4FFA-95CD-9C56D641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7014-A4B1-43D8-9280-91C7EB36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9611F-8962-42A3-9CAC-BD05C27B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F6786-7AAF-4D85-B5F9-E608BB96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3E767-12F7-428F-8850-EE54C59D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3206E-0732-4089-91AE-D51CE40E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9515-348D-4869-A520-9948F432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C7EF-4938-4B80-86BA-E8E896F1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7406D-8470-4470-99BA-88FBE215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6065A-E0E6-4218-AAFA-42DC161A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8B963-5608-411F-AD6C-6244F26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653F-6D5D-49FE-8DA4-CA47D017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44BC9-79A7-44E8-B885-CA780BC6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4CCA-5911-420E-B3B7-0E2D8F18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0E0FC-F6CE-4846-8A85-FBC82D04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BCB1A-5D38-4736-99D1-B813FACD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D346C-1018-4098-ABE0-D7134FD2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2DB-431D-48F0-9D89-33FF99DF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4B5DF-44D2-4CD5-879B-704A464E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F8CD5-3604-495C-AB30-C74CF714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F54C3-0F1B-4AFA-90D5-B6D5F16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2BC8-F24C-45A4-9A8C-FB1F5E6B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5E39B-F73C-49D7-B413-A37DEDC3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795D0-62A8-413B-830D-623B518F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658D8-089B-442A-8FC5-7E8EB76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DAF8B-8686-4969-8AD1-19EC676F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B92EF-AF57-4102-8D6C-0F313907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D044-2407-46DA-B325-07F4B88E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3BD-A599-43FC-980C-DA5019E0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ED8F-1CE8-4364-96F4-3C2C9BFF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744EF-D31A-497A-BE56-15262B05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DABD7-400C-45F7-AF6E-2454CA85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48CB1-5861-4E5C-ABAB-7A6BA2EF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6E939-F031-414F-AF93-89B9224E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05A5A-FD51-469E-BCD7-64A90B4F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F163-0736-4640-BD10-1621C990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FE173-AB48-4B14-B7FF-951BA062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75182-01FC-46DA-BB5C-5AA97059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16422-2AB1-48AD-997F-A9321CE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408-63E9-4D47-9FCC-B57899AC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4EAA4-DA53-4526-AFFA-D17463AD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521E-297E-4938-AEE6-A3650D7D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1B747-130A-4B3B-ABBA-8463F222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6A6-B7C1-4E89-B135-965393F0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0F7-BB08-4148-A765-623FFC5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F3AE-5C74-47AE-AB2A-85C4F01FCA5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5F03-D5A3-4B5C-8D47-E58C2FEB61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C974-7F82-43A4-AF9B-9E3B85DCABA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4CBE-AAA8-4D20-8201-CE2D0AB2F5C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9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5B3D-E835-42C0-A34E-C9736F7A5C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3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6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7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8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9CFB-221D-451D-A92B-C6D967E6E2D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ТЕМА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ФИНАНСЫ НЕДВИЖИМОСТИ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вансов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19280" y="2421000"/>
          <a:ext cx="6192720" cy="25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21000"/>
                    <a:ext cx="6192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РАВНЫМИ ДОЛЕВЫМИ ВЗНОСАМ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68360" y="1773360"/>
          <a:ext cx="8153280" cy="425448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АВНЫМИ ЧАСТЯМ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68360" y="1828800"/>
          <a:ext cx="8218440" cy="4370400"/>
        </p:xfrm>
        <a:graphic>
          <a:graphicData uri="http://schemas.openxmlformats.org/drawingml/2006/table">
            <a:tbl>
              <a:tblPr/>
              <a:tblGrid>
                <a:gridCol w="863640"/>
                <a:gridCol w="1655640"/>
                <a:gridCol w="1800360"/>
                <a:gridCol w="2255760"/>
                <a:gridCol w="16430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ПРОГРЕССИВНАЯ СХ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33520" y="1828800"/>
          <a:ext cx="8153280" cy="4114800"/>
        </p:xfrm>
        <a:graphic>
          <a:graphicData uri="http://schemas.openxmlformats.org/drawingml/2006/table">
            <a:tbl>
              <a:tblPr/>
              <a:tblGrid>
                <a:gridCol w="857160"/>
                <a:gridCol w="1641600"/>
                <a:gridCol w="1785960"/>
                <a:gridCol w="2238120"/>
                <a:gridCol w="16304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гаш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ц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гашенная часть к концу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етоды оценки, используемые при определении размера залога по ссуд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капитализированных доход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реальной стоимост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метод сопоставительной стоимости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8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нвестиции в недвижим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вокупность затрат материальных, трудовых и денежных ресурсов, направленных на расширенное воспроизводство основных фондов с определенной цел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Возможные цели инвестирова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дох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велич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хранение капита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монетарные цели (укрепление имиджа фирм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ринятии решения по инвестициям в недвижимость необходимо учитывать следующее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это долгосрочное отвлечение денежных средств из 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я предполагает отвлечение из оборота значительных сум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 недвижимости низка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– это альтернатива существующе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вин В.А. Кредитование инвестиционных проектов: Рекомендации для предприятий и коммерческих банков – М.: Финансы и статистика, 2003 – 204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жимость/Эл. учебное пособие. – М.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D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200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альцман. А.И. Оценка инвестиционных проектов и предприятий – М.: Инфра- М,  2004 – 156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жораев В.О. Экономическая оценка инвестиций. Электронное учебное пособие.- Оренбург, ОГАУ,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Основные этапы принятия решений по инвестиция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ановка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ределение це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вариантов решения пробле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ценка вариа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бор одного варианта из нескольких альтернатив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дели расчетов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татическ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затр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прибыл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равнительный анализ срока окупаем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еимущества и недостатки статических моделей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еимуществ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осты для использован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требуют больших затрат на сбор и обработку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достатки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учитывается временная структура поступлений и выпла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всегда обеспечивается сопоставимость инвестиционных альтернат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равнительная смета затра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службы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оя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менн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равнительный анализ прибыл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ие годовые издержк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3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изводительность установки, ед. в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 реализация, руб. за е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 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учка от реализации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1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равнительный анализ рентабельности и срока окупаемост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84464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ка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ходы на приобретение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быль,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мортизация, 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табельность, в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Динамические модели расчет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основанный на стоимости капитала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Метод аннуите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Подробно будут изучены в разделе «доходные методы оценки объектов недвижимости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редлагаемом примере рассматриваются как особые случаи общих динамических моделей, как концептуальные подх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цепция неполного финансового плана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ТЫС. РУБ.)</a:t>
            </a:r>
            <a:br>
              <a:rPr sz="2000"/>
            </a:b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95280" y="1268280"/>
          <a:ext cx="8089920" cy="5197680"/>
        </p:xfrm>
        <a:graphic>
          <a:graphicData uri="http://schemas.openxmlformats.org/drawingml/2006/table">
            <a:tbl>
              <a:tblPr/>
              <a:tblGrid>
                <a:gridCol w="2027160"/>
                <a:gridCol w="935280"/>
                <a:gridCol w="936360"/>
                <a:gridCol w="1079640"/>
                <a:gridCol w="1081080"/>
                <a:gridCol w="1079640"/>
                <a:gridCol w="95076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мент врем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то-платеж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данной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тто-платежи обездвижены, что не соответствует принципам экономической целесообраз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учитываются реальные возможности предприятия по финансированию проек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ие денежные потоки не приведены к текущей стоимости вло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цепция полного финансового плана на примере проекта 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1828800"/>
          <a:ext cx="8153280" cy="4195800"/>
        </p:xfrm>
        <a:graphic>
          <a:graphicData uri="http://schemas.openxmlformats.org/drawingml/2006/table">
            <a:tbl>
              <a:tblPr/>
              <a:tblGrid>
                <a:gridCol w="2093760"/>
                <a:gridCol w="1224000"/>
                <a:gridCol w="1297080"/>
                <a:gridCol w="1224000"/>
                <a:gridCol w="1224000"/>
                <a:gridCol w="109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начальный капитал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ект А , т. руб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.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редит, 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1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2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9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. И.№3,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9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нечный капитал,  т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ы к изучен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вестиции в недвижимость. Принятие решений по инвестициям в недвижимость и модели инвестиционных расч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эффективности инвестиций в недвиж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е формы финансирования недвижимости. Девелопм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рахование недвиж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едостатки модел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возможно устранить субъективный фактор при выборе вариантов дополнительных инвестиционных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дущая стоимость не приведена в соответствие с текущей стоим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Показатели экономической     эффективности инвестиций в недвижим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готовительный этап оценк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Формируется реальный денежный поток по периодам реализации проекта, как поток поступлений и платежей по трем основным направлениям деятельно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ственн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ая деятель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онная дея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Выводится итоговое сальдо денежного потока по периодам реализации проекта, используемое далее в расчетах показателей эффектив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Times New Roman"/>
              </a:rPr>
              <a:t>Оценка инвестиционных проектов с учетом временного фактора основана на использовании следующих показателей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сконтированный срок окупаем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тый дисконтированный доход ЧДД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ка доходности проекта (СДП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яя ставка доходности проекта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ифицированная СДП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П финансового менедж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сконтирование денежного пото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340000" y="1628640"/>
                <a:ext cx="46083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Тс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Д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826920" y="3716280"/>
            <a:ext cx="777744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, 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ируемый (будущий) дох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ущая стоимость будущего дох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ножитель настоящей (текущей) стоим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ка дисконт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реализации проек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Исходные данны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оимость приобретаемого оборудования – 2 млн. 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 оборудования – 5 л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истые доходы по периодам реализации проекта составили в тыс. рубл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– 4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– 10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– 120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– 16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– 18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авка дисконтирования – 1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Расчет срока окупаемост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1600200"/>
          <a:ext cx="8229600" cy="472932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коплен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6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срок окупаемости, л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+ (108 : 916) = 3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Недостатки показател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расчетах игнорируются доходы, получаемые после предполагаемого срока окупаемост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ля анализа инвестиционного портфеля предполагаются дополнительные расчет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рмула расчета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P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835280" y="3076560"/>
                <a:ext cx="5699160" cy="229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, Vj - в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j - исходящие денежные пото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j - множитель настоящей стоимост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чет показателя ЧДД (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2314440"/>
                <a:gridCol w="936720"/>
                <a:gridCol w="934920"/>
                <a:gridCol w="1008360"/>
                <a:gridCol w="1008000"/>
                <a:gridCol w="1081080"/>
                <a:gridCol w="946080"/>
              </a:tblGrid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енежный поток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00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сконтированный денежный поток (ДДП)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20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рный ДДП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 + 756 + 788 + 916 + 894 = 37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тый дисконтированный доход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02 – 2000 = 1702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ИПОТЕЧНЫЙ КРЕДИ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едостатки показателя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PV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лютное знач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и сравнительном анализе проектов не учитывает объема вложений по каждому проект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результаты существенное влияние оказывает применяемая ставка дисконтир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уровня риска проводится достаточно субъектив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Внутренняя ставка доходности – это ставка дисконтирования, приравнивающая сумму приведенных доходов от проекта к величине инвестиций</a:t>
            </a:r>
            <a:br>
              <a:rPr sz="3200"/>
            </a:b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837720" y="3117600"/>
            <a:ext cx="377532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870280" y="3357720"/>
                <a:ext cx="300204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лияние ставки дисконтирования на ЧДД (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PV)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819520"/>
                <a:gridCol w="1079280"/>
                <a:gridCol w="1152720"/>
                <a:gridCol w="1079280"/>
                <a:gridCol w="1079640"/>
                <a:gridCol w="101916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вка дисконтирования, 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ДД (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PV)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рный приведенный поток,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Расчет внутренней ставки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      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0       5+Х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8       4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2000          5 – (5+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 = 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52 – 1788            5 – 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= 37,4        ВСДП= 5+37,4 = 42,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Ставка доходности проект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Выбор оптимального проекта основан на оценке эффективности единицы затрат, что позволяет сравнивать проекты, различающиеся по величине затрат и доход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К примеру искомый прое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70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=  -------- = 1,8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Альтернативный проек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9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ДП2= --------- = 1,6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достаток:  зависимость результата расчета от избранной ставки дисконтир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Модифицированная ставка доходност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ции в проект предполагается осуществлять поэтапно, и временно свободные денежные средства размещены в иных проектах, сроки окупаемости которых совпадают с началом нового этапа финансирования искомого проек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сконтирование этих потоков осуществляется по безопасной ликвидной ставк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кущая стоимость проекта рассчитывается с учетом этих денежных пото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Ставка доходности финансового менеджмен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ется, что все высвобождаемые в ходе реализации инвестиционного проекта денежные средства направляются на финансирование новых инвестиционных проектов исходя из политики предприятия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 оценке проекта в целом рассчитывают среднюю или, так называемую, «круговую» ставку доходности будущих инвести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353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 НЕДВИЖИМ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ДЕВЕЛОПМЕН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Деятельность, связанная с развитием территории, включающая подготовку земель и проведение строительных, инженерных  и иных операций с недвижимостью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евелопмент, как управление инвестиционным проектом включает в себ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ыбор экономически эффективного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лучение всех необходимых разрешений на его реализацию от органов вла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ределение условий привлечения инвестиций, разработка механизмов и форм их возвра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иск и привлечение инвестор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тбор подрядчиков, финансирование их деятельности и контроль за их работо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еализация созданного объекта недвижимости или передача его в эксплуотац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Факторы, определяющие ипотечный кред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рок действ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цель финансир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ид обеспечения кредит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 строительстве – целевое использование средст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ценка стоимости (размер кредита зависит от стоимости)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Девелопер и его функции по реализации проек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Девелопер – тот, кто организует создание объекта в наилучшем месте таким образом, что позволяет вернуть инвестированные в него ресурсы и получить прибыл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Функции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возможности реализации проекта развития недвижим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ение условий осуществления проекта и разработка бизнес-плана его реализаци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Реализация проекта развития недвижиом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возможности реализации проекта развития недвижимости предполагает изучени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енденции экономического развит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остояние налоговой и финансовой систем региона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едложение и спрос на недвижимость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можного и наиболее выгодного места реализации проект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пределение условий осуществления проекта и разработка бизнес-плана его реализации предполагае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физических возможностей реализации проекта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Определение затрат на реализацию проекта и возможных источников финансирования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олучение разрешения госорганов и подготовка позитивного мнения общественности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Проведение переговоров с собственником земли, согласование условий перехода земли под застройку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Реализация проекта предполагает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финансовых ресурсов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ивлечение подрядных проектных и строительных организаций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Организация финансирования строительства и контроль за его ходом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Продажа (передача) объекта в эксплуатацию, возврат вложенных средст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УГИЕ ФОРМЫ ФИНАНСИРОВА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ПРОДАЖА В РАССРОЧКУ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ЮНИТИЗАЦИЯ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- РАЗДЕЛЕНИЕ СОБСТВЕННОСТИ НА МНОЖЕСТВО ДОЛЕЙ И ПОЛУЧЕНИЕ ПРИБЫЛЕЙ ОТ ВЛАДЕНИЯ ЕДИНИЦЕЙ СОБСТВЕННОСТ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СЕКЬЮРИТИЗАЦИЯ-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ВЫПУСК ОБЛИГАЦИЙ КАКОЙ ТО КОМПАНИЕЙ ИЛИ РАСПРЕДЕЛЕНИЕ ДОЛЕЙ В ПОРТФЕЛЕ ЦЕННЫХ БУМАГ ПАЕВОГО ТРЕСТА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ИМЕР ТАКИХ ЦЕННЫХ БУМА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ЕРТИФИКАТ ДОХОДА НА НЕДВИЖИМОСТЬ (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) –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ИЗВЛЕКАЕТ ВЫГОДУ В ФОРМЕ ЧАСТИ ОТ ДОХОДА И ПРИРОСТА КАПИТАЛЬНОЙ СТОИМОСТИ НЕДВИЖ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НВЕСТОР НЕ СТАНОВИТСЯ СОБСТВЕННИКОМ НЕДВИЖИОМ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INC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НЕ ОБЛАГАЕТСЯ ПОДОХОДНЫМ НАЛОГОМ И НАЛОГОМ НА ПРИРОСТ КАПИТАЛЬНОЙ СТОИМОСТИ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еречень обстоятельств, от наступления которых традиционно страхуется недвижимое имущест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Землетрясение, оползень, обвал, буря, ураган, наводнение, град, ливень, затопление, оседание почвы, морозы и снегопады, необычные для данной местности, действие подпочвенных вод, удар молнии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ожар, взрыв, технические аварии, техногенные аварии и катастрофы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оникновение воды из соседнего помещения, повреждение имущества водой из водопроводных, канализационных и противопожарных систем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неправомерные действия третьих лиц, кража со взлом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ущественные условия договора страхования недвижимо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имущество, являющееся объектом страхова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характер события, на случай наступления которого осуществляется страхование (страхового случая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размер страховой суммы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 срок действия договор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аховое свидетельство должно содержать следующие данные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15364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 доку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наименование, юридический адрес и банковские реквизиты страховщи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фамилию, имя, отчество или наименование страхователя и его адре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объекта страх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й су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указание страхового риска (риск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страхового взноса, сроки и порядок внесения страховых прем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рок действ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рядок изменения и прекращения догово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одписи сто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щи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знакомить страхователя с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лучае проведения страхователем мероприятий, уменьшивших риск наступления страхового случая и размер возможного ущерба застрахованному недвижимому имуществу, либо в случае увеличения его действительной стоимости перезаключить по заявлению страхователя договор страхования с учетом этих обстоятель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 наступлении страхового случая выплатить страховое возмещение в установленный договором или законом ср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озместить расходы, которые понес страхователь при наступлении страхового случая для предотвращения или уменьшения ущерба застрахованному имуществу, если возмещение таких расходов предусмотрено правилами страх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е разглашать сведения о страхователе и его имущественном положении, за исключением случаев, предусмотренных законодательств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арианты определения процента  и способы погашения креди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твердом проценте на весь срок действия (банк должен получить рефинансирование на твердых условиях)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 соглашение о переменном проценте. Для клиента появляется возможность удешевления финансирования. Для банка преимущество - условия процента могут быть согласованы с издержками на рефинансирование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язанности страховател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своевременно вносить страховые взносы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 заключении договора страхования сообщить страховщику о всех известных ему обстоятельствах, имеющих значение для оценки страхового риска, а также о всех заключенных или заключаемых договорах страхования в отношении данного объекта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принимать необходимые меры для предотвращения и уменьшения ущерба застрахованному недвижимому имуществу при наступлении случая и сообщить страховщику о наступлении страхового случая в сроки и согласованной форме, установленные договором страхо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снования для отказа страховщика произвести страховую выплат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умышленные действия страхователя, которыми вызывается наступление страхового случая или умышленное преступление, находящегося в прямой причинной связи со страховым случае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Законом могут быть предусмотрены случаи освобождения страховщика от выплаты страхового возмещения при наступлении страхового случая вследствие грубой неосторожности страховател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сообщение страхователем страховщику заведомо ложных сведений об объекте страхо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   получение страхователем соответствующего возмещения ущерба по имущественному, страхованию от лица, виновного в причинении этого ущерб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5364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оговор страхования прекращается в случаях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течения срока действ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сполнения страховщиком обязательств перед страхователем договора в полном объе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уплаты страхователем страховых взносов в установленные договором сро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иквидации страховщ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нятия судом решения о признании договора страхования недействитель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ругих случаях, предусмотренных законодательс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потечный кредит и его основные характеристи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статические и динамические модели расчетов при принятии решения о выборе варианта реализации проек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Рассмотрены основные показатели экономической эффективности инвестиционных проект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Изучены инструменты используемые для финансирования недвижим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Дано определение и показаны основные этапы девелопм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ХЕМЫ ПОГА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ЧАСТЯМИ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АВНЫМИ ДОЛЕВЫМИ ВЗНОСАМИ (АННУИТЕТ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РЕГРЕССИВНАЯ СХЕМА ПОГАШЕНИЯ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- ПРОГРЕССИВНАЯ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АННУИТЕТНЫЕ ПЛАТЕЖ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ВОЗВРАТ ДЕНЕЖНЫХ СРЕДСТВ В ВИДЕ СЕРИИ РАВНОВЕЛИКИХ ПЛАТЕЖЕЙ, ВКЛЮЧАЮЩИХ СУММУ ПОГАШЕНИЯ И ПРОЦЕНТО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Обычный аннуите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1692360" y="2421000"/>
          <a:ext cx="568800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6880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06:54:47Z</dcterms:created>
  <dc:creator>Джораев</dc:creator>
  <dc:description/>
  <dc:language>en-US</dc:language>
  <cp:lastModifiedBy>Джораев В.О.</cp:lastModifiedBy>
  <dcterms:modified xsi:type="dcterms:W3CDTF">2007-02-09T18:30:20Z</dcterms:modified>
  <cp:revision>22</cp:revision>
  <dc:subject/>
  <dc:title>ТЕМА: ФИНАНСОВЫЕ АСПЕКТЫ НЕДВИЖИМОСТИ</dc:title>
</cp:coreProperties>
</file>