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  <p:sldId id="308" r:id="rId60"/>
    <p:sldId id="309" r:id="rId61"/>
    <p:sldId id="310" r:id="rId62"/>
    <p:sldId id="311" r:id="rId63"/>
    <p:sldId id="312" r:id="rId64"/>
    <p:sldId id="313" r:id="rId65"/>
    <p:sldId id="314" r:id="rId66"/>
    <p:sldId id="315" r:id="rId67"/>
    <p:sldId id="316" r:id="rId68"/>
    <p:sldId id="317" r:id="rId69"/>
    <p:sldId id="318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slide" Target="slides/slide53.xml"/><Relationship Id="rId61" Type="http://schemas.openxmlformats.org/officeDocument/2006/relationships/slide" Target="slides/slide54.xml"/><Relationship Id="rId62" Type="http://schemas.openxmlformats.org/officeDocument/2006/relationships/slide" Target="slides/slide55.xml"/><Relationship Id="rId63" Type="http://schemas.openxmlformats.org/officeDocument/2006/relationships/slide" Target="slides/slide56.xml"/><Relationship Id="rId64" Type="http://schemas.openxmlformats.org/officeDocument/2006/relationships/slide" Target="slides/slide57.xml"/><Relationship Id="rId65" Type="http://schemas.openxmlformats.org/officeDocument/2006/relationships/slide" Target="slides/slide58.xml"/><Relationship Id="rId66" Type="http://schemas.openxmlformats.org/officeDocument/2006/relationships/slide" Target="slides/slide59.xml"/><Relationship Id="rId67" Type="http://schemas.openxmlformats.org/officeDocument/2006/relationships/slide" Target="slides/slide60.xml"/><Relationship Id="rId68" Type="http://schemas.openxmlformats.org/officeDocument/2006/relationships/slide" Target="slides/slide61.xml"/><Relationship Id="rId69" Type="http://schemas.openxmlformats.org/officeDocument/2006/relationships/slide" Target="slides/slide62.xml"/><Relationship Id="rId70" Type="http://schemas.openxmlformats.org/officeDocument/2006/relationships/slide" Target="slides/slide63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8776-87C4-4F60-8C14-030881162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C220-87DA-46F5-A30C-F9221C855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8570-6D72-490B-A5FD-C3EC91478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226A-AA9C-479B-B0E2-8EE7B588A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9CE48-9BD2-421B-B810-F516F4F39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9D603-A78B-491A-A330-A1B228586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CDEEC-CC4C-4025-8BCA-1F975E4D9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1CB7F-B80D-4F91-B9FC-3C94F8420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091A5-B515-4437-8039-8299CEEB0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867CE-05F9-40E0-AA5A-05FE35479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BB1A7-5DDC-48F6-9CE7-81FC46FD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9DB7-A078-4CA7-88F6-2519026C6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01981-A105-44BD-867A-0F2B3D72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F42F0-A4CF-4843-9CA8-56FA706C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09B8E-5A24-4F44-8927-764254FA5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388EB-FD91-46BA-96F0-3330FED9D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E09AB-9A74-4EEE-A6C6-1A8B69F79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6D432-5DB7-412B-983C-B4F4A5BDF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8E18D-6F8B-4324-A6C3-0A4C75615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5F27E-19BF-4041-8F57-E9398E1C2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153D1-0A81-4898-B581-C462686E6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C731D-F435-48DB-8E6B-7187F9878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072E-DF30-4A7C-9369-29C1EE591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D7709-7D99-421F-B1A4-9C23F095A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681F1-2949-48BB-A192-C27616BE4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28CC3-C2D2-4585-8963-446DF356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5581F-CB17-4DBC-8F76-87BFF507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83E15-3D26-43FB-9BBA-8EDC76D16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C2DF8-83D8-49E3-ABF5-35701564C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3CC81-E228-4F12-B7FA-748E1E8C2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CA689-3B5A-4B42-8BFD-26ECAB1F4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6FAAC-6E94-419D-AA17-B3215FE7B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BC2F8-898A-41F7-963A-31BF398FF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9A95-EE81-4984-AF27-8215DE208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E1C06-CB91-421A-91D5-985DF5459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6053E-57E2-4709-9254-F57DD431A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C4DD7-1B08-4E27-9560-D8C60620D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7EC93-E148-49F4-B7DD-02D9D1F5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90755-02A7-444B-95F7-F0D1DE476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EE0F6-737F-4E26-9129-802CE0029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B4CEA-532B-4D34-AE77-35904A008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08C0E-521A-4911-90AB-A48F22EFA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A5714-8939-468E-BF4E-C518515EE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EA9EB-580A-4E64-9740-67A6E614F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01C8-27F5-4ECE-ACE0-6CD587ABA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00F73-FB3D-4D7F-B95D-FE61B344C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9F2207-CEAA-44A3-9C35-424D34BCA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B32D2B-91DC-45BD-8F26-2657EDBF5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A0CE37-0FA1-4CEA-8C6C-E6B161B30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683B03-F658-4160-9174-407031FBC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B1680D-3C51-420B-8AC4-1D3C047F8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8FC787-033A-40A5-B022-473910789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114B9-C5BF-405A-92A4-4BEA68D4A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88616F-1CD9-4D8C-837E-3553EEAF0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41F23-FA67-4551-A225-01C3784F3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0726-8D63-4FC8-BD5D-00DD77842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66975A-3559-415D-B9B2-D8B8903E4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89C69D-2642-467D-8222-2132D5DEB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6ECB36-2899-43D6-A549-3C1CFAC56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BA49DD-A43D-4CD8-A381-2E65A49D8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5E3BC0-3E43-49DF-A5B8-9C593E666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3D0F4E-1014-4B4F-B3AC-D07FE7687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12781F-F491-44C8-ACD3-CCBDD7888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9E0484-AEFE-49FF-BD04-AD9C70BE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85902C-3AE7-4BD7-BC78-31523AFA6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BFF81F-6EFE-47D8-B4BD-9DF7B187B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6661-54F8-4F79-BF38-6584A079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00C35E-7B36-4A5C-B902-B9A513B07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20388E-1E35-4E64-878F-5F575D4D0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E23C6A-E25A-4203-96DF-9517ACB6B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A781-6524-45AF-9BEE-AD8CA08D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69A6-F050-46EC-B479-54E6DAB95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78DCC-700D-432D-A449-89F4DED9323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3C8CA-B4AD-48A1-9965-8179FEC9412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99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00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03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C3C21-6A9E-4AD8-A641-4645979A8932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47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50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68078-8C87-4232-9F52-647BEF254AC7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93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3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14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AF572-9025-4370-BCE8-D8F44515AF8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238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dt" idx="16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ftr" idx="17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sldNum" idx="18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25CEE-8A9A-48CF-A423-AC1B48E3848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ТЕМА: 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ФИНАНСЫ НЕДВИЖИМОСТИ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Авансовый аннуите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1619280" y="2421000"/>
          <a:ext cx="6192720" cy="252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2421000"/>
                    <a:ext cx="6192720" cy="25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РАВНЫМИ ДОЛЕВЫМИ ВЗНОСАМ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468360" y="1773360"/>
          <a:ext cx="8153280" cy="4254480"/>
        </p:xfrm>
        <a:graphic>
          <a:graphicData uri="http://schemas.openxmlformats.org/drawingml/2006/table">
            <a:tbl>
              <a:tblPr/>
              <a:tblGrid>
                <a:gridCol w="857160"/>
                <a:gridCol w="1641600"/>
                <a:gridCol w="1785960"/>
                <a:gridCol w="2238120"/>
                <a:gridCol w="163044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гаш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цен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ннуите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погашенная часть к концу го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6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3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9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8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3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3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4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8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ТО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,5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РАВНЫМИ ЧАСТЯМ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468360" y="1828800"/>
          <a:ext cx="8218440" cy="4370400"/>
        </p:xfrm>
        <a:graphic>
          <a:graphicData uri="http://schemas.openxmlformats.org/drawingml/2006/table">
            <a:tbl>
              <a:tblPr/>
              <a:tblGrid>
                <a:gridCol w="863640"/>
                <a:gridCol w="1655640"/>
                <a:gridCol w="1800360"/>
                <a:gridCol w="2255760"/>
                <a:gridCol w="164304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гаш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цен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ннуите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погашенная часть к концу го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8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8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4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4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ТО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4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,4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РЕГРЕССИВНАЯ СХЕМ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533520" y="1828800"/>
          <a:ext cx="8153280" cy="4114800"/>
        </p:xfrm>
        <a:graphic>
          <a:graphicData uri="http://schemas.openxmlformats.org/drawingml/2006/table">
            <a:tbl>
              <a:tblPr/>
              <a:tblGrid>
                <a:gridCol w="857160"/>
                <a:gridCol w="1641600"/>
                <a:gridCol w="1785960"/>
                <a:gridCol w="2238120"/>
                <a:gridCol w="163044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гаш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цен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ннуите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погашенная часть к концу го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6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6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ТО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0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,0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ПРОГРЕССИВНАЯ СХЕМ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533520" y="1828800"/>
          <a:ext cx="8153280" cy="4114800"/>
        </p:xfrm>
        <a:graphic>
          <a:graphicData uri="http://schemas.openxmlformats.org/drawingml/2006/table">
            <a:tbl>
              <a:tblPr/>
              <a:tblGrid>
                <a:gridCol w="857160"/>
                <a:gridCol w="1641600"/>
                <a:gridCol w="1785960"/>
                <a:gridCol w="2238120"/>
                <a:gridCol w="163044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гаш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цен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ннуите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погашенная часть к концу го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0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8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6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4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ТО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8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,8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Методы оценки, используемые при определении размера залога по ссуд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- метод капитализированных доходов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- метод реальной стоимости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- метод сопоставительной стоимости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ВОПРОС 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4000" y="1844640"/>
            <a:ext cx="7786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Инвестиции в недвижимость. Принятие решений по инвестициям в недвижимость и модели инвестиционных расчет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Инвестиции в недвижимость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вокупность затрат материальных, трудовых и денежных ресурсов, направленных на расширенное воспроизводство основных фондов с определенной цель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Возможные цели инвестирования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величение доход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величение капитал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хранение капитал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монетарные цели (укрепление имиджа фирмы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и принятии решения по инвестициям в недвижимость необходимо учитывать следующее: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то это долгосрочное отвлечение денежных средств из оборот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нвестиция предполагает отвлечение из оборота значительных сум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Ликвидность недвижимости низка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нвестиции – это альтернатива существующей деятель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Литератур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осквин В.А. Кредитование инвестиционных проектов: Рекомендации для предприятий и коммерческих банков – М.: Финансы и статистика, 2003 – 204 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движимость/Эл. учебное пособие. – М.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DL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2003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альцман. А.И. Оценка инвестиционных проектов и предприятий – М.: Инфра- М,  2004 – 156 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жораев В.О. Экономическая оценка инвестиций. Электронное учебное пособие.- Оренбург, ОГАУ,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Основные этапы принятия решений по инвестициям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68360" y="220464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остановка проблем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пределение цел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ыбор вариантов решения проблем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ценка вариант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ыбор одного варианта из нескольких альтернативны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Модели расчетов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Статически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равнительный анализ затрат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равнительный анализ прибыл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равнительный анализ рентабельност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равнительный анализ срока окупаем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реимущества и недостатки статических моделей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реимущества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росты для использовани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не требуют больших затрат на сбор и обработку данны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Недостатки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не учитывается временная структура поступлений и выплат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не всегда обеспечивается сопоставимость инвестиционных альтернати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равнительная смета затрат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казател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становка 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становка 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сходы на приобретение,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00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80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ок службы, ле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стоянные издержки,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еременные издержки,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щие годовые издержки,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3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Сравнительный анализ прибыли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казател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становка 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становка 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щие годовые издержки,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3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изводительность установки, ед. в го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.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на реализация, руб. за ед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, 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,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ручка от реализации,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1.6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4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быль,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4.6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1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Сравнительный анализ рентабельности и срока окупаемости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457200" y="1844640"/>
          <a:ext cx="8229600" cy="43387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казател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становка 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становка 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сходы на приобретение,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00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80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быль,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4.6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1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мортизация, 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нтабельность, в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,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,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ок окупаемости, ле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,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,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. Динамические модели расчетов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68360" y="249192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Метод основанный на стоимости капитала;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Метод аннуитета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Подробно будут изучены в разделе «доходные методы оценки объектов недвижимости»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предлагаемом примере рассматриваются как особые случаи общих динамических моделей, как концептуальные подход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нцепция неполного финансового плана</a:t>
            </a:r>
            <a:br>
              <a:rPr sz="24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ТЫС. РУБ.)</a:t>
            </a:r>
            <a:br>
              <a:rPr sz="2000"/>
            </a:br>
            <a:endParaRPr b="0" lang="en-US" sz="2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395280" y="1268280"/>
          <a:ext cx="8089920" cy="5197680"/>
        </p:xfrm>
        <a:graphic>
          <a:graphicData uri="http://schemas.openxmlformats.org/drawingml/2006/table">
            <a:tbl>
              <a:tblPr/>
              <a:tblGrid>
                <a:gridCol w="2027160"/>
                <a:gridCol w="935280"/>
                <a:gridCol w="936360"/>
                <a:gridCol w="1079640"/>
                <a:gridCol w="1081080"/>
                <a:gridCol w="1079640"/>
                <a:gridCol w="950760"/>
              </a:tblGrid>
              <a:tr h="42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омент времен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ум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ект 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ыплат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ступле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тто-платеж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11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ект 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ыплат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8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ступле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тто-платеж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14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Недостатки данной модели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тто-платежи обездвижены, что не соответствует принципам экономической целесообразност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 учитываются реальные возможности предприятия по финансированию проект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удущие денежные потоки не приведены к текущей стоимости вложен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Концепция полного финансового плана на примере проекта 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533520" y="1828800"/>
          <a:ext cx="8153280" cy="4195800"/>
        </p:xfrm>
        <a:graphic>
          <a:graphicData uri="http://schemas.openxmlformats.org/drawingml/2006/table">
            <a:tbl>
              <a:tblPr/>
              <a:tblGrid>
                <a:gridCol w="2093760"/>
                <a:gridCol w="1224000"/>
                <a:gridCol w="1297080"/>
                <a:gridCol w="1224000"/>
                <a:gridCol w="1224000"/>
                <a:gridCol w="1090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ервоначальный капитал, т.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ект А , т. руб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1.1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редит, , т.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1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. И.№1, т.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18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. И.№2, т.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49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4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. И.№3, т.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94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4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нечный капитал,  т.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4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Вопросы к изучению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Ипотечный креди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Инвестиции в недвижимость. Принятие решений по инвестициям в недвижимость и модели инвестиционных расчет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оказатели экономической эффективности инвестиций в недвижим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Другие формы финансирования недвижимости. Девелопмен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трахование недвижим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Недостатки модели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возможно устранить субъективный фактор при выборе вариантов дополнительных инвестиционных проект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удущая стоимость не приведена в соответствие с текущей стоимость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Вопрос 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Показатели экономической     эффективности инвестиций в недвижимост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одготовительный этап оценки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Формируется реальный денежный поток по периодам реализации проекта, как поток поступлений и платежей по трем основным направлениям деятельност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оизводственная деятельность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Финансовая деятельность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нвестиционная деятельнос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Выводится итоговое сальдо денежного потока по периодам реализации проекта, используемое далее в расчетах показателей эффективност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Times New Roman"/>
              </a:rPr>
              <a:t>Оценка инвестиционных проектов с учетом временного фактора основана на использовании следующих показателей: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исконтированный срок окупаемост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истый дисконтированный доход ЧДД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PV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авка доходности проекта (СДП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нутренняя ставка доходности проекта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R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дифицированная СДП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ДП финансового менеджмен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Дисконтирование денежного поток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2340000" y="1628640"/>
                <a:ext cx="4608360" cy="21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Тсj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Дj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Kj</m:t>
                        </m:r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Kj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j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351" name=""/>
          <p:cNvSpPr/>
          <p:nvPr/>
        </p:nvSpPr>
        <p:spPr>
          <a:xfrm>
            <a:off x="826920" y="3716280"/>
            <a:ext cx="7777440" cy="245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де, 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гнозируемый (будущий) доход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иод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кущая стоимость будущего доход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иод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 –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множитель настоящей (текущей) стоимост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вка дисконтирован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иод реализации проек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Исходные данные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тоимость приобретаемого оборудования – 2 млн. ру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рок службы оборудования – 5 л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Чистые доходы по периодам реализации проекта составили в тыс. рубле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 – 400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– 1000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– 1200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 – 1600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 – 18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тавка дисконтирования – 1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Расчет срока окупаемости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57200" y="1600200"/>
          <a:ext cx="8229600" cy="4729320"/>
        </p:xfrm>
        <a:graphic>
          <a:graphicData uri="http://schemas.openxmlformats.org/drawingml/2006/table">
            <a:tbl>
              <a:tblPr/>
              <a:tblGrid>
                <a:gridCol w="2314440"/>
                <a:gridCol w="936720"/>
                <a:gridCol w="934920"/>
                <a:gridCol w="1008360"/>
                <a:gridCol w="1008000"/>
                <a:gridCol w="1081080"/>
                <a:gridCol w="946080"/>
              </a:tblGrid>
              <a:tr h="90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рио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нежный поток, тыс.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2000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исконтированный денежный поток (ДДП), тыс.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2000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4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5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8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9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копленный ДДП, тыс.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2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165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89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1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0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исконтированный срок окупаемости, ле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 + (108 : 916) = 3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Недостатки показателя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В расчетах игнорируются доходы, получаемые после предполагаемого срока окупаемости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Для анализа инвестиционного портфеля предполагаются дополнительные расчеты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Формула расчета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PV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1835280" y="3076560"/>
                <a:ext cx="5699160" cy="229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j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&gt;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где, Vj - входящие денежные потоки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j - исходящие денежные потоки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Kj - множитель настоящей стоимости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Расчет показателя ЧДД (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NPV)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457200" y="1600200"/>
          <a:ext cx="8229600" cy="4668840"/>
        </p:xfrm>
        <a:graphic>
          <a:graphicData uri="http://schemas.openxmlformats.org/drawingml/2006/table">
            <a:tbl>
              <a:tblPr/>
              <a:tblGrid>
                <a:gridCol w="2314440"/>
                <a:gridCol w="936720"/>
                <a:gridCol w="934920"/>
                <a:gridCol w="1008360"/>
                <a:gridCol w="1008000"/>
                <a:gridCol w="1081080"/>
                <a:gridCol w="946080"/>
              </a:tblGrid>
              <a:tr h="88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о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нежный поток, тыс.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2000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исконтированный денежный поток (ДДП), тыс.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2000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4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5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8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9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уммарный ДДП, тыс.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48 + 756 + 788 + 916 + 894 = 370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истый дисконтированный доход, тыс.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702 – 2000 = 1702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&gt; 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Вопрос 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ИПОТЕЧНЫЙ КРЕДИ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Недостатки показателя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NPV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бсолютное значение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PV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при сравнительном анализе проектов не учитывает объема вложений по каждому проекту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результаты существенное влияние оказывает применяемая ставка дисконтирова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ценка уровня риска проводится достаточно субъективн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Внутренняя ставка доходности – это ставка дисконтирования, приравнивающая сумму приведенных доходов от проекта к величине инвестиций</a:t>
            </a:r>
            <a:br>
              <a:rPr sz="3200"/>
            </a:b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837720" y="3117600"/>
            <a:ext cx="3775320" cy="2212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2870280" y="3357720"/>
                <a:ext cx="3002040" cy="83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Vj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Kj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Kj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Влияние ставки дисконтирования на ЧДД (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NPV)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2819520"/>
                <a:gridCol w="1079280"/>
                <a:gridCol w="1152720"/>
                <a:gridCol w="1079280"/>
                <a:gridCol w="1079640"/>
                <a:gridCol w="1019160"/>
              </a:tblGrid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авка дисконтирования, 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ДД (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PV)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тыс. руб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5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0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2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ммарный приведенный поток, тыс. руб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5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0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8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Расчет внутренней ставки 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доходности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147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052       5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000       5+Х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788       45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052 – 2000          5 – (5+Х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------------------- = -----------------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052 – 1788            5 – 4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Х= 37,4        ВСДП= 5+37,4 = 42,4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Ставка доходности проект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Выбор оптимального проекта основан на оценке эффективности единицы затрат, что позволяет сравнивать проекты, различающиеся по величине затрат и доходов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К примеру искомый проект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3702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СДП=  -------- = 1,85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Альтернативный проек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490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СДП2= --------- = 1,63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300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Недостаток:  зависимость результата расчета от избранной ставки дисконтировани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"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Модифицированная ставка доходности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нвестиции в проект предполагается осуществлять поэтапно, и временно свободные денежные средства размещены в иных проектах, сроки окупаемости которых совпадают с началом нового этапа финансирования искомого проект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исконтирование этих потоков осуществляется по безопасной ликвидной ставк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екущая стоимость проекта рассчитывается с учетом этих денежных поток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Ставка доходности финансового менеджмент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едполагается, что все высвобождаемые в ходе реализации инвестиционного проекта денежные средства направляются на финансирование новых инвестиционных проектов исходя из политики предприятия 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и оценке проекта в целом рассчитывают среднюю или, так называемую, «круговую» ставку доходности будущих инвестиц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Вопрос 4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95280" y="2276280"/>
            <a:ext cx="835344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ДРУГИЕ ФОРМЫ ФИНАНСИРОВАНИЯ НЕДВИЖИМОСТ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ДЕВЕЛОПМЕН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ДЕВЕЛОПМЕН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Деятельность, связанная с развитием территории, включающая подготовку земель и проведение строительных, инженерных  и иных операций с недвижимостью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Девелопмент, как управление инвестиционным проектом включает в себя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ыбор экономически эффективного проекта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олучение всех необходимых разрешений на его реализацию от органов власти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Определение условий привлечения инвестиций, разработка механизмов и форм их возврата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оиск и привлечение инвесторов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Отбор подрядчиков, финансирование их деятельности и контроль за их работой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Реализация созданного объекта недвижимости или передача его в эксплуотацию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Факторы, определяющие ипотечный креди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срок действия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цель финансирования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вид обеспечения кредита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при строительстве – целевое использование средств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оценка стоимости (размер кредита зависит от стоимости)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Девелопер и его функции по реализации проект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Девелопер – тот, кто организует создание объекта в наилучшем месте таким образом, что позволяет вернуть инвестированные в него ресурсы и получить прибыль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Функции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Определение возможности реализации проекта развития недвижимости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Определение условий осуществления проекта и разработка бизнес-плана его реализации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Реализация проекта развития недвижиомсти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Определение возможности реализации проекта развития недвижимости предполагает изучение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тенденции экономического развития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Состояние налоговой и финансовой систем региона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Предложение и спрос на недвижимость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Возможного и наиболее выгодного места реализации проекта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Определение условий осуществления проекта и разработка бизнес-плана его реализации предполагает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Определение физических возможностей реализации проекта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Определение затрат на реализацию проекта и возможных источников финансирования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Получение разрешения госорганов и подготовка позитивного мнения общественности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Проведение переговоров с собственником земли, согласование условий перехода земли под застройку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Реализация проекта предполагает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Привлечение финансовых ресурсов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Привлечение подрядных проектных и строительных организаций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Организация финансирования строительства и контроль за его ходом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Продажа (передача) объекта в эксплуатацию, возврат вложенных средств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ДРУГИЕ ФОРМЫ ФИНАНСИРОВАНИ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ПРОДАЖА В РАССРОЧКУ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ЮНИТИЗАЦИЯ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- РАЗДЕЛЕНИЕ СОБСТВЕННОСТИ НА МНОЖЕСТВО ДОЛЕЙ И ПОЛУЧЕНИЕ ПРИБЫЛЕЙ ОТ ВЛАДЕНИЯ ЕДИНИЦЕЙ СОБСТВЕННОСТИ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СЕКЬЮРИТИЗАЦИЯ-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ВЫПУСК ОБЛИГАЦИЙ КАКОЙ ТО КОМПАНИЕЙ ИЛИ РАСПРЕДЕЛЕНИЕ ДОЛЕЙ В ПОРТФЕЛЕ ЦЕННЫХ БУМАГ ПАЕВОГО ТРЕСТА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ПРИМЕР ТАКИХ ЦЕННЫХ БУМАГ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СЕРТИФИКАТ ДОХОДА НА НЕДВИЖИМОСТЬ (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INC) – 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ВЕЛИКОБРИТАНИЯ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ИНВЕСТОР ИЗВЛЕКАЕТ ВЫГОДУ В ФОРМЕ ЧАСТИ ОТ ДОХОДА И ПРИРОСТА КАПИТАЛЬНОЙ СТОИМОСТИ НЕДВИЖИМОСТИ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ИНВЕСТОР НЕ СТАНОВИТСЯ СОБСТВЕННИКОМ НЕДВИЖИОМСТИ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INC 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НЕ ОБЛАГАЕТСЯ ПОДОХОДНЫМ НАЛОГОМ И НАЛОГОМ НА ПРИРОСТ КАПИТАЛЬНОЙ СТОИМОСТИ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Перечень обстоятельств, от наступления которых традиционно страхуется недвижимое имуществ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Землетрясение, оползень, обвал, буря, ураган, наводнение, град, ливень, затопление, оседание почвы, морозы и снегопады, необычные для данной местности, действие подпочвенных вод, удар молнии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пожар, взрыв, технические аварии, техногенные аварии и катастрофы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проникновение воды из соседнего помещения, повреждение имущества водой из водопроводных, канализационных и противопожарных систем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неправомерные действия третьих лиц, кража со взломом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Существенные условия договора страхования недвижимост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-  имущество, являющееся объектом страхования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-  характер события, на случай наступления которого осуществляется страхование (страхового случая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-  размер страховой суммы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-  срок действия договора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815364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Страховое свидетельство должно содержать следующие данные: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39280" y="2133360"/>
            <a:ext cx="8153640" cy="36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наименование документ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наименование, юридический адрес и банковские реквизиты страховщик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фамилию, имя, отчество или наименование страхователя и его адрес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указание объекта страхова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размер страховой сумм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указание страхового риска (рисков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размер страхового взноса, сроки и порядок внесения страховых преми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срок действия договор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порядок изменения и прекращения договор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подписи сторо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Обязанности страховщик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ознакомить страхователя с правилами страхован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в случае проведения страхователем мероприятий, уменьшивших риск наступления страхового случая и размер возможного ущерба застрахованному недвижимому имуществу, либо в случае увеличения его действительной стоимости перезаключить по заявлению страхователя договор страхования с учетом этих обстоятельст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при наступлении страхового случая выплатить страховое возмещение в установленный договором или законом срок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возместить расходы, которые понес страхователь при наступлении страхового случая для предотвращения или уменьшения ущерба застрахованному имуществу, если возмещение таких расходов предусмотрено правилами страхован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не разглашать сведения о страхователе и его имущественном положении, за исключением случаев, предусмотренных законодательство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Варианты определения процента  и способы погашения кредит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- соглашение о твердом проценте на весь срок действия (банк должен получить рефинансирование на твердых условиях)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- соглашение о переменном проценте. Для клиента появляется возможность удешевления финансирования. Для банка преимущество - условия процента могут быть согласованы с издержками на рефинансирование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Обязанности страховател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—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своевременно вносить страховые взносы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—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при заключении договора страхования сообщить страховщику о всех известных ему обстоятельствах, имеющих значение для оценки страхового риска, а также о всех заключенных или заключаемых договорах страхования в отношении данного объекта страхования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—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принимать необходимые меры для предотвращения и уменьшения ущерба застрахованному недвижимому имуществу при наступлении случая и сообщить страховщику о наступлении страхового случая в сроки и согласованной форме, установленные договором страховани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Основания для отказа страховщика произвести страховую выплат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-    умышленные действия страхователя, которыми вызывается наступление страхового случая или умышленное преступление, находящегося в прямой причинной связи со страховым случаем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-    Законом могут быть предусмотрены случаи освобождения страховщика от выплаты страхового возмещения при наступлении страхового случая вследствие грубой неосторожности страхователя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-    сообщение страхователем страховщику заведомо ложных сведений об объекте страхования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-    получение страхователем соответствующего возмещения ущерба по имущественному, страхованию от лица, виновного в причинении этого ущерб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39280" y="764640"/>
            <a:ext cx="815364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Договор страхования прекращается в случаях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33520" y="1844280"/>
            <a:ext cx="81532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—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стечения срока действ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—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сполнения страховщиком обязательств перед страхователем договора в полном объем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—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еуплаты страхователем страховых взносов в установленные договором срок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—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ликвидации страховщи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—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инятия судом решения о признании договора страхования недействительны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—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 других случаях, предусмотренных законодательств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РЕЗЮМ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Изучены ипотечный кредит и его основные характеристики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Изучены статические и динамические модели расчетов при принятии решения о выборе варианта реализации проекта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Рассмотрены основные показатели экономической эффективности инвестиционных проектов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Изучены инструменты используемые для финансирования недвижимости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Дано определение и показаны основные этапы девелопмент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СХЕМЫ ПОГАШЕНИ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- РАВНЫМИ ЧАСТЯМИ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- РАВНЫМИ ДОЛЕВЫМИ ВЗНОСАМИ (АННУИТЕТ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- РЕГРЕССИВНАЯ СХЕМА ПОГАШЕНИЯ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- ПРОГРЕССИВНАЯ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153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АННУИТЕТНЫЕ ПЛАТЕЖ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ВОЗВРАТ ДЕНЕЖНЫХ СРЕДСТВ В ВИДЕ СЕРИИ РАВНОВЕЛИКИХ ПЛАТЕЖЕЙ, ВКЛЮЧАЮЩИХ СУММУ ПОГАШЕНИЯ И ПРОЦЕНТОВ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Обычный аннуите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1692360" y="2421000"/>
          <a:ext cx="5688000" cy="230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421000"/>
                    <a:ext cx="5688000" cy="23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0T06:54:47Z</dcterms:created>
  <dc:creator>Джораев</dc:creator>
  <dc:description/>
  <dc:language>en-US</dc:language>
  <cp:lastModifiedBy>Джораев В.О.</cp:lastModifiedBy>
  <dcterms:modified xsi:type="dcterms:W3CDTF">2007-02-09T18:30:20Z</dcterms:modified>
  <cp:revision>22</cp:revision>
  <dc:subject/>
  <dc:title>ТЕМА: ФИНАНСОВЫЕ АСПЕКТЫ НЕДВИЖИМОСТИ</dc:title>
</cp:coreProperties>
</file>