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4523D-25CC-4BCE-9FE5-8A4C76B45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487AF-3833-4A4D-8943-5F16D702F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164BB-D29C-45BC-B8CD-26974631C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7FDB4-2641-491B-9751-0BB1E1FA1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2BA568-A795-4898-AEBB-B9A3B3325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131B91-31DB-4840-94A2-60BEC7FA4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24D3B0-A1FD-417F-9D11-79FF5F9CA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CE7DEF-9BDD-438A-9C21-8629FDFC3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0AB1D3-BBCA-4C25-8701-DE7A13055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8B9063-F9E7-43F9-8538-F7F45C0E2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5DD638-1BF5-40F0-8EA6-4124C4354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067C0-4E2F-49BD-9DA0-45790128D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807534-7A8D-40ED-964F-563EAD153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70796F-D566-4AF1-97D8-DA7EF8043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F4F279-F9E2-4734-B130-FA673DD20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D6F311-E4BD-4E48-8D79-DDF939870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D55D5F-0500-4FA2-8429-832E4E4B9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97AE4-1104-45E4-8500-2AD19E5A3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3CA98-5212-4046-80A9-A0D36B15A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459E1-2C22-4741-BF43-16342401A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B3F9D-34C1-4F9F-8787-8EA23D8A8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46021-A5D0-4787-B1F0-D86FCB79B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B1A83-F4BA-4B3E-A16A-55A329886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AAC01-C1AB-4143-A9DF-30EFEBEF3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E59B9-E35F-4352-89F4-9C262E5FA11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C9F80-3314-45B4-BB68-3CF9937493B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Тема 2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Качественная и количественная характеристики объектов недвижимост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8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3e3ff"/>
                </a:solidFill>
                <a:latin typeface="Arial"/>
              </a:rPr>
              <a:t>Качество местоположения недвижимости (Ситус).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Страна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826920" y="1916280"/>
            <a:ext cx="7417080" cy="338436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116000" y="2421000"/>
            <a:ext cx="6696000" cy="2448000"/>
          </a:xfrm>
          <a:prstGeom prst="ellipse">
            <a:avLst/>
          </a:prstGeom>
          <a:solidFill>
            <a:srgbClr val="3399ff">
              <a:alpha val="2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3640" y="2852640"/>
            <a:ext cx="5256360" cy="1513080"/>
          </a:xfrm>
          <a:prstGeom prst="ellipse">
            <a:avLst/>
          </a:prstGeom>
          <a:solidFill>
            <a:srgbClr val="3399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987640" y="3284640"/>
            <a:ext cx="2808360" cy="57600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564000" y="3357720"/>
            <a:ext cx="20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Недвижимост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1989000"/>
            <a:ext cx="21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Торговая зо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771640" y="249228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римыкающие территор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843280" y="292428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Ближайшие окрестност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24000" y="1557360"/>
            <a:ext cx="8208720" cy="4319640"/>
          </a:xfrm>
          <a:prstGeom prst="ellipse">
            <a:avLst/>
          </a:prstGeom>
          <a:noFill/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492360" y="5229360"/>
            <a:ext cx="18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РЕГИО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СИТУС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РЕЗУЛЬТАТ ВЗАИМОДЕЙСТВИЯ КОНКРЕТНОГО ВАРИАНТА ЗЕМЛЕПОЛЬЗОВАНИЯ И ЭКОНОМИЧЕСКОЙ СРЕДЫ НА ПЯТИ УРОВНЯХ (СТРАНА, РЕГИОН, ТОРГОВАЯ ЗОНА, ПРИМЫКАЮЩИЕ И БЛИЖАЙШИЕ ТЕРРИТОРИИ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Внешняя среда недвижимости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780000" y="3213000"/>
            <a:ext cx="1871640" cy="11527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Объек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недвижимост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39640" y="1989000"/>
            <a:ext cx="2519640" cy="79236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олитическа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ситуац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826920" y="3284640"/>
            <a:ext cx="2016360" cy="7207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Близость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завод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826920" y="4221000"/>
            <a:ext cx="2016360" cy="7207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Наличие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ресурс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26920" y="5084640"/>
            <a:ext cx="2016360" cy="79236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Транспортн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услуг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419640" y="1557360"/>
            <a:ext cx="2592360" cy="79200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риродные услов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227640" y="1916280"/>
            <a:ext cx="2376720" cy="79200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Спрос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редложение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цен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659640" y="2924280"/>
            <a:ext cx="1728720" cy="93636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Расстояни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до рынков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сбыт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659640" y="4076640"/>
            <a:ext cx="1728720" cy="79236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Наличи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ресурс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300720" y="5157720"/>
            <a:ext cx="2232000" cy="71928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Демографическа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сред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492360" y="5516640"/>
            <a:ext cx="2303640" cy="9367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Возможност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сферы услуг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5724360" y="3284280"/>
            <a:ext cx="86364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651640" y="4076640"/>
            <a:ext cx="936360" cy="43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4859280" y="2492280"/>
            <a:ext cx="129708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4716360" y="2421000"/>
            <a:ext cx="0" cy="79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H="1" flipV="1">
            <a:off x="3059280" y="2565000"/>
            <a:ext cx="1441440" cy="647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H="1" flipV="1">
            <a:off x="2843280" y="3500280"/>
            <a:ext cx="93672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2843280" y="4076640"/>
            <a:ext cx="93672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2842920" y="4365720"/>
            <a:ext cx="1584360" cy="1008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716360" y="4365720"/>
            <a:ext cx="0" cy="1150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003640" y="4365720"/>
            <a:ext cx="1297080" cy="1008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Вопрос 2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Потребительские свойства земельных участков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Земельный участок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Это часть поверхности земли, имеющая четко обозначенную границу, площадь, местоположение, правовой статус и другие характеристики, учитываемые в государственном земельном кадастре и Едином государственном реестре прав на недвижимое имущество и сделок с ним. Бывают делимыми и неделимым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Делимый земельный участок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читается такой участок, который может быть разделен на части, каждая из которых после раздела по своему размеру образует самостоятельный участок с прежним целевым назначением и разрешенным использование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Кадастровый номер участк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362440" cy="4103640"/>
        </p:xfrm>
        <a:graphic>
          <a:graphicData uri="http://schemas.openxmlformats.org/drawingml/2006/table">
            <a:tbl>
              <a:tblPr/>
              <a:tblGrid>
                <a:gridCol w="1252800"/>
                <a:gridCol w="3783600"/>
                <a:gridCol w="3326040"/>
              </a:tblGrid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х1х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убъект РФ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убъект РФ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х3х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Административный район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Город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х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ельская администраци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Район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х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оселок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Кадастровый массив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х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Кадастровый квартал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Кадастровый квартал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3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х8х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Земельный участок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Земельный участок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Описание земельного участк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457200" y="1600200"/>
          <a:ext cx="8229600" cy="517212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аименование субъекта права - Адрес, документы удостоверяющие субъекта и его реквизит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Адресные ориентиры - Жилой массив, поселок, улица и номер дом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Документы , устанавливающие землепользование ( Постановление, свидетельство, договор – аренды 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Категория земель - Целевое назначение и фактическое использовани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Код классификатора земел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лощадь по документам, в том числе постороннего пользован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лощадь санитарно-защитной зоны и (или) зоны с особым режимом использования в пределах участк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ид земельного права (собственность, временное пользование…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оверхностный и подпочвенный слой, ландшафт, топограф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Улучшения и инженерное обустройство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Паспорт земельного участк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Экспликация земель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Размер земельного налога или арендной платы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Рыночная и расчетная стоимость участк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Балансовая стоимость строений и сооружений на участке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бщая стоимость (стр.3+стр.4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Налог на недвижимость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Инженерно-технические характеристик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Экологические показател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Градостроительные характеристик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Залежи полезных ископаемых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Категории земель по потребительским свойствам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395280" y="1600200"/>
          <a:ext cx="8424720" cy="5213520"/>
        </p:xfrm>
        <a:graphic>
          <a:graphicData uri="http://schemas.openxmlformats.org/drawingml/2006/table">
            <a:tbl>
              <a:tblPr/>
              <a:tblGrid>
                <a:gridCol w="1247760"/>
                <a:gridCol w="4368960"/>
                <a:gridCol w="2808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№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Категор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Данные по Оренбургской области (млн. га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ельскохозяйственного назначе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,9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Земли населенных пункто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,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Земли промышленности, транспорта, связи…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,2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Особо охраняемые территори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,0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Лесной фонд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,6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одный фонд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,0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Земли запас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,0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сего земельный фонд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2,3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План лекции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писание зданий и сооружени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отребительские свойства земельных участко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иды лесов и многолетних насаждени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бособленные водные объект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Участки недр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По уровню хозяйственной освоенности участки могут быть: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езастроенными, предназначенными под строительство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Застроенными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од объектами незавершенного строительства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од ветхими застройками (под снос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од объектами подлежащими выводу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вободным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Вопрос 3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Виды лесов и многолетних насаждений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Функции лес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Экологическая (климаторегулирующая, почвозащитная, водоохранная, санитарно-гигиеническая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Экономическая (источник древесины и множества видов потребительской продукции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оциальная (оздоровительная, улучшает условия жизни людей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Состав лесов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457200" y="1600200"/>
          <a:ext cx="8507520" cy="4965840"/>
        </p:xfrm>
        <a:graphic>
          <a:graphicData uri="http://schemas.openxmlformats.org/drawingml/2006/table">
            <a:tbl>
              <a:tblPr/>
              <a:tblGrid>
                <a:gridCol w="2127240"/>
                <a:gridCol w="2125800"/>
                <a:gridCol w="2127240"/>
                <a:gridCol w="2127240"/>
              </a:tblGrid>
              <a:tr h="3988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Земли лесного фонд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е входящие в лесной фонд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Древесно-кустарниковая растительность на земля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Лесны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елесны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087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крытые лесам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Для нужд лесного хозяйств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Леса на землях Министерства оборон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Сельскохозяйст-венного назначен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8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Под болотам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Транспорта (на полосах отвода дорог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87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епокрытые, но предназначен- ные для его восстановлен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Под каменистыми россыпям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Городские лес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Водного фонда (на полосах отвода каналов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Други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Дачные участк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3e3ff"/>
                </a:solidFill>
                <a:latin typeface="Arial"/>
              </a:rPr>
              <a:t>Классификация лесов по категории защищенности земель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324000" y="1600200"/>
          <a:ext cx="8362800" cy="4843440"/>
        </p:xfrm>
        <a:graphic>
          <a:graphicData uri="http://schemas.openxmlformats.org/drawingml/2006/table">
            <a:tbl>
              <a:tblPr/>
              <a:tblGrid>
                <a:gridCol w="2090520"/>
                <a:gridCol w="2163960"/>
                <a:gridCol w="2270160"/>
                <a:gridCol w="18381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Категории защищенност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I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II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23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Функци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одоохранные, защитные, санитарно-гигиенические, оздоровительные, особоохраняемы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одоохранные, оздоровительные, санитарно-гигиенические, ограниченно эксплуатационны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Эксплуатационные при сохранении экологическо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22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Место расположен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Запретные и защитные полосы, леса пустынь, поселений, курортов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 регионах с высокой плотностью населения или недостаточными лесными ресурсам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 много лесных региона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Не допускается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Купля – продажа, залог и совершение других сделок, которые могут повлечь отчуждение  участков лесного фонд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Лесной фонд является федеральной собственностью. Допускается передача части фондов в собственность субъектов РФ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Признаки классификации многолетних насаждений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о виду продукции (плодово-ягодные; технические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о функциональному назначению (живые изгороди;  полезащитные; декоративно-озеленительные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о возрасту вступления в товарное использование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о сроку эксплуатации (плодово-ягодные 10-30 лет; технические 10-50 лет; озеленительные 50-100 лет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Многолетние насаждения могут быть в собственности граждан без ограничения сделок (купля – продажа, залог, аренда, траст, дарение, наследование)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Вопрос 4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Обособленные водные объекты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Обособленные водные объекты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это небольшие по площади и непроточные искусственные водоемы, не имеющие гидравлической связи с другими поверхностными водными объектам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Отношения регулируются Водным Кодексом РФ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Возможные цели использования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Для питьевого и хозяйственно-бытового водоснабжения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Для здравоохранения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Для сельского и лесного хозяйств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Лесосплав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Для гидроэнергетики и пожарной безопасности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Для рыбного и охотничьего хозяйств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Для добычи полезных ископаемых, торфа и др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Вопрос 1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Описание зданий и сооружений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Режимы водопользования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бщее водопользование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пециальное водопользование (с применением технических средств, устройств и сооружений при наличии лицензии, за исключением плавания на маломерных судах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Вопрос 5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Участки недр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Недра -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часть земной коры, расположенная ниже почвенного слоя, а при его отсутствии – ниже земной поверхности и дна водоемов, простирающейся до глубин, доступных для геологического изучения и освоения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Участки недр являются государственным недвижимым имуществом. Права пользования недрами могут передаваться субъектам предпринимательской деятельност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3e3ff"/>
                </a:solidFill>
                <a:latin typeface="Arial"/>
              </a:rPr>
              <a:t>Государственный кадастр месторождений и проявлений полезных ископаемых содержит следующие сведения:</a:t>
            </a:r>
            <a:endParaRPr b="0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б основных и совместно залегающих полезных ископаемых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 содержащихся в них компонентах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 горно-технических и иных условиях разработки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 геолого-экономической оценке месторождения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 выявленных проявлениях полезных ископаемых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 лицензиях на пользование недрами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 работах по геологическому изучению недр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Государственный баланс запасов полезных ископаемых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редназначен для учета минерально-сырьевой базы и содержит сведения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 количестве, качестве и степени изученности запасов каждого вида полезных ископаемых по месторождениям, имеющим промышленное назначение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б их размещении и степени промышленного освоения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б обеспеченности промышленности разведанными полезными ископаемым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Благодарю за внимание!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Качественная и количественная информация о собственности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37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Физические характеристики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Имущественно-правовое описание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Экономические показатели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Состояние внешней среды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Местоположение объекта (Кадастровый номер здания)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457200" y="1600200"/>
          <a:ext cx="8229600" cy="4886280"/>
        </p:xfrm>
        <a:graphic>
          <a:graphicData uri="http://schemas.openxmlformats.org/drawingml/2006/table">
            <a:tbl>
              <a:tblPr/>
              <a:tblGrid>
                <a:gridCol w="1522440"/>
                <a:gridCol w="6707160"/>
              </a:tblGrid>
              <a:tr h="748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убъект федераци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омер административного округа (г. Оренбург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48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400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омер массива кадастрового квартал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48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0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омер земельного участка в квартал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48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0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омер первичного объекта на участк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0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омер вторичного объекта, как составная часть первичног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Физические характеристики здания, сооружения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аименование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лощадь, объем, высота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Материал стен, крыши, перекрытий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ремя постройки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еречень дефектов по видам и размеру (дефектная ведомость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Экспертная оценка стоимости объекта и его отдельных элементо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Эксплуатационные качеств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Конструктивная надежность и и физическая долговечность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Функциональное соответствие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Архитектурно-планировочное соответствие назначению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Экономичность строительства и эксплуатации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Эргономические показатели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Безопасность эксплуатаци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Имущественно правовое описание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95280" y="2492280"/>
            <a:ext cx="822960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ПРАВО СОБСТВЕННОСТИ (ВЛАДЕНИЕ, ПОЛЬЗОВАНИЕ, РАСПОРЯЖЕНИЕ)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ВЕЩНЫЕ ПРАВА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ОГРАНИЧЕНИЯ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ОГРАНИЧЕНИЯ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Сервитуты – ограниченное вещное право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Ипотека – залог недвижимости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Аренда и доверительное управление – договорные обязательств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8:38:10Z</dcterms:created>
  <dc:creator>Джораев В.О.</dc:creator>
  <dc:description/>
  <dc:language>en-US</dc:language>
  <cp:lastModifiedBy>Джораев В.О.</cp:lastModifiedBy>
  <dcterms:modified xsi:type="dcterms:W3CDTF">2007-03-21T15:31:13Z</dcterms:modified>
  <cp:revision>6</cp:revision>
  <dc:subject/>
  <dc:title>Тема 2</dc:title>
</cp:coreProperties>
</file>