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21F-2F1A-4E5E-B57A-5963E90A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FF9-E57C-4E7B-960F-06946328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229-5AB6-402E-AC9C-D327472E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659-E7E2-4C13-9DB8-401A00F6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625-2EB8-4FB4-886D-1BFD34CB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C18C-EE44-4148-A1FD-76200094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528F-785A-4F28-B133-63DED62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411-285B-483F-882E-41525C2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4DA-3AD1-4A02-8C9F-378CC0C7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A63E-BDA6-4739-8A8B-A84A7665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707-0EB8-4A55-B0D5-31FF51D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1A0-0424-4658-BE4E-8898636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C9D-83F3-4183-BD09-46DE494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307C-F882-403F-8C10-844CC59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31C-7D9A-43CB-BE8C-82A49C8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D4C-9725-4022-96C2-8B78C91B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DF0-A3D5-484D-8D99-86A4D534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19E-FE84-4D4C-A1BD-1878D14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748-E586-4F3B-9456-633F509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142-83B2-475A-938C-EEE07A9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246-455A-4BAC-9496-F40019B0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AB7-DC89-43F2-AA0F-5873EF2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E36-FBD5-4B56-ABE6-202ADAA7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E13-782C-46FB-AD5B-38232E6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BC3-EE65-449D-979E-2DACC0E2478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BF07-BA3B-42F0-AE24-1372D922756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ирование ИК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нисова Е. 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9138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852640"/>
            <a:ext cx="8102520" cy="15130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Правовая форма, учредители и органы управления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55736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униципальное бюджетное учрежд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276640"/>
            <a:ext cx="79200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Учредитель:   Орган местного самоуправл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8640"/>
            <a:ext cx="381636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дминистрация рай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645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  СК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Устав СКЦ (основные положения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557360"/>
            <a:ext cx="7920000" cy="100872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ельский консультационный центр создается с целью технической поддержки развития сельского бизнеса, повышения занятости и доходов сельского насел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2781360"/>
            <a:ext cx="801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Задачи СКЦ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повышение эффективности и устойчивости функционирования сельскохозяйственных организаций всех форм собственности на основе оперативного внедрения достижений научно-технического прогресса, передового производственного опыта, доведения до хозяйствующих субъектов научной технологической и рыночной информац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информационно-консультационное обслуживание сельских товаропроизводителей всех форм собствен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создание и развитие современной инфраструктуры для решения задач продовольственного и материально-технического обеспечения сельских товаропроизводителей с использованием единого информационного пространства на базе Интернет – порт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981000"/>
            <a:ext cx="801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Создание клиентской базы данных о хозяйствах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Организация испытаний и адаптации новшеств в районе (организация 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. Консультационная деятельность с охватом хозяйст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6. Отработка технологии применения биостимулятор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7. Создание базы данных по племенному учет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Менеджмент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1. Правовое обеспеч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2. Консультация  по ведению бухгалтерской и экономической отчетности КФХ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КЦ  имеет право осуществлять свою деятельность на коммерческой основ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66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уководитель СКЦ назначается Главой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КЦ создается и ликвидируется на основании Постановления Главы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168560"/>
            <a:ext cx="4660920" cy="521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9480" y="1360440"/>
            <a:ext cx="80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здание клиентской базы данных о хозяйствах район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 Организация испытаний и адаптации новшеств в районе (организация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565360"/>
          <a:ext cx="7704000" cy="609480"/>
        </p:xfrm>
        <a:graphic>
          <a:graphicData uri="http://schemas.openxmlformats.org/drawingml/2006/table">
            <a:tbl>
              <a:tblPr/>
              <a:tblGrid>
                <a:gridCol w="3240000"/>
                <a:gridCol w="1511280"/>
                <a:gridCol w="1657080"/>
                <a:gridCol w="1295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-во опытных участков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(с новыми сорта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900000" y="328464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3716280"/>
          <a:ext cx="7704000" cy="83196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опытно-демонстрационны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участков (с разными удобрения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479736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 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5214960"/>
          <a:ext cx="7704000" cy="121932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Ф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0" y="1432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1844640"/>
          <a:ext cx="7632720" cy="98604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Муниципальные образования (для ЛПХ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44360" y="314172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2920" y="3645000"/>
          <a:ext cx="7632720" cy="60948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00" y="4941720"/>
          <a:ext cx="7559640" cy="609840"/>
        </p:xfrm>
        <a:graphic>
          <a:graphicData uri="http://schemas.openxmlformats.org/drawingml/2006/table">
            <a:tbl>
              <a:tblPr/>
              <a:tblGrid>
                <a:gridCol w="403236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73800" y="45086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Управление оборотом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765000"/>
          <a:ext cx="47484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47484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907920"/>
            <a:ext cx="78692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Для дальнейшего развития сельской консультационной деятельности в субъекте РФ предлагается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оздать региональный научно-методический центр (НМЦ) сельского консультирования, который будет обеспечивать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Научно-методическую поддержку инновационной деятельности СКЦ с ведением опытно-демонстрационной деятельност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даптировать новшества под условия хозяйствования в агроклиматических условиях субъекта РФ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формировать на базе этого НМЦ координационный совет по технической поддержке сельского развити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беспечивать информационную поддержку сельского развития (работа со СМИ, выпуск журнала и т.п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8244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тношения СКЦ с Региональным НМЦ выстраиваются на договорной основе (возможно СКЦ частично оплачивают услуги НМЦ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16000" y="907920"/>
          <a:ext cx="7488360" cy="55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48836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32000" y="1197000"/>
          <a:ext cx="720072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20072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13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645000"/>
            <a:ext cx="8102520" cy="25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авовая форма, учредители и органы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26828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втономная некоммерческ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79200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чредител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рестьянских фермерских хозяйств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(?) – 20%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784872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бщее собрание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ФХ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661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 и задачи организац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: Содействие в устойчивом развитии сельских территор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дачи: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ое и консультационное обеспечение сельских товаропроизводителей и сельского нас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иды и направления деятельност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ая поддержка сельского населения, сельского бизнеса и иных субъектов сельских территорий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асштабная инновационная деятельност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бучающая поддержка сельского населения и представителей сельского бизнеса, местного самоуправления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ыполнение консультационных проектов в интересах субъектов сельского бизнес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ропогандистско-агитационная деятельн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рганизационно-координационная деятельность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913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0480" y="1628640"/>
            <a:ext cx="7913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4:05Z</dcterms:created>
  <dc:creator>123</dc:creator>
  <dc:description/>
  <dc:language>en-US</dc:language>
  <cp:lastModifiedBy>Delen</cp:lastModifiedBy>
  <dcterms:modified xsi:type="dcterms:W3CDTF">2008-12-10T14:59:16Z</dcterms:modified>
  <cp:revision>30</cp:revision>
  <dc:subject/>
  <dc:title/>
</cp:coreProperties>
</file>