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19B5-B8DD-4CD5-B4A7-8C9FAB3A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5E3F-638C-466D-B0B0-449E3835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7876-D602-4053-B797-4BA595F3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FCB0-CBEF-48A4-ACB1-465A4DC3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FF30-2577-4455-B670-8BDEE483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711F-EF96-4509-B314-90FE0B76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5E5A-75BE-4F5A-BCDB-6C4DCF64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D6F6-07E1-4B23-90B5-9BF12314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11F7-E180-4486-9132-C56B2EF1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6691-6E1B-40CC-B222-550DAEFA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32C2-E823-4C16-B0E6-BCD49450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A695-1AFD-403D-875F-58360D90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F393-1177-4628-A853-BFEA6228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DA51-3CC2-419B-A068-F4B744F6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61CB-E98C-445D-9AA5-E9625A94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1F3B-735F-44DF-B600-28D879EC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BC46-E91C-4398-9B3A-07BF9892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1C50-59E2-46BF-85BB-0D6D6D77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A80A-B077-4064-8768-41701B4E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B7D0-8B66-46C5-B732-4660720A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7B10-5C5E-4A4B-94BC-76836D3F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D092-E550-412B-9EDB-CC308FE2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7F1E-3D7C-42AC-A590-448C6CDE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BB9F-2B26-4658-A97A-5EF16FE0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5DD7-C4D8-4BE8-8F71-8E38A41A84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43D5-3898-4A88-BE19-EE17D5A15C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-23760" y="-17640"/>
            <a:ext cx="9193320" cy="6894720"/>
            <a:chOff x="-23760" y="-17640"/>
            <a:chExt cx="9193320" cy="6894720"/>
          </a:xfrm>
        </p:grpSpPr>
        <p:pic>
          <p:nvPicPr>
            <p:cNvPr id="163" name="Picture 3" descr="bg"/>
            <p:cNvPicPr/>
            <p:nvPr/>
          </p:nvPicPr>
          <p:blipFill>
            <a:blip r:embed="rId1"/>
            <a:stretch/>
          </p:blipFill>
          <p:spPr>
            <a:xfrm>
              <a:off x="-23760" y="-17640"/>
              <a:ext cx="9193320" cy="689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Line 4"/>
            <p:cNvSpPr/>
            <p:nvPr/>
          </p:nvSpPr>
          <p:spPr>
            <a:xfrm>
              <a:off x="0" y="6524640"/>
              <a:ext cx="914400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 Box 7"/>
          <p:cNvSpPr/>
          <p:nvPr/>
        </p:nvSpPr>
        <p:spPr>
          <a:xfrm>
            <a:off x="971640" y="3645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ЕХНОЛОГИЯ</a:t>
            </a:r>
            <a:br>
              <a:rPr sz="2400"/>
            </a:b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ИЛОСОВАНИЯ В ПЛЕНОЧНЫЕ РУК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187280" y="2133720"/>
            <a:ext cx="741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ЕСУРСО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ЭНЕРГО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-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берегающ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технологии в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ельском хозяйст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15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34" name="Picture 16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Line 17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24360" y="124920"/>
            <a:ext cx="477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еимущества технологии в сравнении с традиционными метод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78920" y="1484280"/>
            <a:ext cx="8713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сравнению с традиционными способами хранения  –  упаковка в полимерные рукава предоставляет экономические и эксплуатационные выгоды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9" descr="Bags with covernetting"/>
          <p:cNvPicPr/>
          <p:nvPr/>
        </p:nvPicPr>
        <p:blipFill>
          <a:blip r:embed="rId2"/>
          <a:stretch/>
        </p:blipFill>
        <p:spPr>
          <a:xfrm>
            <a:off x="5357880" y="2284560"/>
            <a:ext cx="3535200" cy="2252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56760" y="2643120"/>
            <a:ext cx="503388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Рукав с минимальными потерями сохраняет качество корм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Удобст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Универсальн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Идеальная логист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Эффективность тру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Климатические условия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Удобное скармлив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Сохранение качества при скармливании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13" descr="EB 3000 S transport"/>
          <p:cNvPicPr/>
          <p:nvPr/>
        </p:nvPicPr>
        <p:blipFill>
          <a:blip r:embed="rId3"/>
          <a:stretch/>
        </p:blipFill>
        <p:spPr>
          <a:xfrm>
            <a:off x="5786280" y="4572000"/>
            <a:ext cx="3116520" cy="21700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1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68" name="Picture 42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Line 43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3280" y="0"/>
            <a:ext cx="401508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Особенности технолог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23"/>
          <p:cNvSpPr/>
          <p:nvPr/>
        </p:nvSpPr>
        <p:spPr>
          <a:xfrm>
            <a:off x="3419640" y="2565360"/>
            <a:ext cx="2171520" cy="1828800"/>
          </a:xfrm>
          <a:prstGeom prst="octagon">
            <a:avLst>
              <a:gd name="adj" fmla="val 29287"/>
            </a:avLst>
          </a:prstGeom>
          <a:solidFill>
            <a:srgbClr val="f5add8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99"/>
                </a:solidFill>
                <a:latin typeface="Arial"/>
              </a:rPr>
              <a:t>ТЕХНОЛОГИЯ СИЛОСОВАНИЯ В ПЛЕНОЧНЫЕ РУКАВА – ЭТО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3635280" y="836640"/>
            <a:ext cx="1787760" cy="576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Срок закладки – 2 -3 минуты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26"/>
          <p:cNvSpPr/>
          <p:nvPr/>
        </p:nvSpPr>
        <p:spPr>
          <a:xfrm>
            <a:off x="3708360" y="5445000"/>
            <a:ext cx="1714680" cy="792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рок трамбовки – 2 -3 минуты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27"/>
          <p:cNvSpPr/>
          <p:nvPr/>
        </p:nvSpPr>
        <p:spPr>
          <a:xfrm>
            <a:off x="468360" y="2997360"/>
            <a:ext cx="2162160" cy="934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олучить готовый силосный корм с содержание энергии не менее 6.3 Мдж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28"/>
          <p:cNvSpPr/>
          <p:nvPr/>
        </p:nvSpPr>
        <p:spPr>
          <a:xfrm>
            <a:off x="6516720" y="3068640"/>
            <a:ext cx="2232000" cy="10080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ущественное снижение затрат на капитальные вложения по организации хранения корм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29"/>
          <p:cNvSpPr/>
          <p:nvPr/>
        </p:nvSpPr>
        <p:spPr>
          <a:xfrm>
            <a:off x="826920" y="692280"/>
            <a:ext cx="216072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Сохранность корма высшего качества с минимальными (3-5%) потерями сухого вещества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30"/>
          <p:cNvSpPr/>
          <p:nvPr/>
        </p:nvSpPr>
        <p:spPr>
          <a:xfrm>
            <a:off x="6156360" y="692280"/>
            <a:ext cx="237636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Идеальная логистика! Вы неограниченны в выборе места хранения кормов. Тем самым снижаются затраты на доставку корма к ферм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31"/>
          <p:cNvSpPr/>
          <p:nvPr/>
        </p:nvSpPr>
        <p:spPr>
          <a:xfrm>
            <a:off x="755640" y="4437000"/>
            <a:ext cx="2104920" cy="201636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аготовка корма при любой погод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32"/>
          <p:cNvSpPr/>
          <p:nvPr/>
        </p:nvSpPr>
        <p:spPr>
          <a:xfrm>
            <a:off x="6443640" y="4508640"/>
            <a:ext cx="208908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Хранение основных видов корма - силос,  сенаж, свекольный жом, влажное зерно, люцерна, кукуруза и др.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33"/>
          <p:cNvSpPr/>
          <p:nvPr/>
        </p:nvSpPr>
        <p:spPr>
          <a:xfrm rot="16200000">
            <a:off x="4112280" y="1872360"/>
            <a:ext cx="774720" cy="287280"/>
          </a:xfrm>
          <a:custGeom>
            <a:avLst/>
            <a:gdLst>
              <a:gd name="textAreaLeft" fmla="*/ 96840 w 774720"/>
              <a:gd name="textAreaRight" fmla="*/ 677880 w 77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34"/>
          <p:cNvSpPr/>
          <p:nvPr/>
        </p:nvSpPr>
        <p:spPr>
          <a:xfrm rot="19583400">
            <a:off x="5398560" y="2381040"/>
            <a:ext cx="1008360" cy="28728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35"/>
          <p:cNvSpPr/>
          <p:nvPr/>
        </p:nvSpPr>
        <p:spPr>
          <a:xfrm>
            <a:off x="5724360" y="3357720"/>
            <a:ext cx="719280" cy="287280"/>
          </a:xfrm>
          <a:custGeom>
            <a:avLst/>
            <a:gdLst>
              <a:gd name="textAreaLeft" fmla="*/ 89640 w 719280"/>
              <a:gd name="textAreaRight" fmla="*/ 629640 w 7192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36"/>
          <p:cNvSpPr/>
          <p:nvPr/>
        </p:nvSpPr>
        <p:spPr>
          <a:xfrm rot="2149800">
            <a:off x="5486040" y="4478400"/>
            <a:ext cx="1079640" cy="320760"/>
          </a:xfrm>
          <a:custGeom>
            <a:avLst/>
            <a:gdLst>
              <a:gd name="textAreaLeft" fmla="*/ 135000 w 1079640"/>
              <a:gd name="textAreaRight" fmla="*/ 945000 w 1079640"/>
              <a:gd name="textAreaTop" fmla="*/ 80280 h 320760"/>
              <a:gd name="textAreaBottom" fmla="*/ 240840 h 320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37"/>
          <p:cNvSpPr/>
          <p:nvPr/>
        </p:nvSpPr>
        <p:spPr>
          <a:xfrm rot="5400000">
            <a:off x="4176000" y="4760280"/>
            <a:ext cx="792000" cy="288720"/>
          </a:xfrm>
          <a:custGeom>
            <a:avLst/>
            <a:gdLst>
              <a:gd name="textAreaLeft" fmla="*/ 99000 w 792000"/>
              <a:gd name="textAreaRight" fmla="*/ 693000 w 79200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38"/>
          <p:cNvSpPr/>
          <p:nvPr/>
        </p:nvSpPr>
        <p:spPr>
          <a:xfrm rot="8320800">
            <a:off x="2661840" y="4328640"/>
            <a:ext cx="954000" cy="290520"/>
          </a:xfrm>
          <a:custGeom>
            <a:avLst/>
            <a:gdLst>
              <a:gd name="textAreaLeft" fmla="*/ 119160 w 954000"/>
              <a:gd name="textAreaRight" fmla="*/ 834840 w 9540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39"/>
          <p:cNvSpPr/>
          <p:nvPr/>
        </p:nvSpPr>
        <p:spPr>
          <a:xfrm rot="10800000">
            <a:off x="2700000" y="3357720"/>
            <a:ext cx="646200" cy="287280"/>
          </a:xfrm>
          <a:custGeom>
            <a:avLst/>
            <a:gdLst>
              <a:gd name="textAreaLeft" fmla="*/ 80640 w 646200"/>
              <a:gd name="textAreaRight" fmla="*/ 565560 w 64620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40"/>
          <p:cNvSpPr/>
          <p:nvPr/>
        </p:nvSpPr>
        <p:spPr>
          <a:xfrm rot="13161000">
            <a:off x="2857320" y="2246400"/>
            <a:ext cx="919080" cy="303120"/>
          </a:xfrm>
          <a:custGeom>
            <a:avLst/>
            <a:gdLst>
              <a:gd name="textAreaLeft" fmla="*/ 114840 w 919080"/>
              <a:gd name="textAreaRight" fmla="*/ 804240 w 919080"/>
              <a:gd name="textAreaTop" fmla="*/ 75600 h 303120"/>
              <a:gd name="textAreaBottom" fmla="*/ 227520 h 30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4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89" name="Picture 5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Line 6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32360" y="407880"/>
            <a:ext cx="373536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Как появилась технология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 возникла в 1968 году в Герма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е рождение технологии произошло в середине 70-х годов, когда о силосовании в рукава узнали США и Кан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 технология хранения кормов в пластиковых рукавах широко используется и в Европе. 18 стран такие, как Чехия, Венгрия, Россия, Испания, Польша, Украина, Германия и др. применяют данную технологию, осознав на собственном опыте неоспоримые преимущества этой системы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5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94" name="Picture 6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Line 7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355640" y="367920"/>
            <a:ext cx="4303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Какие корма консервируются в рука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928960" y="1357200"/>
            <a:ext cx="58579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помощи этого метода силосования возможно наиболее качественно переработать и сохранить следующие корм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личный травяной кор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бовы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тительный зерновой кор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льченную сахарную свекл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ивной концентра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ртки кукурузных початк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ешанный растительный кор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куру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142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99" name="Picture 143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Line 144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19280" y="277920"/>
            <a:ext cx="526716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Рекомендуемое содержание сухого вещества в отдельных видах кормовых культур при силосовании в рукав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14240" y="192888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Куль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Оптимальное содерж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сухого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Диапазон содерж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сухого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Люцер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9 – 43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2 – 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в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3 – 3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верная т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5 – 36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Т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4 – 3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8 – 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укуру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33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8 – 3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ахарный ж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2% </a:t>
                      </a:r>
                      <a:r>
                        <a:rPr b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и бол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8% </a:t>
                      </a:r>
                      <a:r>
                        <a:rPr b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и бол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10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04" name="Picture 11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Line 12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563640" y="519120"/>
            <a:ext cx="5329080" cy="38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1. Кормовой материал для силосования при помощи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грузовиков или прицепов доставляется к агрегату и выгружается на приёмочный конвейе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84360" y="3068640"/>
            <a:ext cx="3887640" cy="2698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4546440" y="3573360"/>
            <a:ext cx="3986280" cy="27766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826920" y="292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643280" y="36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9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13" name="Picture 10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Line 11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0" y="2775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56840" y="1357200"/>
            <a:ext cx="75056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огруженная масса на конвейере продвигается к прессовочному ротору. Ротор толкает кормовой материал сквозь стальной туннель в полимерный рукав. При этом силосуемая масса прессуется. Наполненная часть рукава в процессе прессования постоянно спускается на землю, машина при этом продвигается вперё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3384360" cy="26654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80"/>
            </a:outerShdw>
          </a:effectLst>
        </p:spPr>
      </p:pic>
      <p:pic>
        <p:nvPicPr>
          <p:cNvPr id="218" name="Picture 7" descr="EB 3000 S poster"/>
          <p:cNvPicPr/>
          <p:nvPr/>
        </p:nvPicPr>
        <p:blipFill>
          <a:blip r:embed="rId3"/>
          <a:stretch/>
        </p:blipFill>
        <p:spPr>
          <a:xfrm>
            <a:off x="4211640" y="3573360"/>
            <a:ext cx="4464000" cy="27482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7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20" name="Picture 8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Line 9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071680" y="1285560"/>
            <a:ext cx="4071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 того, как мешок полностью набивается, его сразу же герметизируют. Это и является секретом того, что в системе силосования в рукава практически нет потерь. Герметизация мешка с двух сторон исключает проникновение в мешок воздуха. Кислород, находящийся в мешке используется в реакции окисления и ферментации молочной кислоты. Эти реакции начинаются вскоре после герметиз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4356000" y="476280"/>
            <a:ext cx="4788000" cy="3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0" y="2571840"/>
            <a:ext cx="5419800" cy="389556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7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26" name="Picture 8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Line 9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40000" y="495360"/>
            <a:ext cx="5003640" cy="41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Times New Roman"/>
              </a:rPr>
              <a:t>Преимущества технологии в сравнении с традиционными метод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57200" y="1357200"/>
            <a:ext cx="77868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имальное потери питательной це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хранение питательной ценности силоса можно достичь лишь тогда, когда корм находится в среде без доступа кислорода с уровнем влажности от 60 до 70%. Однако, если силос хранить в ямах, то потери, даже при поддержке идеальных условий хранения, могут достигать 40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71680" y="4010400"/>
            <a:ext cx="274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нтное соотношение потерь при различных методах силос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3"/>
          <a:stretch/>
        </p:blipFill>
        <p:spPr>
          <a:xfrm>
            <a:off x="3349800" y="3500280"/>
            <a:ext cx="5867280" cy="3357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32" name="Rectangle 6"/>
          <p:cNvSpPr/>
          <p:nvPr/>
        </p:nvSpPr>
        <p:spPr>
          <a:xfrm>
            <a:off x="0" y="48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1:00:57Z</dcterms:created>
  <dc:creator>sjuv</dc:creator>
  <dc:description/>
  <dc:language>en-US</dc:language>
  <cp:lastModifiedBy>1</cp:lastModifiedBy>
  <dcterms:modified xsi:type="dcterms:W3CDTF">2011-01-16T05:15:18Z</dcterms:modified>
  <cp:revision>46</cp:revision>
  <dc:subject/>
  <dc:title>ТЕХНОЛОГИЯ СИЛОСОВАНИЯ В ПЛЕНОЧНЫЕ РУКОВА</dc:title>
</cp:coreProperties>
</file>