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F68-AF34-454F-B8FA-DE8D3AA4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988-0104-4B2A-8499-4FFEF877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30D-8B96-401C-B2A3-A4FC6A16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328-8A3C-4F6E-B4DE-43413397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3628-D614-45CC-82B0-CAB1E983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8C33-E931-48A1-BFB7-C363166F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17C2-C8D1-49BB-A589-C0B56DBB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83E0-DBE6-4566-94B0-84B99D04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8755-2F40-4F54-8F73-316A8D26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E756-2490-410A-B29D-1713BE11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71B2-71BB-4CCC-B899-488C9DE1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B64-FB78-4683-B112-E6A80D46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A7CB-7CD6-4495-8D20-83D7495B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8308-0795-4AD0-8F55-7ED8A69F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ABAE-852A-414A-8EA0-DC76E836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318C-27D3-4381-95F2-A3C7EEA8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AB67-DD4D-4B5F-AC1E-3DE613D7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7D7-7BFF-445A-9055-C4E00EB7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561-2B94-4BF1-A317-B03C7314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B6C-76FF-4C38-99B7-D9B32ECA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AB2-8C0F-4AC2-B44C-973D31C9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C0B-6CA8-4648-9FCC-2CF6F255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893-96F9-4E69-A917-2E9B84E8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534-5006-4974-AD84-D415B637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9068-1768-41AB-B132-A134B7B52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30FC-3563-43D1-ACA8-1DC9A0FCF0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3760" y="-17640"/>
            <a:ext cx="9193320" cy="6894720"/>
            <a:chOff x="-23760" y="-17640"/>
            <a:chExt cx="9193320" cy="6894720"/>
          </a:xfrm>
        </p:grpSpPr>
        <p:pic>
          <p:nvPicPr>
            <p:cNvPr id="163" name="Picture 3" descr="bg"/>
            <p:cNvPicPr/>
            <p:nvPr/>
          </p:nvPicPr>
          <p:blipFill>
            <a:blip r:embed="rId1"/>
            <a:stretch/>
          </p:blipFill>
          <p:spPr>
            <a:xfrm>
              <a:off x="-23760" y="-17640"/>
              <a:ext cx="9193320" cy="68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4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971640" y="36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ЕХНОЛОГИЯ</a:t>
            </a:r>
            <a:br>
              <a:rPr sz="2400"/>
            </a:b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ИЛОСОВАНИЯ В ПЛЕНОЧНЫЕ РУК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87280" y="2133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СУРС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ЭНЕРГ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берег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хнологии 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ельском хозяй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34" name="Picture 1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Line 1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24360" y="12492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8920" y="148428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традиционными способами хранения  –  упаковка в полимерные рукава предоставляет экономические и эксплуатационные выгод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Bags with covernetting"/>
          <p:cNvPicPr/>
          <p:nvPr/>
        </p:nvPicPr>
        <p:blipFill>
          <a:blip r:embed="rId2"/>
          <a:stretch/>
        </p:blipFill>
        <p:spPr>
          <a:xfrm>
            <a:off x="5357880" y="2284560"/>
            <a:ext cx="3535200" cy="2252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6760" y="2643120"/>
            <a:ext cx="50338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укав с минимальными потерями сохраняет качество кор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доб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ниверса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деальная логис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Эффективность тр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лиматические условия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добное скармл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Сохранение качества при скармливани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3" descr="EB 3000 S transport"/>
          <p:cNvPicPr/>
          <p:nvPr/>
        </p:nvPicPr>
        <p:blipFill>
          <a:blip r:embed="rId3"/>
          <a:stretch/>
        </p:blipFill>
        <p:spPr>
          <a:xfrm>
            <a:off x="5786280" y="4572000"/>
            <a:ext cx="3116520" cy="2170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68" name="Picture 42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43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0150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собенности техноло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419640" y="2565360"/>
            <a:ext cx="2171520" cy="1828800"/>
          </a:xfrm>
          <a:prstGeom prst="octagon">
            <a:avLst>
              <a:gd name="adj" fmla="val 29287"/>
            </a:avLst>
          </a:prstGeom>
          <a:solidFill>
            <a:srgbClr val="f5add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ТЕХНОЛОГИЯ СИЛОСОВАНИЯ В ПЛЕНОЧНЫЕ РУКАВА – Э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3635280" y="836640"/>
            <a:ext cx="1787760" cy="576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рок заклад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708360" y="5445000"/>
            <a:ext cx="1714680" cy="792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ок трамбов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468360" y="2997360"/>
            <a:ext cx="2162160" cy="93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учить готовый силосный корм с содержание энергии не менее 6.3 Мдж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516720" y="3068640"/>
            <a:ext cx="223200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щественное снижение затрат на капитальные вложения по организации хранения кор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826920" y="692280"/>
            <a:ext cx="216072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охранность корма высшего качества с минимальными (3-5%) потерями сухого веществ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6156360" y="692280"/>
            <a:ext cx="237636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Идеальная логистика! Вы неограниченны в выборе места хранения кормов. Тем самым снижаются затраты на доставку корма к ферм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755640" y="4437000"/>
            <a:ext cx="2104920" cy="201636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готовка корма при любой пого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6443640" y="4508640"/>
            <a:ext cx="208908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ранение основных видов корма - силос,  сенаж, свекольный жом, влажное зерно, люцерна, кукуруза и др.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3"/>
          <p:cNvSpPr/>
          <p:nvPr/>
        </p:nvSpPr>
        <p:spPr>
          <a:xfrm rot="16200000">
            <a:off x="4112280" y="1872360"/>
            <a:ext cx="774720" cy="287280"/>
          </a:xfrm>
          <a:custGeom>
            <a:avLst/>
            <a:gdLst>
              <a:gd name="textAreaLeft" fmla="*/ 96840 w 774720"/>
              <a:gd name="textAreaRight" fmla="*/ 677880 w 77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 rot="19583400">
            <a:off x="5398560" y="2381040"/>
            <a:ext cx="1008360" cy="287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724360" y="335772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 rot="2149800">
            <a:off x="5486040" y="4478400"/>
            <a:ext cx="1079640" cy="32076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 rot="5400000">
            <a:off x="4176000" y="476028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8320800">
            <a:off x="2661840" y="4328640"/>
            <a:ext cx="954000" cy="290520"/>
          </a:xfrm>
          <a:custGeom>
            <a:avLst/>
            <a:gdLst>
              <a:gd name="textAreaLeft" fmla="*/ 119160 w 954000"/>
              <a:gd name="textAreaRight" fmla="*/ 834840 w 9540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10800000">
            <a:off x="2700000" y="3357720"/>
            <a:ext cx="646200" cy="287280"/>
          </a:xfrm>
          <a:custGeom>
            <a:avLst/>
            <a:gdLst>
              <a:gd name="textAreaLeft" fmla="*/ 80640 w 646200"/>
              <a:gd name="textAreaRight" fmla="*/ 565560 w 6462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13161000">
            <a:off x="2857320" y="2246400"/>
            <a:ext cx="919080" cy="303120"/>
          </a:xfrm>
          <a:custGeom>
            <a:avLst/>
            <a:gdLst>
              <a:gd name="textAreaLeft" fmla="*/ 114840 w 919080"/>
              <a:gd name="textAreaRight" fmla="*/ 804240 w 91908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89" name="Picture 5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Line 6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360" y="407880"/>
            <a:ext cx="3735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ак появилась технологи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возникла в 1968 году в Герм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е рождение технологии произошло в середине 70-х годов, когда о силосовании в рукава узнали США и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технология хранения кормов в пластиковых рукавах широко используется и в Европе. 18 стран такие, как Чехия, Венгрия, Россия, Испания, Польша, Украина, Германия и др. применяют данную технологию, осознав на собственном опыте неоспоримые преимущества этой системы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4" name="Picture 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55640" y="367920"/>
            <a:ext cx="430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Какие корма консервируются в рука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28960" y="1357200"/>
            <a:ext cx="5857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мощи этого метода силосования возможно наиболее качественно переработать и сохранить следующие кор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й травян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б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зернов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льченную сахарную свекл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вной концентра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ртки кукурузных почат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шанный растительный кор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уру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42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9" name="Picture 143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144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9280" y="277920"/>
            <a:ext cx="52671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комендуемое содержание сухого вещества в отдельных видах кормовых культур при силосовании в рукав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14240" y="19288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Оптимальн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Диапазон содерж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ц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9 – 4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2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3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ная 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5 – 3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4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укуру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3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ахарный ж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04" name="Picture 11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12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519120"/>
            <a:ext cx="532908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1. Кормовой материал для силосования при помощи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рузовиков или прицепов доставляется к агрегату и выгружается на приёмочный конвей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3068640"/>
            <a:ext cx="3887640" cy="26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46440" y="3573360"/>
            <a:ext cx="3986280" cy="277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82692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64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9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13" name="Picture 10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1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05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груженная масса на конвейере продвигается к прессовочному ротору. Ротор толкает кормовой материал сквозь стальной туннель в полимерный рукав. При этом силосуемая масса прессуется. Наполненная часть рукава в процессе прессования постоянно спускается на землю, машина при этом продвигается вперё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84360" cy="26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</p:pic>
      <p:pic>
        <p:nvPicPr>
          <p:cNvPr id="218" name="Picture 7" descr="EB 3000 S poster"/>
          <p:cNvPicPr/>
          <p:nvPr/>
        </p:nvPicPr>
        <p:blipFill>
          <a:blip r:embed="rId3"/>
          <a:stretch/>
        </p:blipFill>
        <p:spPr>
          <a:xfrm>
            <a:off x="4211640" y="3573360"/>
            <a:ext cx="4464000" cy="2748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0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71680" y="128556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того, как мешок полностью набивается, его сразу же герметизируют. Это и является секретом того, что в системе силосования в рукава практически нет потерь. Герметизация мешка с двух сторон исключает проникновение в мешок воздуха. Кислород, находящийся в мешке используется в реакции окисления и ферментации молочной кислоты. Эти реакции начинаются вскоре после герметиз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7880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2571840"/>
            <a:ext cx="541980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6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40000" y="495360"/>
            <a:ext cx="500364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135720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альное потери питательной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итательной ценности силоса можно достичь лишь тогда, когда корм находится в среде без доступа кислорода с уровнем влажности от 60 до 70%. Однако, если силос хранить в ямах, то потери, даже при поддержке идеальных условий хранения, могут достигать 4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1680" y="4010400"/>
            <a:ext cx="27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нтное соотношение потерь при различных методах силос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3349800" y="3500280"/>
            <a:ext cx="586728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2" name="Rectangle 6"/>
          <p:cNvSpPr/>
          <p:nvPr/>
        </p:nvSpPr>
        <p:spPr>
          <a:xfrm>
            <a:off x="0" y="48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0:57Z</dcterms:created>
  <dc:creator>sjuv</dc:creator>
  <dc:description/>
  <dc:language>en-US</dc:language>
  <cp:lastModifiedBy>1</cp:lastModifiedBy>
  <dcterms:modified xsi:type="dcterms:W3CDTF">2011-01-16T05:15:18Z</dcterms:modified>
  <cp:revision>46</cp:revision>
  <dc:subject/>
  <dc:title>ТЕХНОЛОГИЯ СИЛОСОВАНИЯ В ПЛЕНОЧНЫЕ РУКОВА</dc:title>
</cp:coreProperties>
</file>