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746-D014-41ED-A169-8B20B75F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CF0D-386E-4A45-8E36-F760677D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DD9-0A7C-4645-AB2B-9E21583E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709-6DBD-4DF0-90CE-633B766C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4B74-BBAB-4D1B-8044-F3822584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B4C7-E740-4869-A8F9-B46CE42E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6F9E-F618-4005-8322-41F12D0C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D6F5-B4CE-4719-9099-5C39E8F4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6095-624C-449F-A446-56D1B128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C5FC-87C7-474F-BA4B-1E7BD4A5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EF91-7A72-4D3B-8894-C1352F95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C33-B165-4C05-A249-09A1DF12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F564-0FF9-44F2-96D6-7322574C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9F75-3C5F-4649-AA78-EFA37C8B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F770-ECF5-4765-9EA9-393649EB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0E00-E79A-4F1E-8142-11B59C65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0CA7-4EC3-4B46-874D-90188B42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9CC-4B6B-4DEA-9057-03924D39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53B-6FCE-4FCD-9676-694A4AF1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EF8-EEC8-4F3C-987C-E1E60555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DF0-A8BA-4C75-AECD-39C26AB2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A57-09A0-48AA-806A-64270D3A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AE2C-9B89-4FBF-9D44-D46B23EC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B10-57D0-487E-B74F-F9A2E099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D7A9-D79C-4F97-8026-85640ED48E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2E34-8512-48AF-B4FB-78CB81A3B5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-23760" y="-17640"/>
            <a:ext cx="9193320" cy="6894720"/>
            <a:chOff x="-23760" y="-17640"/>
            <a:chExt cx="9193320" cy="6894720"/>
          </a:xfrm>
        </p:grpSpPr>
        <p:pic>
          <p:nvPicPr>
            <p:cNvPr id="163" name="Picture 3" descr="bg"/>
            <p:cNvPicPr/>
            <p:nvPr/>
          </p:nvPicPr>
          <p:blipFill>
            <a:blip r:embed="rId1"/>
            <a:stretch/>
          </p:blipFill>
          <p:spPr>
            <a:xfrm>
              <a:off x="-23760" y="-17640"/>
              <a:ext cx="9193320" cy="68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Line 4"/>
            <p:cNvSpPr/>
            <p:nvPr/>
          </p:nvSpPr>
          <p:spPr>
            <a:xfrm>
              <a:off x="0" y="6524640"/>
              <a:ext cx="91440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971640" y="3645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ЕХНОЛОГИЯ</a:t>
            </a:r>
            <a:br>
              <a:rPr sz="2400"/>
            </a:b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ИЛОСОВАНИЯ В ПЛЕНОЧНЫЕ РУК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187280" y="2133720"/>
            <a:ext cx="74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ЕСУРС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ЭНЕРГ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берегающ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технологии в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ельском хозяй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34" name="Picture 1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Line 1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24360" y="124920"/>
            <a:ext cx="477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8920" y="1484280"/>
            <a:ext cx="8713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сравнению с традиционными способами хранения  –  упаковка в полимерные рукава предоставляет экономические и эксплуатационные выгод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Bags with covernetting"/>
          <p:cNvPicPr/>
          <p:nvPr/>
        </p:nvPicPr>
        <p:blipFill>
          <a:blip r:embed="rId2"/>
          <a:stretch/>
        </p:blipFill>
        <p:spPr>
          <a:xfrm>
            <a:off x="5357880" y="2284560"/>
            <a:ext cx="3535200" cy="2252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6760" y="2643120"/>
            <a:ext cx="503388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укав с минимальными потерями сохраняет качество корм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Удоб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Универсаль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Идеальная логист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Эффективность тру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лиматические условия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Удобное скармли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Сохранение качества при скармливании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3" descr="EB 3000 S transport"/>
          <p:cNvPicPr/>
          <p:nvPr/>
        </p:nvPicPr>
        <p:blipFill>
          <a:blip r:embed="rId3"/>
          <a:stretch/>
        </p:blipFill>
        <p:spPr>
          <a:xfrm>
            <a:off x="5786280" y="4572000"/>
            <a:ext cx="3116520" cy="21700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1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68" name="Picture 42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Line 43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280" y="0"/>
            <a:ext cx="401508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Особенности технолог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3"/>
          <p:cNvSpPr/>
          <p:nvPr/>
        </p:nvSpPr>
        <p:spPr>
          <a:xfrm>
            <a:off x="3419640" y="2565360"/>
            <a:ext cx="2171520" cy="1828800"/>
          </a:xfrm>
          <a:prstGeom prst="octagon">
            <a:avLst>
              <a:gd name="adj" fmla="val 29287"/>
            </a:avLst>
          </a:prstGeom>
          <a:solidFill>
            <a:srgbClr val="f5add8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Arial"/>
              </a:rPr>
              <a:t>ТЕХНОЛОГИЯ СИЛОСОВАНИЯ В ПЛЕНОЧНЫЕ РУКАВА – ЭТ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3635280" y="836640"/>
            <a:ext cx="1787760" cy="576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рок заклад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3708360" y="5445000"/>
            <a:ext cx="1714680" cy="792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рок трамбов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468360" y="2997360"/>
            <a:ext cx="2162160" cy="93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лучить готовый силосный корм с содержание энергии не менее 6.3 Мдж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8"/>
          <p:cNvSpPr/>
          <p:nvPr/>
        </p:nvSpPr>
        <p:spPr>
          <a:xfrm>
            <a:off x="6516720" y="3068640"/>
            <a:ext cx="2232000" cy="1008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ущественное снижение затрат на капитальные вложения по организации хранения корм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29"/>
          <p:cNvSpPr/>
          <p:nvPr/>
        </p:nvSpPr>
        <p:spPr>
          <a:xfrm>
            <a:off x="826920" y="692280"/>
            <a:ext cx="216072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охранность корма высшего качества с минимальными (3-5%) потерями сухого вещества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0"/>
          <p:cNvSpPr/>
          <p:nvPr/>
        </p:nvSpPr>
        <p:spPr>
          <a:xfrm>
            <a:off x="6156360" y="692280"/>
            <a:ext cx="237636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Идеальная логистика! Вы неограниченны в выборе места хранения кормов. Тем самым снижаются затраты на доставку корма к ферм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1"/>
          <p:cNvSpPr/>
          <p:nvPr/>
        </p:nvSpPr>
        <p:spPr>
          <a:xfrm>
            <a:off x="755640" y="4437000"/>
            <a:ext cx="2104920" cy="201636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готовка корма при любой пого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2"/>
          <p:cNvSpPr/>
          <p:nvPr/>
        </p:nvSpPr>
        <p:spPr>
          <a:xfrm>
            <a:off x="6443640" y="4508640"/>
            <a:ext cx="208908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ранение основных видов корма - силос,  сенаж, свекольный жом, влажное зерно, люцерна, кукуруза и др.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33"/>
          <p:cNvSpPr/>
          <p:nvPr/>
        </p:nvSpPr>
        <p:spPr>
          <a:xfrm rot="16200000">
            <a:off x="4112280" y="1872360"/>
            <a:ext cx="774720" cy="287280"/>
          </a:xfrm>
          <a:custGeom>
            <a:avLst/>
            <a:gdLst>
              <a:gd name="textAreaLeft" fmla="*/ 96840 w 774720"/>
              <a:gd name="textAreaRight" fmla="*/ 677880 w 77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4"/>
          <p:cNvSpPr/>
          <p:nvPr/>
        </p:nvSpPr>
        <p:spPr>
          <a:xfrm rot="19583400">
            <a:off x="5398560" y="2381040"/>
            <a:ext cx="1008360" cy="28728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35"/>
          <p:cNvSpPr/>
          <p:nvPr/>
        </p:nvSpPr>
        <p:spPr>
          <a:xfrm>
            <a:off x="5724360" y="3357720"/>
            <a:ext cx="719280" cy="287280"/>
          </a:xfrm>
          <a:custGeom>
            <a:avLst/>
            <a:gdLst>
              <a:gd name="textAreaLeft" fmla="*/ 89640 w 719280"/>
              <a:gd name="textAreaRight" fmla="*/ 629640 w 7192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 rot="2149800">
            <a:off x="5486040" y="4478400"/>
            <a:ext cx="1079640" cy="32076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80280 h 320760"/>
              <a:gd name="textAreaBottom" fmla="*/ 240840 h 320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37"/>
          <p:cNvSpPr/>
          <p:nvPr/>
        </p:nvSpPr>
        <p:spPr>
          <a:xfrm rot="5400000">
            <a:off x="4176000" y="4760280"/>
            <a:ext cx="792000" cy="288720"/>
          </a:xfrm>
          <a:custGeom>
            <a:avLst/>
            <a:gdLst>
              <a:gd name="textAreaLeft" fmla="*/ 99000 w 792000"/>
              <a:gd name="textAreaRight" fmla="*/ 693000 w 792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8"/>
          <p:cNvSpPr/>
          <p:nvPr/>
        </p:nvSpPr>
        <p:spPr>
          <a:xfrm rot="8320800">
            <a:off x="2661840" y="4328640"/>
            <a:ext cx="954000" cy="290520"/>
          </a:xfrm>
          <a:custGeom>
            <a:avLst/>
            <a:gdLst>
              <a:gd name="textAreaLeft" fmla="*/ 119160 w 954000"/>
              <a:gd name="textAreaRight" fmla="*/ 834840 w 9540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39"/>
          <p:cNvSpPr/>
          <p:nvPr/>
        </p:nvSpPr>
        <p:spPr>
          <a:xfrm rot="10800000">
            <a:off x="2700000" y="3357720"/>
            <a:ext cx="646200" cy="287280"/>
          </a:xfrm>
          <a:custGeom>
            <a:avLst/>
            <a:gdLst>
              <a:gd name="textAreaLeft" fmla="*/ 80640 w 646200"/>
              <a:gd name="textAreaRight" fmla="*/ 565560 w 6462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 rot="13161000">
            <a:off x="2857320" y="2246400"/>
            <a:ext cx="919080" cy="303120"/>
          </a:xfrm>
          <a:custGeom>
            <a:avLst/>
            <a:gdLst>
              <a:gd name="textAreaLeft" fmla="*/ 114840 w 919080"/>
              <a:gd name="textAreaRight" fmla="*/ 804240 w 919080"/>
              <a:gd name="textAreaTop" fmla="*/ 75600 h 303120"/>
              <a:gd name="textAreaBottom" fmla="*/ 227520 h 30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89" name="Picture 5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Line 6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32360" y="407880"/>
            <a:ext cx="373536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Как появилась технология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возникла в 1968 году в Герм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е рождение технологии произошло в середине 70-х годов, когда о силосовании в рукава узнали США и Кан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технология хранения кормов в пластиковых рукавах широко используется и в Европе. 18 стран такие, как Чехия, Венгрия, Россия, Испания, Польша, Украина, Германия и др. применяют данную технологию, осознав на собственном опыте неоспоримые преимущества этой системы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4" name="Picture 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Line 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55640" y="367920"/>
            <a:ext cx="4303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Какие корма консервируются в рука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928960" y="1357200"/>
            <a:ext cx="5857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помощи этого метода силосования возможно наиболее качественно переработать и сохранить следующие корм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ичный травян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бов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ительный зернов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льченную сахарную свекл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вной концентра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ртки кукурузных початк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шанный растительный кор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куру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42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9" name="Picture 143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Line 144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19280" y="277920"/>
            <a:ext cx="526716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Рекомендуемое содержание сухого вещества в отдельных видах кормовых культур при силосовании в рукав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14240" y="192888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Оптимальное содерж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Диапазон содерж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Люцер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9 – 4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2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3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ная 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5 – 36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4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укуру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3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ахарный ж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2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8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0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04" name="Picture 11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Line 12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63640" y="519120"/>
            <a:ext cx="5329080" cy="3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1. Кормовой материал для силосования при помощи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грузовиков или прицепов доставляется к агрегату и выгружается на приёмочный конвейе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84360" y="3068640"/>
            <a:ext cx="3887640" cy="2698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546440" y="3573360"/>
            <a:ext cx="3986280" cy="27766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826920" y="29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643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9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13" name="Picture 10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Line 11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0" y="277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56840" y="1357200"/>
            <a:ext cx="75056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огруженная масса на конвейере продвигается к прессовочному ротору. Ротор толкает кормовой материал сквозь стальной туннель в полимерный рукав. При этом силосуемая масса прессуется. Наполненная часть рукава в процессе прессования постоянно спускается на землю, машина при этом продвигается вперё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3384360" cy="2665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</p:pic>
      <p:pic>
        <p:nvPicPr>
          <p:cNvPr id="218" name="Picture 7" descr="EB 3000 S poster"/>
          <p:cNvPicPr/>
          <p:nvPr/>
        </p:nvPicPr>
        <p:blipFill>
          <a:blip r:embed="rId3"/>
          <a:stretch/>
        </p:blipFill>
        <p:spPr>
          <a:xfrm>
            <a:off x="4211640" y="3573360"/>
            <a:ext cx="4464000" cy="27482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0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071680" y="1285560"/>
            <a:ext cx="4071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того, как мешок полностью набивается, его сразу же герметизируют. Это и является секретом того, что в системе силосования в рукава практически нет потерь. Герметизация мешка с двух сторон исключает проникновение в мешок воздуха. Кислород, находящийся в мешке используется в реакции окисления и ферментации молочной кислоты. Эти реакции начинаются вскоре после герметиз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356000" y="476280"/>
            <a:ext cx="4788000" cy="3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2571840"/>
            <a:ext cx="5419800" cy="38955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6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40000" y="495360"/>
            <a:ext cx="5003640" cy="4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7200" y="1357200"/>
            <a:ext cx="7786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мальное потери питательной ц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ение питательной ценности силоса можно достичь лишь тогда, когда корм находится в среде без доступа кислорода с уровнем влажности от 60 до 70%. Однако, если силос хранить в ямах, то потери, даже при поддержке идеальных условий хранения, могут достигать 4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71680" y="4010400"/>
            <a:ext cx="274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нтное соотношение потерь при различных методах силос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3349800" y="3500280"/>
            <a:ext cx="5867280" cy="33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32" name="Rectangle 6"/>
          <p:cNvSpPr/>
          <p:nvPr/>
        </p:nvSpPr>
        <p:spPr>
          <a:xfrm>
            <a:off x="0" y="48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00:57Z</dcterms:created>
  <dc:creator>sjuv</dc:creator>
  <dc:description/>
  <dc:language>en-US</dc:language>
  <cp:lastModifiedBy>1</cp:lastModifiedBy>
  <dcterms:modified xsi:type="dcterms:W3CDTF">2011-01-16T05:15:18Z</dcterms:modified>
  <cp:revision>46</cp:revision>
  <dc:subject/>
  <dc:title>ТЕХНОЛОГИЯ СИЛОСОВАНИЯ В ПЛЕНОЧНЫЕ РУКОВА</dc:title>
</cp:coreProperties>
</file>